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5F2-91C3-450A-B789-B7F76F83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F62-21F3-4385-9E46-1F9CBD75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B30-1324-40E2-839B-674242BC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517-6873-4858-9786-7C4F244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7F3-66E0-4A47-8F81-AF03BD1D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B1B0-A296-4706-9CEF-E6846B9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57FC-D327-4C89-98DC-76F94822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E947-5D10-4AAB-9A2F-509ABE4F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6A83-DBEB-4756-8332-3EB6831C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4EDE-6FEE-4E5F-89C8-C1C8A9CA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1BAD-C750-4719-A10D-AF81D4A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AD2-01EB-4BCA-B533-1260ADFD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F590-CD4F-41F5-A331-C928F97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58BA-E623-4532-A03D-57D9426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1639-69AD-4F40-9FB0-DA834DAF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FE3-FAED-41C4-9738-BE8477E7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3077-D993-4649-9BB1-2F335C36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1D1A-1BDD-48E8-93E4-E0882E89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E672-1498-4865-9A58-36DAE24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E4A4-6145-4367-A18B-ACDCF59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397C-153A-4C8E-94D6-3E34DE5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CCBF-EFC5-4D02-A2BF-0643C81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C41-1E4B-4EAB-9649-C8429928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6DBA-1680-4DB8-A78F-EB6822E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D2C4-CB9D-42E1-9CE1-BAA2246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5DBD7-A603-411B-9CE5-D79CB259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BAA5-9F91-4AB2-BF21-7BFE494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1EB3-57BC-4706-A3D8-D7EF53A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468C-D735-4D39-8EA9-AF8B2FCF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1E31-8793-4E77-929E-9216F1C4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24452-89AD-4AF2-81C2-E6D89D9B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A78F-0D12-4E24-9367-2FAA1179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F302-9EFA-4285-8EB1-E8EBD2BD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A0E-D78E-404B-A4AE-4894375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2002-A0C5-4F35-B767-F556CE4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FEE5-A40A-42C9-AADE-85577218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076E-FB72-4AC7-9A96-50F67F7A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0120-DB00-4D67-BE7C-F71E356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B4A6-FFBF-4557-B6AB-63F25B3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3958E-06E4-4182-BB3D-2D6BEA7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1EA0-818B-4ACF-8F1C-9E92661E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856B-DB0F-449F-98FB-29F5589D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FC4B-9860-41E9-9091-85AA8BB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7A2-D7CE-4EDA-A348-B736810D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3F1-D7A2-403B-9912-BC1BDEDF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898-8784-4BF3-BF8E-907C2CD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209-061D-4D17-8D85-A589CC8A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86A-177E-4DFB-B2B4-9BFB2010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BC41-4384-46B3-9AEB-B8C4997945EB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951-D52F-406F-BDA8-D9033F780B1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F6F-1F1D-4927-AFFC-32C5B109F8A1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2C4-C7F7-4579-B677-C41540C14E4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ibosomes: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build the cell’s protei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76320" y="2971800"/>
            <a:ext cx="8839080" cy="3809880"/>
            <a:chOff x="76320" y="2971800"/>
            <a:chExt cx="8839080" cy="3809880"/>
          </a:xfrm>
        </p:grpSpPr>
        <p:pic>
          <p:nvPicPr>
            <p:cNvPr id="198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76320" y="2971800"/>
              <a:ext cx="88390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8"/>
            <p:cNvSpPr/>
            <p:nvPr/>
          </p:nvSpPr>
          <p:spPr>
            <a:xfrm>
              <a:off x="5331960" y="5096160"/>
              <a:ext cx="7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  <a:cs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5169960" y="4583520"/>
              <a:ext cx="5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  <a:cs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52280" y="213336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combin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carry out protein synthesi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خليق البروتين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447920" y="142920"/>
            <a:ext cx="6629400" cy="916920"/>
          </a:xfrm>
          <a:prstGeom prst="rect">
            <a:avLst/>
          </a:prstGeom>
          <a:solidFill>
            <a:srgbClr val="009dd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Lecture 4: 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977760" y="762120"/>
            <a:ext cx="70534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D)- Vacuoles: </a:t>
            </a:r>
            <a:r>
              <a:rPr b="0" lang="ar-EG" sz="25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فجوات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ve diverse functions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ظائف متنوع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cell maintenance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لحفاظ على الخلية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960" y="2717280"/>
            <a:ext cx="8915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ـ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ات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membrane-bound sac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كياس ذات أغشية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th varied func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Food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rom phagocytosis, fuse with lysosom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ntractile vacuo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نقبضة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found in freshwater protists, pump excess water out of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entral vacuo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فجوة مركز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found in many mature plant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152280" y="701640"/>
            <a:ext cx="8839080" cy="6003720"/>
            <a:chOff x="152280" y="701640"/>
            <a:chExt cx="8839080" cy="6003720"/>
          </a:xfrm>
        </p:grpSpPr>
        <p:pic>
          <p:nvPicPr>
            <p:cNvPr id="234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152280" y="1767600"/>
              <a:ext cx="5745600" cy="49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"/>
            <p:cNvSpPr/>
            <p:nvPr/>
          </p:nvSpPr>
          <p:spPr>
            <a:xfrm>
              <a:off x="2877840" y="2339640"/>
              <a:ext cx="138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6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5440" y="701640"/>
              <a:ext cx="4345920" cy="336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/>
            <p:cNvSpPr/>
            <p:nvPr/>
          </p:nvSpPr>
          <p:spPr>
            <a:xfrm>
              <a:off x="299160" y="1261800"/>
              <a:ext cx="138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  <a:cs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7297560" y="3992760"/>
              <a:ext cx="153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  <a:cs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Other Membranous Organelle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320" y="137016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28600" y="1066680"/>
            <a:ext cx="8686800" cy="61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nstantia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Constantia"/>
              </a:rPr>
              <a:t>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y are the main energy transformers of cells 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 they convert energy to fuel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at cells can use for w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Mitochond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 are the sites of cellular respira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rating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تـُنتِج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rom the catabolism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sugars, fats, and other fuel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صادر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طاق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e presence of oxyg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lmost all eukaryotic cells have mitochondri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tochondria and chloroplasts are mobile and move around the cell along tracks in the cytoskeleto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22860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6320" y="91440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238400" y="2362320"/>
            <a:ext cx="6153120" cy="44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52280" y="1054080"/>
            <a:ext cx="883944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Constantia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ell type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ee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suspended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علق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n the cytosol and synthesize proteins that func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ithin the cytosol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4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ound ribosome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attached to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لتصق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بـ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outside of the endoplasmic reticulum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synthesize proteins that are either included into membranes or for secretion outside the cel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A8B9-2812-49A7-925C-52FB97ED2EA3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066680"/>
            <a:ext cx="7772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8600" y="1887480"/>
            <a:ext cx="876312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4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A)-</a:t>
            </a:r>
            <a:r>
              <a:rPr b="1" lang="en-US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The endoplasmic reticulum (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ER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400"/>
            </a:br>
            <a:r>
              <a:rPr b="1" lang="en-US" sz="2200" spc="-1" strike="noStrike">
                <a:solidFill>
                  <a:srgbClr val="04617b"/>
                </a:solidFill>
                <a:latin typeface="Calibri"/>
              </a:rPr>
              <a:t>manufacturers membranes and performs many other biosynthetic functions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5960" y="2703240"/>
            <a:ext cx="4724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smooth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ناعمة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8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looks rough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شن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2860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920" y="10234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B)- Golgi apparatu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ishes, sort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ـُجَه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packaging and ships </a:t>
            </a:r>
            <a:r>
              <a:rPr b="0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غلف وتنق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l product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1920" y="2028960"/>
            <a:ext cx="8915400" cy="46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ny transport vesicl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the ER travel to the Golgi apparatus for modification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function is manufactur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warehous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sort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ـَجْهي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eri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nstantia"/>
              </a:rPr>
              <a:t>specialized for secre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3"/>
          <p:cNvGrpSpPr/>
          <p:nvPr/>
        </p:nvGrpSpPr>
        <p:grpSpPr>
          <a:xfrm>
            <a:off x="152280" y="457200"/>
            <a:ext cx="8839440" cy="6248520"/>
            <a:chOff x="152280" y="457200"/>
            <a:chExt cx="8839440" cy="6248520"/>
          </a:xfrm>
        </p:grpSpPr>
        <p:pic>
          <p:nvPicPr>
            <p:cNvPr id="219" name="Picture 4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45720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3086280" y="39369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  <a:cs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C)- Lysosom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أجسام المُحللة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re digestive compon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27908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is a membrane-bounded sac </a:t>
            </a:r>
            <a:r>
              <a:rPr b="1" lang="ar-EG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كيس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28240" y="2007720"/>
            <a:ext cx="8534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Lysosomal enzym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ork best a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onstantia"/>
              </a:rPr>
              <a:t>pH = 5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acid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ysosomal enzy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re synthesized b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oug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E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nd then transferred to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نقل إل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Golgi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then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lysosom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nstantia"/>
              </a:rPr>
              <a:t>Function of Lysozomal enzy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y hydrolyse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يحلل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proteins, fats, polysaccharides, and nucleic acid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destroy the cell by autodigestion (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utophagy)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هضم الذاتى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fuse with food vacuoles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فحجوة الغذائ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digest food, (when a food item is brought into the cell by phagocytosi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n also fuse with another organelle or part of the cytosol. This process of </a:t>
            </a:r>
            <a:r>
              <a:rPr b="1" i="1" lang="en-US" sz="1800" spc="-1" strike="noStrike">
                <a:solidFill>
                  <a:srgbClr val="0000ff"/>
                </a:solidFill>
                <a:latin typeface="Constantia"/>
              </a:rPr>
              <a:t>autophag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alle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ycling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which renews the ce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10810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05:47:50Z</dcterms:created>
  <dc:creator>User</dc:creator>
  <dc:description/>
  <dc:language>en-US</dc:language>
  <cp:lastModifiedBy>User</cp:lastModifiedBy>
  <dcterms:modified xsi:type="dcterms:W3CDTF">2015-03-11T03:49:59Z</dcterms:modified>
  <cp:revision>8</cp:revision>
  <dc:subject/>
  <dc:title>Slide 1</dc:title>
</cp:coreProperties>
</file>