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AB0-985A-46B0-9C6C-D62F84EC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D2E-7045-4B04-AF04-94032DEA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401-EE50-4A97-AF9E-32AB0D86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066-C7B6-4AE0-9BC1-EFCD4212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DB58-F342-44A8-9726-13B87ED3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0A97-20BA-41F6-AD2B-744EBD38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A875-2CFD-43B7-94CD-41F83E1A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FFE2-6A67-427B-928D-04AD808A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CE09-A734-48B3-A807-16348047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E7BD-42FC-427F-BD36-064A815D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F99D-1FF8-4805-8010-02B9E728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31D-489C-4B65-92E6-F277BB3A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2D10-9EDA-4CB0-AE37-36E7CD94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0B60-7B3C-4C68-8FAB-275B0530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30A7-4722-409B-82D4-2082593F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85A1-FC0F-4414-B6A7-E95C827A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3FD2-3870-4E6C-9BAA-B4271235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957A7-E1FD-4C0F-89D4-694005BF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8887C-D4E8-456C-ACA3-E32692CD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4F477-C0F7-43A2-9213-81489854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E5B9-7B25-4A18-AF06-7E87241B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B7836-FC14-47A3-8F6D-6850759F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101-1232-4927-8E84-4E70305C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D13A4-BA2B-4692-819B-5F000DCE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1EA5-977E-43CD-BB93-4ECAABB8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142A-7C5D-4A54-815B-9DF51A10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B0209-BCC2-486F-AD2A-E8A42AB9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2A27-BBEA-47D0-8544-2901C17F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67754-C2DB-4147-AE2B-272559AC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9E2F-1D23-4270-8B5B-A2F9F1B4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02095-11B0-47F0-BA64-F7DB4482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3253C-5041-4892-A9CD-85EB059D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EA9F1-BCF9-4AE8-B6B3-8C84275C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4B1-3562-45F8-9288-15422B11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A9828-7D5E-40E0-BD9E-99DF2E69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34C52-8BF0-4C1E-B03B-FA85EE04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9747A-F9DC-4120-ABEA-2DD0ABC0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BFB16-6BB5-4E23-9058-73233ADA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A0E6D-BCDB-4346-980A-3032C96C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B8D8C-7F0F-4629-8705-E78BB1DE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8E0A5-FFB4-49DC-8E4D-F6E5301B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920C6-C8A6-4C66-94C7-43CB9387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CF859-C677-4178-8A79-4D065E05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41C-DEFF-4836-B452-525F05E6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AF1-CF46-43CA-B55B-C22C495B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24B-F7E2-44C3-AA6C-F0E362F0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D15-B3B1-4963-812D-A1FBD5F7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04C-23A0-4C32-B222-ABFEDBD9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4E6F-1187-4F93-8706-85293D4D590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3DFC-9032-4D37-8408-0BF0119BE7E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F55F-1D23-450E-81DD-39A0D88C516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EF99-DB2C-45EF-B782-92DB906E198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ibosomes: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build the cell’s protei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76320" y="2971800"/>
            <a:ext cx="8839080" cy="3809880"/>
            <a:chOff x="76320" y="2971800"/>
            <a:chExt cx="8839080" cy="3809880"/>
          </a:xfrm>
        </p:grpSpPr>
        <p:pic>
          <p:nvPicPr>
            <p:cNvPr id="198" name="Picture 6" descr=""/>
            <p:cNvPicPr/>
            <p:nvPr/>
          </p:nvPicPr>
          <p:blipFill>
            <a:blip r:embed="rId1"/>
            <a:srcRect l="0" t="0" r="0" b="8186"/>
            <a:stretch/>
          </p:blipFill>
          <p:spPr>
            <a:xfrm>
              <a:off x="76320" y="2971800"/>
              <a:ext cx="88390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8"/>
            <p:cNvSpPr/>
            <p:nvPr/>
          </p:nvSpPr>
          <p:spPr>
            <a:xfrm>
              <a:off x="5331960" y="5096160"/>
              <a:ext cx="74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  <a:cs typeface="Arial"/>
                </a:rPr>
                <a:t>مرتب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5169960" y="4583520"/>
              <a:ext cx="5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  <a:cs typeface="Arial"/>
                </a:rPr>
                <a:t>ح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152280" y="213336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ibosomes contain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ribosome is composed of two subun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حد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ombin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تحد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carry out protein syn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خليق البرو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447920" y="14292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4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977760" y="762120"/>
            <a:ext cx="70534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D)- Vacuoles: </a:t>
            </a:r>
            <a:r>
              <a:rPr b="0" lang="ar-EG" sz="25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فجوات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ve diverse functions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ظائف متنوع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cell maintenance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لحفاظ على الخلية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960" y="2717280"/>
            <a:ext cx="8915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ـ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ات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e membrane-bound sac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كياس ذات أغش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ith varied func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oo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rom phagocytosis, fuse with lys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ntractile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نقبضة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ound in freshwater protists, pump excess water out of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entral vacuo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ركز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found in many mature pla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152280" y="701640"/>
            <a:ext cx="8839080" cy="6003720"/>
            <a:chOff x="152280" y="701640"/>
            <a:chExt cx="8839080" cy="6003720"/>
          </a:xfrm>
        </p:grpSpPr>
        <p:pic>
          <p:nvPicPr>
            <p:cNvPr id="234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152280" y="1767600"/>
              <a:ext cx="5745600" cy="49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"/>
            <p:cNvSpPr/>
            <p:nvPr/>
          </p:nvSpPr>
          <p:spPr>
            <a:xfrm>
              <a:off x="2877840" y="2339640"/>
              <a:ext cx="138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فجوة المركذ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6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645440" y="701640"/>
              <a:ext cx="4345920" cy="336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7"/>
            <p:cNvSpPr/>
            <p:nvPr/>
          </p:nvSpPr>
          <p:spPr>
            <a:xfrm>
              <a:off x="299160" y="1261800"/>
              <a:ext cx="138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  <a:cs typeface="Arial"/>
                </a:rPr>
                <a:t>خلية نبا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7297560" y="3992760"/>
              <a:ext cx="153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  <a:cs typeface="Arial"/>
                </a:rPr>
                <a:t>خلية حيو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Other Membranous Organelle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320" y="1370160"/>
            <a:ext cx="8686800" cy="565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A)- Peroxi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 enzymes that transfer hydrogen from various substrates to oxyg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Hydrogen peroxid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(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is a poison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u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peroxisome has enzym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hat convert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to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Some peroxisomes break fatty acids dow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smaller molecules that are transported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tochondria for fuel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لإنتاج الطاق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y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بطل المفعول السُّم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cohol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ther harmful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pounds. Thus, it exist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xtensively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liver cell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5283360" y="2513160"/>
            <a:ext cx="370836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28600" y="1066680"/>
            <a:ext cx="8686800" cy="61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B)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Mitochondria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Constantia"/>
              </a:rPr>
              <a:t>: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y are the main energy transformers of cells 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 they convert energy to fuel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cells can use fo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Mitochond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 are the sites of cellular respi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rating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نتِج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rom the catabolism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ugars, fats, and other fuel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صادر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e presence of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lmost all eukaryotic cells have mitochondr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tochondria and chloroplasts are mobile and move around the cell along tracks in the cytoskeleto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22860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Membranous Organell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6320" y="914400"/>
            <a:ext cx="906768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Mitochondr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smooth outer membrane and a highly folded inner membrane forming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rista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توء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ner membrane encloses th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fluid-filled space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es, and enzym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238400" y="2362320"/>
            <a:ext cx="615312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52280" y="1054080"/>
            <a:ext cx="883944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ubunits pass from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ell type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ee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suspended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علق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the cytosol and synthesize proteins that func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ithin the cytosol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4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und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attached to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لتصق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ـ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outside of the endoplasmic reticulu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synthesize proteins that are either included into membranes or for secretion outside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F945-BCBD-4C35-BC5A-AA3DB78568A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066680"/>
            <a:ext cx="7772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30a0"/>
                </a:solidFill>
                <a:uFillTx/>
                <a:latin typeface="Arial"/>
              </a:rPr>
              <a:t>3- The Endomembra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8600" y="1887480"/>
            <a:ext cx="87631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بكة الإندوبلازم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rs membranes and performs many other biosynthe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lgi apparat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هاز جولـﭽـ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es, sorts, and ships cel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يسوزوم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digestive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cu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فجو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verse functions in cell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4676760" y="1295280"/>
            <a:ext cx="4467240" cy="5486400"/>
            <a:chOff x="4676760" y="1295280"/>
            <a:chExt cx="4467240" cy="548640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4676760" y="1295280"/>
              <a:ext cx="44672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4"/>
            <p:cNvSpPr/>
            <p:nvPr/>
          </p:nvSpPr>
          <p:spPr>
            <a:xfrm>
              <a:off x="59436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80010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A)-</a:t>
            </a:r>
            <a:r>
              <a:rPr b="1" lang="en-US" sz="2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e endoplasmic reticulum (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ER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400"/>
            </a:b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manufacturers membranes and performs many other biosynthetic function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5960" y="2703240"/>
            <a:ext cx="4724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ncludes membranous tubu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re are two types 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differ i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Smoot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smooth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اعمة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cks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Roug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rough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شن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ribosomes 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are attached to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utsi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2860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920" y="1023480"/>
            <a:ext cx="8610480" cy="66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smooth ER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ناع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 is rich in enzymes and plays a role in metabo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proces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s enzymes synthesize lipid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هو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oils, phospholipid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and steroids) including the sex hormon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رمونات الجنس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tens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بكثرة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liv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helps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بطال الأثر السا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rug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درا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poiso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rough ER: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خشنة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s especially abunda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وف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ose cells t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secrete proteins as it contains rib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These secretory proteins are packaged in trans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vesicles that carry them to their next st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B)- Golgi apparatus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nishes, sort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ـُجَه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packaging and ship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غلف وتنق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l product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2028960"/>
            <a:ext cx="89154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ny transport 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ية ناق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rom the ER travel to the Golgi apparatus for modific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طوير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their cont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function is manufactu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arehous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غليف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sor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َجْهي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ackag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shipping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نق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erials to outside the cel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he Golgi apparatus is especially extensive in cell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specialized for secre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إفراز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also manufactures pectin and polysacchar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3"/>
          <p:cNvGrpSpPr/>
          <p:nvPr/>
        </p:nvGrpSpPr>
        <p:grpSpPr>
          <a:xfrm>
            <a:off x="152280" y="457200"/>
            <a:ext cx="8839440" cy="6248520"/>
            <a:chOff x="152280" y="457200"/>
            <a:chExt cx="8839440" cy="6248520"/>
          </a:xfrm>
        </p:grpSpPr>
        <p:pic>
          <p:nvPicPr>
            <p:cNvPr id="219" name="Picture 4" descr=""/>
            <p:cNvPicPr/>
            <p:nvPr/>
          </p:nvPicPr>
          <p:blipFill>
            <a:blip r:embed="rId1"/>
            <a:srcRect l="0" t="0" r="0" b="10164"/>
            <a:stretch/>
          </p:blipFill>
          <p:spPr>
            <a:xfrm>
              <a:off x="152280" y="457200"/>
              <a:ext cx="883944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5"/>
            <p:cNvSpPr/>
            <p:nvPr/>
          </p:nvSpPr>
          <p:spPr>
            <a:xfrm>
              <a:off x="3086280" y="39369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  <a:cs typeface="Arial"/>
                </a:rPr>
                <a:t>وعاء ناق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)- Lysosom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أجسام المُحللة</a:t>
            </a:r>
            <a:r>
              <a:rPr b="1" lang="ar-EG" sz="32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re digestive compon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27908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lysosom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membrane-bounded sac 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يس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nzymes that digests macromolecu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rcRect l="0" t="6939" r="35742" b="6358"/>
          <a:stretch/>
        </p:blipFill>
        <p:spPr>
          <a:xfrm>
            <a:off x="0" y="1935000"/>
            <a:ext cx="9144000" cy="4923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28240" y="2007720"/>
            <a:ext cx="8534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ysosomal enzym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ork best at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pH = 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(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acid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ysosomal enzy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re synthesized b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roug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hen transferred to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نقل إل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Golg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then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lysoso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Function of Lysozomal enzym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ydrolys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يحلل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roteins, fats, polysaccharides, and nucleic aci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destroy the cell by autodigestion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utophagy)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ضم الذات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fuse with food vacuoles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حجوة ال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digest food, (when a food item is brought into the cell by phagocytosi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also fuse with another organelle or part of the cytosol. This process of </a:t>
            </a:r>
            <a:r>
              <a:rPr b="1" i="1" lang="en-US" sz="1800" spc="-1" strike="noStrike">
                <a:solidFill>
                  <a:srgbClr val="0000ff"/>
                </a:solidFill>
                <a:latin typeface="Constantia"/>
              </a:rPr>
              <a:t>autophagy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ycling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hich renews the ce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676520" y="1081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ysozomal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05:47:50Z</dcterms:created>
  <dc:creator>User</dc:creator>
  <dc:description/>
  <dc:language>en-US</dc:language>
  <cp:lastModifiedBy>User</cp:lastModifiedBy>
  <dcterms:modified xsi:type="dcterms:W3CDTF">2015-03-11T03:49:59Z</dcterms:modified>
  <cp:revision>8</cp:revision>
  <dc:subject/>
  <dc:title>Slide 1</dc:title>
</cp:coreProperties>
</file>