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FAF-A07F-4A5B-BDC3-D0EF15F8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9D4-2B20-4D4F-9366-B2646CBC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4E1-B6EF-479F-8065-DCC81113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5F2-D605-42A3-B435-E4CE60BA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7F23-626E-4919-9083-ADF38152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1B5D-8619-4BA5-AEB2-CC090FAE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5AF9-649C-4606-B54B-FA8EF2C9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1106-D830-4F91-A64C-B2D28CB9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973C-6439-475E-81DD-C258ADFA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7959-E37F-4B65-A713-B8FDAB1B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E7DA-3551-45E4-B07C-51D8CAD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ACE-A497-4855-A68A-DE32DD7E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8B49-D035-44B6-A5D0-585C707D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FE7A-14B3-4F1E-8DA6-F0BFA4D0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E2B6-1969-4E6F-91BB-4B4690E5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B8B2-9ADD-40FE-BA55-F462BA03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0A6-08CC-4E0A-97AD-53ED9AB1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5E3D-2F97-4B27-BA20-D717ED06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4330-1323-4179-8B42-CA959990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A398-212B-4D96-9D71-86627C83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65D4E-1C22-4223-9357-EB0C1CD8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595C-C1AF-45FE-9F75-DBBA108A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2D5-BB5C-494D-A825-055A54EE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A754-EDA0-41C9-AA01-93611255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6B03-0FDF-407E-B949-A8F7BE39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65DB-2606-470F-809D-523F0E68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F6B8-473B-449A-9C2E-044C030C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48AB-483E-4CD6-BB1E-E0DF90D5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C45D-2F60-44DB-842D-061A32D2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C1BF-34F4-4605-BFDB-939078A3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77C01-BFEA-4A33-85BE-0695E35F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102D-881A-4B02-860B-88D818DB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C04A4-A130-4C03-AF8E-942A07CD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AD2-F53F-489D-A9E1-95BB77F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6280-D6B7-4A41-93B2-F266A56A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A26E-4500-4E78-A9C7-59BA3378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0014-F0CE-4771-ADDC-39F2896F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2BDD-F63E-4FAD-A66B-88A5703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E634-EF8A-434B-94F2-161DAEE0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EDF8F-785E-48DC-A405-6190368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EEF1-EC1D-41B5-A6DA-24AD499E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16D9-EB3C-4AB9-AC5D-3ABF10CB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E959-8B2E-4A36-B617-2D79D096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05E-4CC5-4269-A914-A12DDABB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382-117E-46CE-BC65-17B69628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F32-2860-4A02-8BA1-3012972E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847-D81F-45F6-BEA7-B1488669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565-7A5D-469A-B2F4-4591F89E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E404-4422-49F7-A77E-7EC08E3960F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A651-5D0F-4977-9398-D5F33677D8B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BC97-F511-4993-8585-92D1F65FB34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33CC-D1EB-4D26-80B5-51CB5E84CCF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1.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nucleus: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ontains the cell’s genetic librar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كتبة (</a:t>
            </a:r>
            <a:r>
              <a:rPr b="0" lang="ar-EG" sz="2000" spc="-1" strike="noStrike">
                <a:solidFill>
                  <a:srgbClr val="ff0000"/>
                </a:solidFill>
                <a:latin typeface="Calibri"/>
                <a:cs typeface="Majalla UI"/>
              </a:rPr>
              <a:t>المحتوى</a:t>
            </a:r>
            <a:r>
              <a:rPr b="0" lang="ar-SA" sz="2000" spc="-1" strike="noStrike">
                <a:solidFill>
                  <a:srgbClr val="ff0000"/>
                </a:solidFill>
                <a:latin typeface="Calibri"/>
                <a:ea typeface="Majalla UI"/>
              </a:rPr>
              <a:t>)</a:t>
            </a:r>
            <a:r>
              <a:rPr b="0" lang="ar-EG" sz="2000" spc="-1" strike="noStrike">
                <a:solidFill>
                  <a:srgbClr val="ff0000"/>
                </a:solidFill>
                <a:latin typeface="Calibri"/>
                <a:ea typeface="Majalla UI"/>
              </a:rPr>
              <a:t> الـ</a:t>
            </a: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Majalla UI"/>
              </a:rPr>
              <a:t>جيني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3323880"/>
            <a:ext cx="8839440" cy="358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غشاء مزدوج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lled nuclear membra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ثقوب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uclear membrane helps to maintain the shape of the nucle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2514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533520" y="906480"/>
            <a:ext cx="800100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: The Cell organ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28600" y="160812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كيس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enzymes that digests macromolecules (large molecul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rcRect l="0" t="6939" r="33576" b="6358"/>
          <a:stretch/>
        </p:blipFill>
        <p:spPr>
          <a:xfrm>
            <a:off x="152280" y="2376360"/>
            <a:ext cx="8458200" cy="4405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- Lysosomes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جسام المحلل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28600" y="1882440"/>
            <a:ext cx="868680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00b050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ysosomal enzymes work best at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pH = 5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cidic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00b050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are synthesized by rough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0" lang="ar-EG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تنقل إلى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Golgi then to lysosom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Functions of Lysosomal enzym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hydrolyze 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حلل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destroy the cell by autodigestion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autophagy)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ضم الذاتى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جوة الغذائ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plasm. This process of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which renews th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Lysosomal enzym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52280" y="1905120"/>
            <a:ext cx="8686800" cy="504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sicles and vacuoles are membrane-bound sac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كياس ذات أغش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diverse fun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vacuol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ood vacuol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ة غذائ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from phagocyt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عم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fuse with lys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ntractile vacuoles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ة منقبضة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are found in freshwater Protist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ump excess water out of the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entral vacuol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ة مرك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ز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 found in many mature plant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6- Vacuoles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جوات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1160640" y="762120"/>
            <a:ext cx="6787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3"/>
          <p:cNvGrpSpPr/>
          <p:nvPr/>
        </p:nvGrpSpPr>
        <p:grpSpPr>
          <a:xfrm>
            <a:off x="533520" y="914400"/>
            <a:ext cx="8076600" cy="5562360"/>
            <a:chOff x="533520" y="914400"/>
            <a:chExt cx="8076600" cy="5562360"/>
          </a:xfrm>
        </p:grpSpPr>
        <p:pic>
          <p:nvPicPr>
            <p:cNvPr id="231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533520" y="1901880"/>
              <a:ext cx="5249880" cy="45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5"/>
            <p:cNvSpPr/>
            <p:nvPr/>
          </p:nvSpPr>
          <p:spPr>
            <a:xfrm>
              <a:off x="2896200" y="2362680"/>
              <a:ext cx="154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الفجوة المرك</a:t>
              </a:r>
              <a:r>
                <a:rPr b="0" lang="ar-SA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ز</a:t>
              </a: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39320" y="914400"/>
              <a:ext cx="3970800" cy="31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7"/>
            <p:cNvSpPr/>
            <p:nvPr/>
          </p:nvSpPr>
          <p:spPr>
            <a:xfrm>
              <a:off x="939960" y="1433160"/>
              <a:ext cx="127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Constantia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6019200" y="4110480"/>
              <a:ext cx="15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Constantia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523880" y="762120"/>
            <a:ext cx="5791320" cy="58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914040"/>
            <a:ext cx="8305560" cy="60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“chromatin fiber”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تلتف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“chromosomes”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46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chromosom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but sex cells (eggs  and sperm) have only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chromosom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0080" indent="-365040" algn="just">
              <a:spcBef>
                <a:spcPts val="1199"/>
              </a:spcBef>
              <a:buClr>
                <a:srgbClr val="339933"/>
              </a:buClr>
              <a:buSzPct val="85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Nucleolu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 a dark region involved in production of ribosom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Ribosomes: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rcRect l="0" t="9268" r="1998" b="8186"/>
          <a:stretch/>
        </p:blipFill>
        <p:spPr>
          <a:xfrm>
            <a:off x="152280" y="3124080"/>
            <a:ext cx="8763120" cy="3657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52280" y="1828440"/>
            <a:ext cx="868680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bosomes conta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rRN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prote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حدتي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حد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ناء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وتي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51920" y="1054080"/>
            <a:ext cx="8610840" cy="60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575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In the nucleolus, ribosomal RNA (</a:t>
            </a:r>
            <a:r>
              <a:rPr b="0" lang="en-US" sz="23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proteins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rom the cytoplasm to form </a:t>
            </a: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ribosomal subunit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ribosome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ell types that synthesize large quantities of proteins (e.g., pancreas) have large numbers of ribosome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0000"/>
                </a:solidFill>
                <a:uFillTx/>
                <a:latin typeface="Constantia"/>
              </a:rPr>
              <a:t>Types of Ribosomes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Free ribosom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ريبوسومات حر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ع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ّ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</a:t>
            </a:r>
            <a:r>
              <a:rPr b="0" lang="en-US" sz="23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within the cytosol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Bound ribosomes </a:t>
            </a:r>
            <a:r>
              <a:rPr b="0" lang="ar-SA" sz="23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ريبوسومات مرتبطة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لتصق ب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00b050"/>
              </a:buClr>
              <a:buSzPct val="95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</a:t>
            </a:r>
            <a:r>
              <a:rPr b="0" lang="ar-SA" sz="23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فراز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outside the cell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668D-B66B-4973-8DD9-2D027DA18C8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5153040" y="1600200"/>
            <a:ext cx="3838320" cy="5181480"/>
            <a:chOff x="5153040" y="1600200"/>
            <a:chExt cx="3838320" cy="518148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8351" t="1531" r="7441" b="3000"/>
            <a:stretch/>
          </p:blipFill>
          <p:spPr>
            <a:xfrm>
              <a:off x="5153040" y="1600200"/>
              <a:ext cx="383832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6064920" y="5026320"/>
              <a:ext cx="0" cy="51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164080" y="5026320"/>
              <a:ext cx="0" cy="51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 txBox="1"/>
          <p:nvPr/>
        </p:nvSpPr>
        <p:spPr>
          <a:xfrm>
            <a:off x="75960" y="2514240"/>
            <a:ext cx="4724280" cy="42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mooth 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اعمة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cause it lack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Rough 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شن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cause ribosomes (bound ribosomes) are attached to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The endoplasmic reticulum (ER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023480"/>
            <a:ext cx="8458200" cy="57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1- The smooth ER: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rich in enzymes and plays a role in metabol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s enzymes synthesize lipids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رمونات الجنس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وجد بكثر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liv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بطال الأثر السا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خدرات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مو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- The rough ER: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especially abundan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وفر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secretory proteins are packaged in trans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51920" y="2028960"/>
            <a:ext cx="86108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ويصلات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قل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vel to the Golgi apparatus for modific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عدي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صني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خزي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ر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olgi apparatus is especially extensive in cells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ecialized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or secre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را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olgi also manufactures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ect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كتي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4-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Golgi apparatus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هاز جولجي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1098" t="1643" r="1332" b="10164"/>
          <a:stretch/>
        </p:blipFill>
        <p:spPr>
          <a:xfrm>
            <a:off x="401760" y="838080"/>
            <a:ext cx="8285040" cy="563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User</cp:lastModifiedBy>
  <dcterms:modified xsi:type="dcterms:W3CDTF">2015-09-14T06:43:33Z</dcterms:modified>
  <cp:revision>62</cp:revision>
  <dc:subject/>
  <dc:title>Slide 1</dc:title>
</cp:coreProperties>
</file>