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42D-8FB4-4B26-A4F2-1C96DECC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11E-94B5-45C8-851E-9F34378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B17-044B-4501-83C8-17825136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973-9D59-4979-A634-AD7E3777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50F3-5428-40B1-A452-EBFF51DA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8DB-098B-4764-8B72-812C8317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C51-3DAA-4971-A86B-8A2215D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53E-CE06-44EB-8A56-50F4267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8423-0F5B-4D84-9477-F1DD65A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D59A-5D43-4AF5-A170-0E60450B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A328-89B8-4742-9E3B-3D26C1F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1D9-5DFC-4963-ADAF-1B24E56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C84C-2591-4980-A24F-C85C4BF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828A-D3C0-4FA3-B3BE-D9D9E19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F8F6-2F4B-49D1-A46A-EB21FE7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BF8-DD0C-4CCE-9ECC-340D6783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BAE2-3EF8-46D1-9750-A79C0099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B1A4-7587-4CF7-84A9-D108F92D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8C57-1592-4E10-A888-874A8111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0846-E309-4811-80B6-8DCCABF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10E2-FEEB-43AF-9537-CB829BF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F102-AE47-42E4-ADE8-52746C21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C77-F058-4978-BDB7-0D25F76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2085-A640-42D8-92D7-8A570D77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220D-99DB-49DE-B823-21458CCF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CDA1-601E-45DA-9E13-7DB26DB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89B9-6199-41F1-9D8D-0864F6B0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F688-5F88-4F3F-A4FA-8288F60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C655-88C4-4244-B62D-83DFCF55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CD03-7F88-4B53-BD97-A15DDFFF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891E-9FCE-4FDE-9094-169335A6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53AE-0AC3-49DE-AEDA-8C233CC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14E7-1664-4187-866A-020A7A3A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DA1-F966-4F02-9478-7CF1B11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7968-21DA-4E69-9E32-5B4CF052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871B6-7A2B-4935-A9E0-5B32128B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3C738-D101-42E7-880D-CAC4B18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A8CD4-BA22-4C12-A6CE-8715BA3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45A9-22E1-4C43-A1C7-14659F2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FDCB-9E21-448A-B5E5-9DE73798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50A7-A9F8-4C17-B5D7-39A04B4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66C5-7EB7-4D05-A7AE-632B234D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4DF4-6E49-4A62-BFC0-C5F086D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F69-C13F-4312-964C-A0C791C0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ACA-7EB7-4BCA-8211-51ECD0C8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711-20A3-49DA-9091-212F6B5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826-5B26-4CA8-8070-C711D2CF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656-71A9-49B8-9022-CA9B0FA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C3E-12BF-4877-B637-2D30CF30B2A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8FAE-FC28-4858-BD75-AE4B35F0440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267D-4911-4100-8884-BACB3F94110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6F9-7E67-4E2D-881E-7742BF87697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nucleus: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ntains the cell’s genetic librar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كتبة (</a:t>
            </a:r>
            <a:r>
              <a:rPr b="0" lang="ar-EG" sz="2000" spc="-1" strike="noStrike">
                <a:solidFill>
                  <a:srgbClr val="ff0000"/>
                </a:solidFill>
                <a:latin typeface="Calibri"/>
                <a:cs typeface="Majalla UI"/>
              </a:rPr>
              <a:t>المحتوى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ea typeface="Majalla UI"/>
              </a:rPr>
              <a:t>)</a:t>
            </a:r>
            <a:r>
              <a:rPr b="0" lang="ar-EG" sz="2000" spc="-1" strike="noStrike">
                <a:solidFill>
                  <a:srgbClr val="ff0000"/>
                </a:solidFill>
                <a:latin typeface="Calibri"/>
                <a:ea typeface="Majalla UI"/>
              </a:rPr>
              <a:t> الـ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  <a:cs typeface="Majalla UI"/>
              </a:rPr>
              <a:t>جين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3323880"/>
            <a:ext cx="8839440" cy="358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شاء مزدوج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nuclear membra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قوب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uclear membrane helps to maintain the shape of the nucle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514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533520" y="906480"/>
            <a:ext cx="80010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The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28600" y="160812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ي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enzymes that digests macromolecules (large molecul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rcRect l="0" t="6939" r="33576" b="6358"/>
          <a:stretch/>
        </p:blipFill>
        <p:spPr>
          <a:xfrm>
            <a:off x="152280" y="2376360"/>
            <a:ext cx="8458200" cy="4405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- Lyso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جسام المحلل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28600" y="1882440"/>
            <a:ext cx="868680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ysosomal enzymes work best at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pH = 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cidic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buClr>
                <a:srgbClr val="00b050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synthesized by rough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نقل إلى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Golgi then to lysosom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Functions of Lysosomal enzym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hydrolyze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حلل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destroy the cell by autodigestion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autophagy)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ضم الذات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غذائ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plasm. This process of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which renews th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Lysosomal enzym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52280" y="1905120"/>
            <a:ext cx="8686800" cy="50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sicles and vacuoles are membrane-bound sac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كياس ذات أغش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diverse fun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vacuol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d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غذ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from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fuse with lys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ntractile vacuole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منقبض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are found in freshwater Protist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ump excess water out of th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22520" indent="-361080" algn="just"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ntral vacuol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ة م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ز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 found in many mature plant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6- Vacuol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ات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1160640" y="762120"/>
            <a:ext cx="6787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3"/>
          <p:cNvGrpSpPr/>
          <p:nvPr/>
        </p:nvGrpSpPr>
        <p:grpSpPr>
          <a:xfrm>
            <a:off x="533520" y="914400"/>
            <a:ext cx="8076600" cy="5562360"/>
            <a:chOff x="533520" y="914400"/>
            <a:chExt cx="8076600" cy="5562360"/>
          </a:xfrm>
        </p:grpSpPr>
        <p:pic>
          <p:nvPicPr>
            <p:cNvPr id="231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533520" y="1901880"/>
              <a:ext cx="5249880" cy="45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"/>
            <p:cNvSpPr/>
            <p:nvPr/>
          </p:nvSpPr>
          <p:spPr>
            <a:xfrm>
              <a:off x="2896200" y="2362680"/>
              <a:ext cx="15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الفجوة المرك</a:t>
              </a: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ز</a:t>
              </a: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39320" y="914400"/>
              <a:ext cx="3970800" cy="31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"/>
            <p:cNvSpPr/>
            <p:nvPr/>
          </p:nvSpPr>
          <p:spPr>
            <a:xfrm>
              <a:off x="939960" y="1433160"/>
              <a:ext cx="127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Constantia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6019200" y="411048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Constantia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523880" y="762120"/>
            <a:ext cx="5791320" cy="58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914040"/>
            <a:ext cx="8305560" cy="603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“chromatin fiber”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لتف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“chromosomes”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46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but sex cells (eggs  and sperm) have only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0080" indent="-365040" algn="just">
              <a:spcBef>
                <a:spcPts val="1199"/>
              </a:spcBef>
              <a:buClr>
                <a:srgbClr val="339933"/>
              </a:buClr>
              <a:buSzPct val="8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1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Nucleolu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a dark region involved in production of ribosom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Ribosomes: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rcRect l="0" t="9268" r="1998" b="8186"/>
          <a:stretch/>
        </p:blipFill>
        <p:spPr>
          <a:xfrm>
            <a:off x="152280" y="3124080"/>
            <a:ext cx="8763120" cy="3657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52280" y="1828440"/>
            <a:ext cx="8686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bosomes conta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rRN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prote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دت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حد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ناء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وت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1920" y="1054080"/>
            <a:ext cx="8610840" cy="60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In the nucleolus, ribosomal RNA (</a:t>
            </a:r>
            <a:r>
              <a:rPr b="0" lang="en-US" sz="23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proteins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rom the cytoplasm to form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ribosomal subunit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ribosome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ell types that synthesize large quantities of proteins (e.g., pancreas) have large numbers of ribosom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0000"/>
                </a:solidFill>
                <a:uFillTx/>
                <a:latin typeface="Constantia"/>
              </a:rPr>
              <a:t>Types of Ribosomes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Free ribosom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ريبوسومات حر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ع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en-US" sz="23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within the cytosol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Constantia"/>
              </a:rPr>
              <a:t>Bound ribosomes </a:t>
            </a:r>
            <a:r>
              <a:rPr b="0" lang="ar-SA" sz="23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ريبوسومات مرتبطة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لتصق بـ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575"/>
              </a:spcBef>
              <a:buClr>
                <a:srgbClr val="00b050"/>
              </a:buClr>
              <a:buSzPct val="95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</a:t>
            </a:r>
            <a:r>
              <a:rPr b="0" lang="ar-SA" sz="23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فراز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outside the cell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311-9E46-42DA-A80E-581D913BF13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5153040" y="1600200"/>
            <a:ext cx="3838320" cy="5181480"/>
            <a:chOff x="5153040" y="1600200"/>
            <a:chExt cx="3838320" cy="518148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8351" t="1531" r="7441" b="3000"/>
            <a:stretch/>
          </p:blipFill>
          <p:spPr>
            <a:xfrm>
              <a:off x="5153040" y="1600200"/>
              <a:ext cx="38383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6064920" y="5026320"/>
              <a:ext cx="0" cy="51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164080" y="5026320"/>
              <a:ext cx="0" cy="51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75960" y="2514240"/>
            <a:ext cx="4724280" cy="42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اعمة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cause it lack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Rough 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شن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cause ribosomes (bound ribosomes) are attached to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endoplasmic reticulum (ER)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023480"/>
            <a:ext cx="8458200" cy="57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1- The smooth ER: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rich in enzymes and plays a role in metabol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s enzymes synthesize lipid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رمونات الجنس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وجد بكثر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بطال الأثر السا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خدرات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مو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- The rough ER: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especially abunda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وفر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secretory proteins are packaged in trans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1920" y="2028960"/>
            <a:ext cx="86108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ويصلات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ق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vel to the Golgi apparatus for modific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عدي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صني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خز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apparatus is especially extensive in cell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ecialized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r secre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ا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olgi also manufactur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ec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كت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Golgi apparatus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هاز جولجي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1098" t="1643" r="1332" b="10164"/>
          <a:stretch/>
        </p:blipFill>
        <p:spPr>
          <a:xfrm>
            <a:off x="401760" y="838080"/>
            <a:ext cx="8285040" cy="563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5-09-14T06:43:33Z</dcterms:modified>
  <cp:revision>62</cp:revision>
  <dc:subject/>
  <dc:title>Slide 1</dc:title>
</cp:coreProperties>
</file>