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B29-70AE-4003-9EED-E1C57B91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851-120C-4682-B6A7-DB1DCB53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6CF-1B59-44EC-B6E8-545CA11C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C77-02D7-4DE1-8B4A-A3C8ABD1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A09E-25F1-4F0D-9205-4CED4BA1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2B12-CA4B-4337-A79E-97455607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4382-393A-4FD2-9060-B3C0E0EE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5ABA-7543-4845-A12B-98A7F560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81BC-F27E-46A7-85A4-0BB2D253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D789-AE1F-45C2-B1A5-659FDC79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F835-2A5E-44A8-8539-B4A0158F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A78-58C7-4648-9CE3-2EF097A7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C1EC-0944-4283-8B5E-8D333BCA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2DDB-3DA7-4321-959E-FF58D281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D0AB-DB23-44C5-97D3-CD9A5116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F273-7104-425E-BD87-661FBD25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47FB-14D6-4067-A261-7175CFD2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D182-E265-4195-9567-549B35BF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49DA-F692-448D-BD41-A7547A11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567F-D475-4AE5-A02D-69B45A0C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D85D-3FDD-479F-ABC8-80D9B26D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6617-07B1-4061-899F-0D84686A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376-B541-47EB-AC0B-88955928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B946-B99B-44D4-9B3E-C809A326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0D02-0F87-4EA8-B203-F50267AB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A433-9329-4C90-A98D-0A93127C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9DF6-C5E8-401C-8D17-A0902298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41019-65E5-4B9B-8DD1-105C3EAA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C6A41-7783-466B-91C3-08F6E968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D04A-5F2E-431A-A8AD-F494351C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DC594-46DE-43E4-925C-8D497CD0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D0A2-B4C0-4E65-8B5A-F94A5570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C1F8-1AE7-44D1-B5D2-0BC7444E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69B-2D98-4668-971E-5EC9970F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6CD8-1115-4ABC-90E1-BDEC78A6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8123E-5111-4287-816F-B397F052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CC27-7C41-461A-B030-748BF1DC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E7AA-E999-4416-A829-5478AD4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373CD-EF8B-4E57-8D7E-4274D7B1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DCAA9-EB65-4AC5-B355-84DF7C37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30C03-8056-409D-8E03-ED89401E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E6E3-BFD3-461E-9557-3D4F9C82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4076D-60F8-4B07-B859-3DEED1F7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DD9-B5DB-4E4A-8E74-3BCDA7F5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97C-A4CB-4E22-9584-C808ED57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143-B0AD-49D0-A1A2-7663049A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4B9-7D1D-4EC4-B449-1A39D4A4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FA8-AE8E-4580-B473-EFB22259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DE62-DEAB-4ECF-96CC-C1261EE99EE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D260-BE58-40C5-91CE-1814381ABB8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832D-1279-45ED-950A-BEDF32C7473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5DC2-A70C-4FB6-89F1-F100FC381CA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B4E2-DAB6-4B61-9B3F-42A2D4319C3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د أشرف مشالي</cp:lastModifiedBy>
  <dcterms:modified xsi:type="dcterms:W3CDTF">2013-09-01T08:09:56Z</dcterms:modified>
  <cp:revision>8</cp:revision>
  <dc:subject/>
  <dc:title>Slide 1</dc:title>
</cp:coreProperties>
</file>