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4.png" ContentType="image/png"/>
  <Override PartName="/ppt/media/image9.png" ContentType="image/png"/>
  <Override PartName="/ppt/media/image1.jpeg" ContentType="image/jpeg"/>
  <Override PartName="/ppt/media/image10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5.png" ContentType="image/png"/>
  <Override PartName="/ppt/media/image8.jpeg" ContentType="image/jpeg"/>
  <Override PartName="/ppt/media/image13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03950-F245-49C3-9C7C-032E1082B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1837C-C26F-42AE-8370-2B98078B3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E5DDF-F837-4757-A347-B73CF07C2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CB4E9-EBD3-4823-9371-67ADB39AE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D6865-1FEB-468B-B643-E0CBD77E9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40E21-1D7D-4166-B0E3-F9C0BF302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3ACBD-B8A5-45C3-82D8-06A125FD6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CF379-56D6-4090-B47F-83603005B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6A3C7-FD3D-4820-9455-82EC84D16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D92E9-CF13-446B-9F32-344D1CF18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F75AE-1478-420E-B930-2A89CEAA1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09982-30FC-4A71-B5D8-FFF068EE0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87FBB-96D9-4D7C-9A4B-73D3F80A8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6C3B7-B2A3-4109-8461-DAFCA38F3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CE4AF-8CBA-4593-88A8-5F6072E0F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3A904-5CF3-4895-AB78-C1E19CFE7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6DA80-D46B-467F-BF52-4C9018540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310F81-6E07-4C78-BEEC-9B2C7B426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307B21-544D-48F3-8D0B-A68C06977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D4C3A4-EB05-46AA-BD93-CEBAF01CF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F75EA1-BAE0-4719-A318-C5FED7643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F1905D-94FA-49C8-943B-1786074F6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EB989-BF6E-4231-911C-1364DB6D5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7E0004-A485-476C-9C01-3F8A61B59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A65F0E-610A-434C-A20E-AE563EA3E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56A23D-DD6D-4B43-88EA-6EE4FF8AE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7857BD-228D-4DBA-83BF-31965AC06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ACDBA2-D3B5-413C-8E40-A4302357C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14EA83-2815-4E15-A81B-F101D44EA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E15861-5F4F-4214-A112-AF26C935A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409C2E-A804-468C-BCBC-10590E2A2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02087C-935C-4A9F-8F74-492F51755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BB2802-9899-41B1-9356-D3766336F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2AEA4-F4EA-41E4-8BC9-369D18528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6BA8B6-E789-4D52-BB34-EB3D64C6F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DF9BFD-B371-46FD-9635-27E1C2ED3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322EFF-A535-4B23-8C05-444BEFB7B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7FDA06-2155-44F1-832A-AD8D3EC23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3D7DBE-BD84-4696-97D0-F2F98F931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98556A-AA7B-4BE3-9211-0D51CB239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159AAF-7573-4CF2-BDC6-A376D638C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1BFEE0-868E-439F-9605-4BDEE1AE0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66881C-5901-46AB-BC90-F506262B9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B5ECC-76B2-4C53-8A3A-C9CEF4535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B8D98-B326-463C-82D4-8A98B477B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F5CEA-51F8-42D5-A261-40ED13694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187F7-BE8B-44C3-B49B-2B80E99E0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6C8A8-4011-48B7-894D-6BF1B4ACB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4AF3D-DB18-477A-B571-214AF2DDCC68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5D7C8-A20C-46E1-9FDE-5F0F873D13CD}" type="slidenum">
              <a:rPr b="0" lang="ar-SA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0D70A-F9EA-4C4C-8519-3F35F7EF43B8}" type="slidenum">
              <a:rPr b="0" lang="ar-SA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F3B2C-F8A2-4357-97A7-C424CA695617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746784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2.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Ribosomes:     </a:t>
            </a:r>
            <a:r>
              <a:rPr b="1" lang="en-US" sz="2000" spc="-1" strike="noStrike">
                <a:solidFill>
                  <a:srgbClr val="0000ff"/>
                </a:solidFill>
                <a:latin typeface="Calibri"/>
              </a:rPr>
              <a:t>build the cell’s proteins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6" name="Line 5"/>
          <p:cNvSpPr/>
          <p:nvPr/>
        </p:nvSpPr>
        <p:spPr>
          <a:xfrm>
            <a:off x="152280" y="106668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Group 10"/>
          <p:cNvGrpSpPr/>
          <p:nvPr/>
        </p:nvGrpSpPr>
        <p:grpSpPr>
          <a:xfrm>
            <a:off x="76320" y="2971800"/>
            <a:ext cx="8839080" cy="3809880"/>
            <a:chOff x="76320" y="2971800"/>
            <a:chExt cx="8839080" cy="3809880"/>
          </a:xfrm>
        </p:grpSpPr>
        <p:pic>
          <p:nvPicPr>
            <p:cNvPr id="198" name="Picture 6" descr=""/>
            <p:cNvPicPr/>
            <p:nvPr/>
          </p:nvPicPr>
          <p:blipFill>
            <a:blip r:embed="rId1"/>
            <a:srcRect l="0" t="0" r="0" b="8186"/>
            <a:stretch/>
          </p:blipFill>
          <p:spPr>
            <a:xfrm>
              <a:off x="76320" y="2971800"/>
              <a:ext cx="8839080" cy="38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Text Box 8"/>
            <p:cNvSpPr/>
            <p:nvPr/>
          </p:nvSpPr>
          <p:spPr>
            <a:xfrm>
              <a:off x="5331960" y="5096160"/>
              <a:ext cx="749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1800" spc="-1" strike="noStrike">
                  <a:solidFill>
                    <a:srgbClr val="ff0000"/>
                  </a:solidFill>
                  <a:latin typeface="Arial"/>
                </a:rPr>
                <a:t>مرتبط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Text Box 9"/>
            <p:cNvSpPr/>
            <p:nvPr/>
          </p:nvSpPr>
          <p:spPr>
            <a:xfrm>
              <a:off x="5169960" y="4583520"/>
              <a:ext cx="599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1800" spc="-1" strike="noStrike">
                  <a:solidFill>
                    <a:srgbClr val="ff0000"/>
                  </a:solidFill>
                  <a:latin typeface="Arial"/>
                </a:rPr>
                <a:t>حر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" name=""/>
          <p:cNvSpPr txBox="1"/>
          <p:nvPr/>
        </p:nvSpPr>
        <p:spPr>
          <a:xfrm>
            <a:off x="152280" y="2133360"/>
            <a:ext cx="8686800" cy="106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Ribosomes contain 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rRNA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and protein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A ribosome is composed of two subunits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وحدتين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hat combine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تتحد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o carry out protein synthesis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تخليق البروتين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Text Box 2"/>
          <p:cNvSpPr/>
          <p:nvPr/>
        </p:nvSpPr>
        <p:spPr>
          <a:xfrm>
            <a:off x="1447920" y="142920"/>
            <a:ext cx="6629400" cy="916920"/>
          </a:xfrm>
          <a:prstGeom prst="rect">
            <a:avLst/>
          </a:prstGeom>
          <a:solidFill>
            <a:srgbClr val="009dd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0000"/>
                </a:solidFill>
                <a:latin typeface="Copperplate Gothic Bold"/>
              </a:rPr>
              <a:t>Lecture 4: The Cel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2" descr=""/>
          <p:cNvPicPr/>
          <p:nvPr/>
        </p:nvPicPr>
        <p:blipFill>
          <a:blip r:embed="rId1"/>
          <a:srcRect l="0" t="0" r="0" b="3080"/>
          <a:stretch/>
        </p:blipFill>
        <p:spPr>
          <a:xfrm>
            <a:off x="977760" y="762120"/>
            <a:ext cx="7053480" cy="6095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33160" y="1142640"/>
            <a:ext cx="87627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D)- Vacuoles: </a:t>
            </a:r>
            <a:r>
              <a:rPr b="0" lang="ar-EG" sz="2500" spc="-1" strike="noStrike">
                <a:solidFill>
                  <a:srgbClr val="000000"/>
                </a:solidFill>
                <a:latin typeface="Calibri"/>
                <a:cs typeface="Traditional Arabic"/>
              </a:rPr>
              <a:t>الفجوات</a:t>
            </a: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500"/>
            </a:br>
            <a:br>
              <a:rPr sz="2000"/>
            </a:b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have diverse functions 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  <a:cs typeface="Traditional Arabic"/>
              </a:rPr>
              <a:t>وظائف متنوعة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 cell maintenance 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  <a:cs typeface="Traditional Arabic"/>
              </a:rPr>
              <a:t>للحفاظ على الخلية</a:t>
            </a:r>
            <a:endParaRPr b="0" lang="en-US" sz="1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75960" y="2717280"/>
            <a:ext cx="8915400" cy="406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4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Vesicles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أوعـية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and vacuoles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فجوات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are membrane-bound sacs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أكياس ذات أغشية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with varied function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6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990720" indent="-533520">
              <a:spcBef>
                <a:spcPts val="451"/>
              </a:spcBef>
              <a:buClr>
                <a:srgbClr val="339933"/>
              </a:buClr>
              <a:buSzPct val="85000"/>
              <a:buFont typeface="Constantia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nstantia"/>
              </a:rPr>
              <a:t>Food vacuoles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فجوة غذائية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, from phagocytosis, fuse with lysosomes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990720" indent="-533520">
              <a:spcBef>
                <a:spcPts val="451"/>
              </a:spcBef>
              <a:buClr>
                <a:srgbClr val="339933"/>
              </a:buClr>
              <a:buSzPct val="85000"/>
              <a:buFont typeface="Constantia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990720" indent="-533520">
              <a:spcBef>
                <a:spcPts val="451"/>
              </a:spcBef>
              <a:buClr>
                <a:srgbClr val="339933"/>
              </a:buClr>
              <a:buSzPct val="85000"/>
              <a:buFont typeface="Constantia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nstantia"/>
              </a:rPr>
              <a:t>Contractile vacuoles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فجوة منقبضة</a:t>
            </a:r>
            <a:r>
              <a:rPr b="1" lang="ar-EG" sz="18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, found in freshwater protists, pump excess water out of the cell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990720" indent="-533520">
              <a:spcBef>
                <a:spcPts val="451"/>
              </a:spcBef>
              <a:buClr>
                <a:srgbClr val="339933"/>
              </a:buClr>
              <a:buSzPct val="85000"/>
              <a:buFont typeface="Constantia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990720" indent="-533520">
              <a:spcBef>
                <a:spcPts val="451"/>
              </a:spcBef>
              <a:buClr>
                <a:srgbClr val="339933"/>
              </a:buClr>
              <a:buSzPct val="85000"/>
              <a:buFont typeface="Constantia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nstantia"/>
              </a:rPr>
              <a:t>Central vacuoles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فجوة مركزية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are found in many mature plant cells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Line 4"/>
          <p:cNvSpPr/>
          <p:nvPr/>
        </p:nvSpPr>
        <p:spPr>
          <a:xfrm>
            <a:off x="152280" y="129528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" name="Group 3"/>
          <p:cNvGrpSpPr/>
          <p:nvPr/>
        </p:nvGrpSpPr>
        <p:grpSpPr>
          <a:xfrm>
            <a:off x="152280" y="701640"/>
            <a:ext cx="8839080" cy="6003720"/>
            <a:chOff x="152280" y="701640"/>
            <a:chExt cx="8839080" cy="6003720"/>
          </a:xfrm>
        </p:grpSpPr>
        <p:pic>
          <p:nvPicPr>
            <p:cNvPr id="234" name="Picture 4" descr=""/>
            <p:cNvPicPr/>
            <p:nvPr/>
          </p:nvPicPr>
          <p:blipFill>
            <a:blip r:embed="rId1"/>
            <a:srcRect l="0" t="0" r="0" b="3000"/>
            <a:stretch/>
          </p:blipFill>
          <p:spPr>
            <a:xfrm>
              <a:off x="152280" y="1767600"/>
              <a:ext cx="5745600" cy="493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5" name="Text Box 5"/>
            <p:cNvSpPr/>
            <p:nvPr/>
          </p:nvSpPr>
          <p:spPr>
            <a:xfrm>
              <a:off x="2877840" y="2339640"/>
              <a:ext cx="1388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EG" sz="1800" spc="-1" strike="noStrike">
                  <a:solidFill>
                    <a:srgbClr val="000000"/>
                  </a:solidFill>
                  <a:latin typeface="Arial"/>
                </a:rPr>
                <a:t>الفجوة المركذي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6" name="Picture 6" descr=""/>
            <p:cNvPicPr/>
            <p:nvPr/>
          </p:nvPicPr>
          <p:blipFill>
            <a:blip r:embed="rId2"/>
            <a:srcRect l="0" t="0" r="0" b="3357"/>
            <a:stretch/>
          </p:blipFill>
          <p:spPr>
            <a:xfrm>
              <a:off x="4645440" y="701640"/>
              <a:ext cx="4345920" cy="336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Text Box 7"/>
            <p:cNvSpPr/>
            <p:nvPr/>
          </p:nvSpPr>
          <p:spPr>
            <a:xfrm>
              <a:off x="299160" y="1261800"/>
              <a:ext cx="1388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0000ff"/>
                  </a:solidFill>
                  <a:latin typeface="Arial"/>
                </a:rPr>
                <a:t>خلية نباتي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Text Box 8"/>
            <p:cNvSpPr/>
            <p:nvPr/>
          </p:nvSpPr>
          <p:spPr>
            <a:xfrm>
              <a:off x="7297560" y="3992760"/>
              <a:ext cx="15357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0000ff"/>
                  </a:solidFill>
                  <a:latin typeface="Arial"/>
                </a:rPr>
                <a:t>خلية حيواني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518148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ff"/>
                </a:solidFill>
                <a:latin typeface="Calibri"/>
              </a:rPr>
              <a:t>Other Membranous Organelles</a:t>
            </a: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6320" y="1370160"/>
            <a:ext cx="8686800" cy="565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ff"/>
                </a:solidFill>
                <a:uFillTx/>
                <a:latin typeface="Constantia"/>
              </a:rPr>
              <a:t>A)- Peroxisomes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contain enzymes that transfer hydrogen from various substrates to oxygen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nstantia"/>
              </a:rPr>
              <a:t>Functions of peroxisom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1-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Hydrogen peroxide </a:t>
            </a: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(H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Constantia"/>
              </a:rPr>
              <a:t>2</a:t>
            </a: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O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Constantia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) is a poison,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but the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nstantia"/>
              </a:rPr>
              <a:t>peroxisome has enzyme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nstantia"/>
              </a:rPr>
              <a:t>that converts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nstantia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nstantia"/>
              </a:rPr>
              <a:t>2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nstantia"/>
              </a:rPr>
              <a:t> to </a:t>
            </a:r>
            <a:r>
              <a:rPr b="1" lang="en-US" sz="1800" spc="-1" strike="noStrike" u="sng">
                <a:solidFill>
                  <a:srgbClr val="0000ff"/>
                </a:solidFill>
                <a:uFillTx/>
                <a:latin typeface="Constantia"/>
              </a:rPr>
              <a:t>water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just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2-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Some peroxisomes break fatty acids down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to smaller molecules that are transported to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mitochondria for fuel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لإنتاج الطاقة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just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3-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They detoxify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يبطل المفعول السُّمى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alcohol and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other harmful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compounds. Thus, it exists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extensively in the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Constantia"/>
              </a:rPr>
              <a:t>liver cells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Line 4"/>
          <p:cNvSpPr/>
          <p:nvPr/>
        </p:nvSpPr>
        <p:spPr>
          <a:xfrm>
            <a:off x="152280" y="83808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5" descr=""/>
          <p:cNvPicPr/>
          <p:nvPr/>
        </p:nvPicPr>
        <p:blipFill>
          <a:blip r:embed="rId1"/>
          <a:srcRect l="0" t="0" r="0" b="4072"/>
          <a:stretch/>
        </p:blipFill>
        <p:spPr>
          <a:xfrm>
            <a:off x="5283360" y="2513160"/>
            <a:ext cx="3708360" cy="3278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228600" y="1066680"/>
            <a:ext cx="8686800" cy="614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ff"/>
                </a:solidFill>
                <a:uFillTx/>
                <a:latin typeface="Constantia"/>
              </a:rPr>
              <a:t>B)- 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Constantia"/>
              </a:rPr>
              <a:t>Mitochondria</a:t>
            </a:r>
            <a:r>
              <a:rPr b="1" lang="en-GB" sz="2800" spc="-1" strike="noStrike" u="sng">
                <a:solidFill>
                  <a:srgbClr val="0000ff"/>
                </a:solidFill>
                <a:uFillTx/>
                <a:latin typeface="Constantia"/>
              </a:rPr>
              <a:t>:</a:t>
            </a:r>
            <a:br>
              <a:rPr sz="3600"/>
            </a:b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Thy are the main energy transformers of cells a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s they convert energy to fuel </a:t>
            </a:r>
            <a:r>
              <a:rPr b="0" lang="ar-EG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الطاقة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that cells can use for work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30000"/>
              </a:lnSpc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Impact"/>
              </a:rPr>
              <a:t>Mitochondria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Impact"/>
              </a:rPr>
              <a:t> are the sites of cellular respiration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30000"/>
              </a:lnSpc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generating </a:t>
            </a:r>
            <a:r>
              <a:rPr b="0" lang="ar-EG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تـُنتِج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ATP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from the catabolism </a:t>
            </a:r>
            <a:r>
              <a:rPr b="0" lang="ar-EG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هدم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of sugars, fats, and other fuels </a:t>
            </a:r>
            <a:r>
              <a:rPr b="0" lang="ar-EG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مصادر</a:t>
            </a:r>
            <a:r>
              <a:rPr b="0" lang="ar-EG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طاقة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in the presence of oxygen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30000"/>
              </a:lnSpc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nstantia"/>
              </a:rPr>
              <a:t>Almost all eukaryotic cells have mitochondria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30000"/>
              </a:lnSpc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Mitochondria and chloroplasts are mobile and move around the cell along tracks in the cytoskeleton.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Rectangle 3"/>
          <p:cNvSpPr/>
          <p:nvPr/>
        </p:nvSpPr>
        <p:spPr>
          <a:xfrm>
            <a:off x="457200" y="228600"/>
            <a:ext cx="5715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Other Membranous Organelles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4"/>
          <p:cNvSpPr/>
          <p:nvPr/>
        </p:nvSpPr>
        <p:spPr>
          <a:xfrm>
            <a:off x="152280" y="83808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 txBox="1"/>
          <p:nvPr/>
        </p:nvSpPr>
        <p:spPr>
          <a:xfrm>
            <a:off x="76320" y="914400"/>
            <a:ext cx="9067680" cy="137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Constantia"/>
              </a:rPr>
              <a:t>Mitochondria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have a smooth outer membrane and a highly folded inner membrane forming </a:t>
            </a:r>
            <a:r>
              <a:rPr b="1" lang="en-US" sz="2000" spc="-1" strike="noStrike">
                <a:solidFill>
                  <a:srgbClr val="0000ff"/>
                </a:solidFill>
                <a:latin typeface="Constantia"/>
              </a:rPr>
              <a:t>cristae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نتوءات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he inner membrane encloses the </a:t>
            </a:r>
            <a:r>
              <a:rPr b="1" lang="en-US" sz="2000" spc="-1" strike="noStrike">
                <a:solidFill>
                  <a:srgbClr val="0000ff"/>
                </a:solidFill>
                <a:latin typeface="Constantia"/>
              </a:rPr>
              <a:t>mitochondrial matrix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, a fluid-filled space with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DNA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, ribosomes, and enzymes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7" name="Picture 3" descr=""/>
          <p:cNvPicPr/>
          <p:nvPr/>
        </p:nvPicPr>
        <p:blipFill>
          <a:blip r:embed="rId1"/>
          <a:srcRect l="0" t="0" r="0" b="6594"/>
          <a:stretch/>
        </p:blipFill>
        <p:spPr>
          <a:xfrm>
            <a:off x="1238400" y="2362320"/>
            <a:ext cx="6153120" cy="446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152280" y="1054080"/>
            <a:ext cx="8839440" cy="542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In the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nstantia"/>
              </a:rPr>
              <a:t>nucleolus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, ribosomal RNA (</a:t>
            </a:r>
            <a:r>
              <a:rPr b="1" lang="en-US" sz="2000" spc="-1" strike="noStrike">
                <a:solidFill>
                  <a:srgbClr val="ff3300"/>
                </a:solidFill>
                <a:latin typeface="Constantia"/>
              </a:rPr>
              <a:t>rRNA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) is synthesized and assembled with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proteins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from the cytoplasm to form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ribosomal subunits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he subunits pass from the nuclear pores to the cytoplasm where they combine to form </a:t>
            </a:r>
            <a:r>
              <a:rPr b="1" lang="en-US" sz="2000" spc="-1" strike="noStrike">
                <a:solidFill>
                  <a:srgbClr val="ff3300"/>
                </a:solidFill>
                <a:latin typeface="Constantia"/>
              </a:rPr>
              <a:t>ribosomes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nstantia"/>
              </a:rPr>
              <a:t>Cell types that synthesize large quantities of proteins (e.g., pancreas) have large numbers of ribosomes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3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Constantia"/>
              </a:rPr>
              <a:t>Types of Ribosomes:-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451"/>
              </a:spcBef>
              <a:buClr>
                <a:srgbClr val="ff0000"/>
              </a:buClr>
              <a:buSzPct val="95000"/>
              <a:buFont typeface="Constantia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Free ribosomes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are suspended </a:t>
            </a:r>
            <a:r>
              <a:rPr b="0" lang="ar-EG" sz="1600" spc="-1" strike="noStrike">
                <a:solidFill>
                  <a:srgbClr val="000000"/>
                </a:solidFill>
                <a:latin typeface="Constantia"/>
                <a:cs typeface="Majalla UI"/>
              </a:rPr>
              <a:t>معلق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in the cytosol and synthesize proteins that function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nstantia"/>
              </a:rPr>
              <a:t>within the cytosol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74"/>
              </a:spcBef>
              <a:buClr>
                <a:srgbClr val="ff0000"/>
              </a:buClr>
              <a:buSzPct val="95000"/>
              <a:buFont typeface="Constantia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451"/>
              </a:spcBef>
              <a:buClr>
                <a:srgbClr val="ff0000"/>
              </a:buClr>
              <a:buSzPct val="95000"/>
              <a:buFont typeface="Constantia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Bound ribosomes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are attached to </a:t>
            </a:r>
            <a:r>
              <a:rPr b="0" lang="ar-EG" sz="1600" spc="-1" strike="noStrike">
                <a:solidFill>
                  <a:srgbClr val="000000"/>
                </a:solidFill>
                <a:latin typeface="Constantia"/>
                <a:cs typeface="Majalla UI"/>
              </a:rPr>
              <a:t>ملتصق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ea typeface="Majalla UI"/>
              </a:rPr>
              <a:t> بـ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the outside of the endoplasmic reticulum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990720" indent="-533520">
              <a:spcBef>
                <a:spcPts val="451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These synthesize proteins that are either included into membranes or for secretion outside the cell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4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ACC0C-A055-4144-8F95-7FCA7D8E77F6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Text Box 2"/>
          <p:cNvSpPr/>
          <p:nvPr/>
        </p:nvSpPr>
        <p:spPr>
          <a:xfrm>
            <a:off x="533520" y="1066680"/>
            <a:ext cx="7772400" cy="6426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7030a0"/>
                </a:solidFill>
                <a:uFillTx/>
                <a:latin typeface="Arial"/>
              </a:rPr>
              <a:t>3- The Endomembran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3"/>
          <p:cNvSpPr/>
          <p:nvPr/>
        </p:nvSpPr>
        <p:spPr>
          <a:xfrm>
            <a:off x="228600" y="1887480"/>
            <a:ext cx="8763120" cy="470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5000"/>
              </a:lnSpc>
              <a:buClr>
                <a:srgbClr val="0000ff"/>
              </a:buClr>
              <a:buFont typeface="Arial"/>
              <a:buAutoNum type="alphaLcParenR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ndoplasmic reticulu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شبكة الإندوبلازمي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nufacturers membranes and performs many other biosynthetic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5000"/>
              </a:lnSpc>
              <a:buClr>
                <a:srgbClr val="0000ff"/>
              </a:buClr>
              <a:buFont typeface="Arial"/>
              <a:buAutoNum type="alphaLcParenR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5000"/>
              </a:lnSpc>
              <a:buClr>
                <a:srgbClr val="0000ff"/>
              </a:buClr>
              <a:buFont typeface="Arial"/>
              <a:buAutoNum type="alphaLcParenR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Golgi apparatu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جهاز جولـﭽـى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nishes, sorts, and ships cell produ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5000"/>
              </a:lnSpc>
              <a:buClr>
                <a:srgbClr val="0000ff"/>
              </a:buClr>
              <a:buFont typeface="Arial"/>
              <a:buAutoNum type="alphaLcParenR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5000"/>
              </a:lnSpc>
              <a:buClr>
                <a:srgbClr val="0000ff"/>
              </a:buClr>
              <a:buFont typeface="Arial"/>
              <a:buAutoNum type="alphaLcParenR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Lysosom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يسوزومات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digestive compart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5000"/>
              </a:lnSpc>
              <a:buClr>
                <a:srgbClr val="0000ff"/>
              </a:buClr>
              <a:buFont typeface="Arial"/>
              <a:buAutoNum type="alphaLcParenR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5000"/>
              </a:lnSpc>
              <a:buClr>
                <a:srgbClr val="0000ff"/>
              </a:buClr>
              <a:buFont typeface="Arial"/>
              <a:buAutoNum type="alphaLcParenR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Vacuol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فجوات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ve diverse functions in cell mainten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7" name="Group 2"/>
          <p:cNvGrpSpPr/>
          <p:nvPr/>
        </p:nvGrpSpPr>
        <p:grpSpPr>
          <a:xfrm>
            <a:off x="4676760" y="1295280"/>
            <a:ext cx="4467240" cy="5486400"/>
            <a:chOff x="4676760" y="1295280"/>
            <a:chExt cx="4467240" cy="5486400"/>
          </a:xfrm>
        </p:grpSpPr>
        <p:pic>
          <p:nvPicPr>
            <p:cNvPr id="208" name="Picture 3" descr=""/>
            <p:cNvPicPr/>
            <p:nvPr/>
          </p:nvPicPr>
          <p:blipFill>
            <a:blip r:embed="rId1"/>
            <a:srcRect l="0" t="0" r="0" b="3000"/>
            <a:stretch/>
          </p:blipFill>
          <p:spPr>
            <a:xfrm>
              <a:off x="4676760" y="1295280"/>
              <a:ext cx="446724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Line 4"/>
            <p:cNvSpPr/>
            <p:nvPr/>
          </p:nvSpPr>
          <p:spPr>
            <a:xfrm>
              <a:off x="5943600" y="4952880"/>
              <a:ext cx="0" cy="53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Line 5"/>
            <p:cNvSpPr/>
            <p:nvPr/>
          </p:nvSpPr>
          <p:spPr>
            <a:xfrm>
              <a:off x="8001000" y="4952880"/>
              <a:ext cx="0" cy="53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80520" y="838080"/>
            <a:ext cx="541044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ff"/>
                </a:solidFill>
                <a:latin typeface="Calibri"/>
              </a:rPr>
              <a:t>A)-</a:t>
            </a:r>
            <a:r>
              <a:rPr b="1" lang="en-US" sz="25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1" lang="en-US" sz="2500" spc="-1" strike="noStrike">
                <a:solidFill>
                  <a:srgbClr val="0000ff"/>
                </a:solidFill>
                <a:latin typeface="Calibri"/>
              </a:rPr>
              <a:t>The endoplasmic reticulum (</a:t>
            </a:r>
            <a:r>
              <a:rPr b="1" lang="en-US" sz="2500" spc="-1" strike="noStrike">
                <a:solidFill>
                  <a:srgbClr val="ff0000"/>
                </a:solidFill>
                <a:latin typeface="Calibri"/>
              </a:rPr>
              <a:t>ER</a:t>
            </a:r>
            <a:r>
              <a:rPr b="1" lang="en-US" sz="2500" spc="-1" strike="noStrike">
                <a:solidFill>
                  <a:srgbClr val="0000ff"/>
                </a:solidFill>
                <a:latin typeface="Calibri"/>
              </a:rPr>
              <a:t>)</a:t>
            </a:r>
            <a:br>
              <a:rPr sz="2200"/>
            </a:br>
            <a:r>
              <a:rPr b="1" lang="en-US" sz="2200" spc="-1" strike="noStrike">
                <a:solidFill>
                  <a:srgbClr val="0000ff"/>
                </a:solidFill>
                <a:latin typeface="Calibri"/>
              </a:rPr>
              <a:t> </a:t>
            </a:r>
            <a:br>
              <a:rPr sz="1400"/>
            </a:br>
            <a:r>
              <a:rPr b="1" lang="en-US" sz="2200" spc="-1" strike="noStrike">
                <a:solidFill>
                  <a:srgbClr val="04617b"/>
                </a:solidFill>
                <a:latin typeface="Calibri"/>
              </a:rPr>
              <a:t>manufacturers membranes and performs many other biosynthetic functions</a:t>
            </a:r>
            <a:endParaRPr b="0" lang="en-US" sz="2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75960" y="2703240"/>
            <a:ext cx="472428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The 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ER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includes membranous tubul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3360" indent="-60336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There are two types of 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ER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that differ in structure and function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3360" indent="-603360"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onstantia"/>
            </a:endParaRPr>
          </a:p>
          <a:p>
            <a:pPr lvl="1" marL="980640" indent="-52812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SzPct val="85000"/>
              <a:buFont typeface="Constantia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ff"/>
                </a:solidFill>
                <a:uFillTx/>
                <a:latin typeface="Constantia"/>
              </a:rPr>
              <a:t>Smooth ER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looks smooth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ناعمة</a:t>
            </a:r>
            <a:r>
              <a:rPr b="1" lang="ar-EG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because it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nstantia"/>
              </a:rPr>
              <a:t>lacks ribosomes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980640" indent="-52812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SzPct val="85000"/>
              <a:buFont typeface="Constantia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ff"/>
                </a:solidFill>
                <a:uFillTx/>
                <a:latin typeface="Constantia"/>
              </a:rPr>
              <a:t>Rough ER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looks rough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خشنة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because ribosomes (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bound ribosomes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) are attached to 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its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outside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3" name="Line 8"/>
          <p:cNvSpPr/>
          <p:nvPr/>
        </p:nvSpPr>
        <p:spPr>
          <a:xfrm>
            <a:off x="228600" y="121932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304920" y="1023480"/>
            <a:ext cx="8610480" cy="662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Constantia"/>
              </a:rPr>
              <a:t>The smooth ER: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ar-EG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الشبكة الإندوبلازمية الناعمة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- It is rich in enzymes and plays a role in metabolic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  process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- Its enzymes synthesize lipids </a:t>
            </a:r>
            <a:r>
              <a:rPr b="0" lang="ar-EG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دهون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(oils, phospholipids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  and steroids) including the sex hormones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الهرمونات الجنسية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-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Extensive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توجد بكثرة</a:t>
            </a: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n the 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Constantia"/>
              </a:rPr>
              <a:t>liver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, it helps detoxify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إبطال الأثر السام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drugs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المخدرات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and poisons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السموم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3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Constantia"/>
              </a:rPr>
              <a:t>The rough ER:</a:t>
            </a:r>
            <a:r>
              <a:rPr b="1" lang="ar-EG" sz="2400" spc="-1" strike="noStrike">
                <a:solidFill>
                  <a:srgbClr val="ff0000"/>
                </a:solidFill>
                <a:latin typeface="Constantia"/>
                <a:ea typeface="Majalla UI"/>
              </a:rPr>
              <a:t> </a:t>
            </a:r>
            <a:r>
              <a:rPr b="1" lang="ar-EG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الشبكة الإندوبلازمية الخشنة</a:t>
            </a:r>
            <a:r>
              <a:rPr b="1" lang="ar-EG" sz="2400" spc="-1" strike="noStrike">
                <a:solidFill>
                  <a:srgbClr val="ff0000"/>
                </a:solidFill>
                <a:latin typeface="Constantia"/>
                <a:ea typeface="Majalla U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- is especially abundant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متوفرة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in those cells that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 secrete proteins as it contains ribosom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- These secretory proteins are packaged in transport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 vesicles that carry them to their next stag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371600" y="838080"/>
            <a:ext cx="72388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ff"/>
                </a:solidFill>
                <a:latin typeface="Calibri"/>
              </a:rPr>
              <a:t>B)- Golgi apparatus: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200"/>
            </a:b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finishes, sorts </a:t>
            </a:r>
            <a:r>
              <a:rPr b="0" lang="ar-EG" sz="1800" spc="-1" strike="noStrike">
                <a:solidFill>
                  <a:srgbClr val="000000"/>
                </a:solidFill>
                <a:latin typeface="Calibri"/>
                <a:cs typeface="Traditional Arabic"/>
              </a:rPr>
              <a:t>تـُجَهز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 packaging and ships </a:t>
            </a:r>
            <a:r>
              <a:rPr b="0" lang="ar-EG" sz="1800" spc="-1" strike="noStrike">
                <a:solidFill>
                  <a:srgbClr val="000000"/>
                </a:solidFill>
                <a:latin typeface="Calibri"/>
                <a:cs typeface="Traditional Arabic"/>
              </a:rPr>
              <a:t>تغلف وتنقل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ell products</a:t>
            </a:r>
            <a:endParaRPr b="0" lang="en-US" sz="1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51920" y="2028960"/>
            <a:ext cx="8915400" cy="46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Many transport vesicles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أوعية ناقلة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from the ER travel to the Golgi apparatus for modification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تطوير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of their content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3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The Golgi function is manufacturing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تصنيع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, warehousing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تغليف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, sorting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تـَجْهيز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(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Packaging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, and shipping </a:t>
            </a:r>
            <a:r>
              <a:rPr b="0" lang="ar-EG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نقل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materials to outside the cell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224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The Golgi apparatus is especially extensive in cells 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Constantia"/>
              </a:rPr>
              <a:t>specialized for secretion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خلايا إفرازية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The Golgi also manufactures pectin and polysaccharid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7" name="Line 4"/>
          <p:cNvSpPr/>
          <p:nvPr/>
        </p:nvSpPr>
        <p:spPr>
          <a:xfrm>
            <a:off x="152280" y="137160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8" name="Group 3"/>
          <p:cNvGrpSpPr/>
          <p:nvPr/>
        </p:nvGrpSpPr>
        <p:grpSpPr>
          <a:xfrm>
            <a:off x="152280" y="457200"/>
            <a:ext cx="8839440" cy="6248520"/>
            <a:chOff x="152280" y="457200"/>
            <a:chExt cx="8839440" cy="6248520"/>
          </a:xfrm>
        </p:grpSpPr>
        <p:pic>
          <p:nvPicPr>
            <p:cNvPr id="219" name="Picture 4" descr=""/>
            <p:cNvPicPr/>
            <p:nvPr/>
          </p:nvPicPr>
          <p:blipFill>
            <a:blip r:embed="rId1"/>
            <a:srcRect l="0" t="0" r="0" b="10164"/>
            <a:stretch/>
          </p:blipFill>
          <p:spPr>
            <a:xfrm>
              <a:off x="152280" y="457200"/>
              <a:ext cx="8839440" cy="624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0" name="Text Box 5"/>
            <p:cNvSpPr/>
            <p:nvPr/>
          </p:nvSpPr>
          <p:spPr>
            <a:xfrm>
              <a:off x="3086280" y="3936960"/>
              <a:ext cx="9144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1600" spc="-1" strike="noStrike">
                  <a:solidFill>
                    <a:srgbClr val="0000ff"/>
                  </a:solidFill>
                  <a:latin typeface="Arial"/>
                </a:rPr>
                <a:t>وعاء ناق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533520"/>
            <a:ext cx="73152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C)- Lysosomes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ar-EG" sz="2400" spc="-1" strike="noStrike">
                <a:solidFill>
                  <a:srgbClr val="000000"/>
                </a:solidFill>
                <a:latin typeface="Calibri"/>
                <a:cs typeface="Traditional Arabic"/>
              </a:rPr>
              <a:t>الأجسام المُحللة</a:t>
            </a:r>
            <a:r>
              <a:rPr b="1" lang="ar-EG" sz="3200" spc="-1" strike="noStrike">
                <a:solidFill>
                  <a:srgbClr val="ff0000"/>
                </a:solidFill>
                <a:latin typeface="Calibri"/>
                <a:ea typeface="Traditional Arabic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are digestive component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228600" y="1279080"/>
            <a:ext cx="8686800" cy="70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he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lysosome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is a membrane-bounded sac </a:t>
            </a:r>
            <a:r>
              <a:rPr b="1" lang="ar-EG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كيس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of enzymes that digests macromolecule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3" name="Line 4"/>
          <p:cNvSpPr/>
          <p:nvPr/>
        </p:nvSpPr>
        <p:spPr>
          <a:xfrm>
            <a:off x="152280" y="83808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5" descr=""/>
          <p:cNvPicPr/>
          <p:nvPr/>
        </p:nvPicPr>
        <p:blipFill>
          <a:blip r:embed="rId1"/>
          <a:srcRect l="0" t="6939" r="35742" b="6358"/>
          <a:stretch/>
        </p:blipFill>
        <p:spPr>
          <a:xfrm>
            <a:off x="0" y="1935000"/>
            <a:ext cx="9144000" cy="4923000"/>
          </a:xfrm>
          <a:prstGeom prst="rect">
            <a:avLst/>
          </a:prstGeom>
          <a:ln w="0">
            <a:noFill/>
          </a:ln>
        </p:spPr>
      </p:pic>
      <p:sp>
        <p:nvSpPr>
          <p:cNvPr id="225" name="Rectangle 7"/>
          <p:cNvSpPr/>
          <p:nvPr/>
        </p:nvSpPr>
        <p:spPr>
          <a:xfrm>
            <a:off x="7238880" y="4572000"/>
            <a:ext cx="83844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228240" y="2007720"/>
            <a:ext cx="8534520" cy="505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Lysosomal enzymes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nstantia"/>
              </a:rPr>
              <a:t>work best at </a:t>
            </a:r>
            <a:r>
              <a:rPr b="1" lang="en-US" sz="1800" spc="-1" strike="noStrike" u="sng">
                <a:solidFill>
                  <a:srgbClr val="0000ff"/>
                </a:solidFill>
                <a:uFillTx/>
                <a:latin typeface="Constantia"/>
              </a:rPr>
              <a:t>pH = 5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nstantia"/>
              </a:rPr>
              <a:t> (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Constantia"/>
              </a:rPr>
              <a:t>acidic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nstantia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457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457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The </a:t>
            </a: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lysosomal enzymes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are synthesized by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nstantia"/>
              </a:rPr>
              <a:t>rough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nstantia"/>
              </a:rPr>
              <a:t>ER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and then transferred to </a:t>
            </a:r>
            <a:r>
              <a:rPr b="1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تنقل إلى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the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nstantia"/>
              </a:rPr>
              <a:t>Golgi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then to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nstantia"/>
              </a:rPr>
              <a:t>lysosomes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457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Constantia"/>
              </a:rPr>
              <a:t>Function of Lysozomal enzyme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457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45720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SzPct val="95000"/>
              <a:buFont typeface="Constantia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They hydrolyse </a:t>
            </a:r>
            <a:r>
              <a:rPr b="1" lang="ar-EG" sz="18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ar-EG" sz="1400" spc="-1" strike="noStrike">
                <a:solidFill>
                  <a:srgbClr val="000000"/>
                </a:solidFill>
                <a:latin typeface="Constantia"/>
                <a:cs typeface="Majalla UI"/>
              </a:rPr>
              <a:t>يحلل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proteins, fats, polysaccharides, and nucleic acids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45720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SzPct val="95000"/>
              <a:buFont typeface="Constantia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Can destroy the cell by autodigestion (</a:t>
            </a: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autophagy) </a:t>
            </a:r>
            <a:r>
              <a:rPr b="0" lang="ar-EG" sz="1400" spc="-1" strike="noStrike">
                <a:solidFill>
                  <a:srgbClr val="000000"/>
                </a:solidFill>
                <a:latin typeface="Constantia"/>
                <a:cs typeface="Majalla UI"/>
              </a:rPr>
              <a:t>الهضم الذاتى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45720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SzPct val="95000"/>
              <a:buFont typeface="Constantia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Can fuse with food vacuoles </a:t>
            </a:r>
            <a:r>
              <a:rPr b="0" lang="ar-EG" sz="1400" spc="-1" strike="noStrike">
                <a:solidFill>
                  <a:srgbClr val="000000"/>
                </a:solidFill>
                <a:latin typeface="Constantia"/>
                <a:cs typeface="Majalla UI"/>
              </a:rPr>
              <a:t>الفحجوة الغذائية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to digest food, (when a food item is brought into the cell by phagocytosis)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45720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SzPct val="95000"/>
              <a:buFont typeface="Constantia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Can also fuse with another organelle or part of the cytosol. This process of </a:t>
            </a:r>
            <a:r>
              <a:rPr b="1" i="1" lang="en-US" sz="1800" spc="-1" strike="noStrike">
                <a:solidFill>
                  <a:srgbClr val="0000ff"/>
                </a:solidFill>
                <a:latin typeface="Constantia"/>
              </a:rPr>
              <a:t>autophagy</a:t>
            </a:r>
            <a:r>
              <a:rPr b="1" i="1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called </a:t>
            </a:r>
            <a:r>
              <a:rPr b="1" lang="en-US" sz="1800" spc="-1" strike="noStrike">
                <a:solidFill>
                  <a:srgbClr val="ff0000"/>
                </a:solidFill>
                <a:latin typeface="Constantia"/>
              </a:rPr>
              <a:t>recycling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which renews the cell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7" name="Text Box 3"/>
          <p:cNvSpPr/>
          <p:nvPr/>
        </p:nvSpPr>
        <p:spPr>
          <a:xfrm>
            <a:off x="1676520" y="1081080"/>
            <a:ext cx="495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Lysozomal enzy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4"/>
          <p:cNvSpPr/>
          <p:nvPr/>
        </p:nvSpPr>
        <p:spPr>
          <a:xfrm>
            <a:off x="152280" y="76212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04T05:47:50Z</dcterms:created>
  <dc:creator>User</dc:creator>
  <dc:description/>
  <dc:language>en-US</dc:language>
  <cp:lastModifiedBy>د أشرف مشالي</cp:lastModifiedBy>
  <dcterms:modified xsi:type="dcterms:W3CDTF">2013-09-01T08:09:56Z</dcterms:modified>
  <cp:revision>8</cp:revision>
  <dc:subject/>
  <dc:title>Slide 1</dc:title>
</cp:coreProperties>
</file>