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4.png" ContentType="image/png"/>
  <Override PartName="/ppt/media/image9.png" ContentType="image/png"/>
  <Override PartName="/ppt/media/image1.jpeg" ContentType="image/jpe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5.png" ContentType="image/png"/>
  <Override PartName="/ppt/media/image8.jpeg" ContentType="image/jpeg"/>
  <Override PartName="/ppt/media/image1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EF32-DCF3-4859-AAC3-1A6D612C6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0009-FFC7-4310-90AB-240DF2B0E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8210-0F99-4E44-AF61-96CF9968A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0812-0539-4E97-92F6-5F4C507F0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95D1F-07CE-434E-8A87-45DCBD333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1AA4B-5E3D-4C4D-B22A-A62028C7F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AFF1E-058C-4296-8C77-2870C22D2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6EFDB-7280-4938-9E34-19300B4C1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39EB6-25B4-44E1-9892-A70E9EDE6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54BBC-4FC2-4185-9BC1-984F7BE86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3FDBA-4291-4F86-A646-D4BF54AEE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EA7B-5F24-4D70-9B66-E7386EC92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1C1C5-2DE0-4273-8265-240ADE729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47BA7-E5FB-498A-A7C9-4434BE68F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65047-BE23-42D0-A3B1-F09CAE1F1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52F84-4BB5-40F9-8C77-9857E68AA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4634A-53C5-45D4-B2A1-C485B5C92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66D367-248F-45F1-A5A7-4A699DC29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410640-0F5C-448B-99CA-D8A0D8055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B84AED-53EE-420E-B5C6-3571CEEC9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A61F5A-25C6-4D9D-BD00-E68EEFBC8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081C8B-DD87-4117-8038-9A0685A3C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3CE5-44EE-4689-A32D-A296B97FE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78AA6A-B2F1-4E70-8E19-4866DCBBB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3EB20F-FB39-4E2B-A890-E9A16F1F5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4028C6-BD50-4995-AE65-E56345861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D91DA3-7EEC-4B52-99E1-4C2EABACD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4A7ACC-2AD7-461C-9E24-3B6A237B7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36DB3D-FF72-4200-9D74-9DEA66ED9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6DB399-6746-450E-8EDF-328FD9880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424EFB-A4CB-4A81-9B9E-FC9DD85C0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2648EE-D65E-4298-8AB6-54F87318E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B46EED-BD87-4505-9C01-EA38F9646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6BAD-8D74-4CA5-9D19-CD6DB7A91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3432C9-1720-4D0B-982C-27EC97A5B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D30524-D327-4EC5-B5C8-4F30F6929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01AA31-80B6-4009-BAB3-B92DDC7F4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16A6CF-5D9A-456B-82B1-DF11B4D08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A7D882-4760-4FAC-A466-FCA03F4A5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DAD74C-D4AF-4E81-85A3-E494BA95F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3E2E36-A816-41ED-A982-688DDBD64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937E5A-8974-4D33-8EC6-F58B1FE06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405EB4-5751-4C9E-B8FE-43B9B8AD4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166A-D211-4008-9B0B-85B0C2020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1A15-F502-44AF-80C5-8A41F84A1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BE56-D96D-4C4B-A3FA-4CA4E6A30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6FEA-B1A3-46CD-B0ED-75FFEC456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F3D1-004C-411B-834D-91827C5BC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BA5CE-4874-422C-A168-14C3A5BB77B2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0A33D-094F-40CE-BF7B-E43E8E62EDE7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63BAD-964E-4FFF-90FF-CF5EE7F9A673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3EBC6-F33A-4525-B902-D7E1701F4367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746784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2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Ribosomes:     </a:t>
            </a:r>
            <a:r>
              <a:rPr b="1" lang="en-US" sz="2000" spc="-1" strike="noStrike">
                <a:solidFill>
                  <a:srgbClr val="0000ff"/>
                </a:solidFill>
                <a:latin typeface="Calibri"/>
              </a:rPr>
              <a:t>build the cell’s protein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Line 5"/>
          <p:cNvSpPr/>
          <p:nvPr/>
        </p:nvSpPr>
        <p:spPr>
          <a:xfrm>
            <a:off x="152280" y="10666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10"/>
          <p:cNvGrpSpPr/>
          <p:nvPr/>
        </p:nvGrpSpPr>
        <p:grpSpPr>
          <a:xfrm>
            <a:off x="76320" y="2971800"/>
            <a:ext cx="8839080" cy="3809880"/>
            <a:chOff x="76320" y="2971800"/>
            <a:chExt cx="8839080" cy="3809880"/>
          </a:xfrm>
        </p:grpSpPr>
        <p:pic>
          <p:nvPicPr>
            <p:cNvPr id="198" name="Picture 6" descr=""/>
            <p:cNvPicPr/>
            <p:nvPr/>
          </p:nvPicPr>
          <p:blipFill>
            <a:blip r:embed="rId1"/>
            <a:srcRect l="0" t="0" r="0" b="8186"/>
            <a:stretch/>
          </p:blipFill>
          <p:spPr>
            <a:xfrm>
              <a:off x="76320" y="2971800"/>
              <a:ext cx="8839080" cy="38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Text Box 8"/>
            <p:cNvSpPr/>
            <p:nvPr/>
          </p:nvSpPr>
          <p:spPr>
            <a:xfrm>
              <a:off x="5331960" y="5096160"/>
              <a:ext cx="749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800" spc="-1" strike="noStrike">
                  <a:solidFill>
                    <a:srgbClr val="ff0000"/>
                  </a:solidFill>
                  <a:latin typeface="Arial"/>
                </a:rPr>
                <a:t>مرتبط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 Box 9"/>
            <p:cNvSpPr/>
            <p:nvPr/>
          </p:nvSpPr>
          <p:spPr>
            <a:xfrm>
              <a:off x="5169960" y="4583520"/>
              <a:ext cx="599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800" spc="-1" strike="noStrike">
                  <a:solidFill>
                    <a:srgbClr val="ff0000"/>
                  </a:solidFill>
                  <a:latin typeface="Arial"/>
                </a:rPr>
                <a:t>حر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"/>
          <p:cNvSpPr txBox="1"/>
          <p:nvPr/>
        </p:nvSpPr>
        <p:spPr>
          <a:xfrm>
            <a:off x="152280" y="2133360"/>
            <a:ext cx="8686800" cy="106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Ribosomes contain 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rRNA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and protein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A ribosome is composed of two subunit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وحدتين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at combine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تتحد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o carry out protein synthesi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تخليق البروتين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Text Box 2"/>
          <p:cNvSpPr/>
          <p:nvPr/>
        </p:nvSpPr>
        <p:spPr>
          <a:xfrm>
            <a:off x="1447920" y="142920"/>
            <a:ext cx="6629400" cy="916920"/>
          </a:xfrm>
          <a:prstGeom prst="rect">
            <a:avLst/>
          </a:prstGeom>
          <a:solidFill>
            <a:srgbClr val="009dd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0000"/>
                </a:solidFill>
                <a:latin typeface="Copperplate Gothic Bold"/>
              </a:rPr>
              <a:t>Lecture 4: The Cel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2" descr=""/>
          <p:cNvPicPr/>
          <p:nvPr/>
        </p:nvPicPr>
        <p:blipFill>
          <a:blip r:embed="rId1"/>
          <a:srcRect l="0" t="0" r="0" b="3080"/>
          <a:stretch/>
        </p:blipFill>
        <p:spPr>
          <a:xfrm>
            <a:off x="977760" y="762120"/>
            <a:ext cx="7053480" cy="609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33160" y="1142640"/>
            <a:ext cx="87627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D)- Vacuoles: </a:t>
            </a:r>
            <a:r>
              <a:rPr b="0" lang="ar-EG" sz="25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الفجوات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500"/>
            </a:br>
            <a:br>
              <a:rPr sz="2000"/>
            </a:b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ave diverse functions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  <a:cs typeface="Traditional Arabic"/>
              </a:rPr>
              <a:t>وظائف متنوعة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 cell maintenance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  <a:cs typeface="Traditional Arabic"/>
              </a:rPr>
              <a:t>للحفاظ على الخلية</a:t>
            </a:r>
            <a:endParaRPr b="0" lang="en-US" sz="1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75960" y="2717280"/>
            <a:ext cx="8915400" cy="406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4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Vesicle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أوعـية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and vacuole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فجوات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are membrane-bound sac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أكياس ذات أغشية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with varied function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6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990720" indent="-533520">
              <a:spcBef>
                <a:spcPts val="451"/>
              </a:spcBef>
              <a:buClr>
                <a:srgbClr val="339933"/>
              </a:buClr>
              <a:buSzPct val="85000"/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Food vacuole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فجوة غذائية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, from phagocytosis, fuse with lysosome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990720" indent="-533520">
              <a:spcBef>
                <a:spcPts val="451"/>
              </a:spcBef>
              <a:buClr>
                <a:srgbClr val="339933"/>
              </a:buClr>
              <a:buSzPct val="85000"/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990720" indent="-533520">
              <a:spcBef>
                <a:spcPts val="451"/>
              </a:spcBef>
              <a:buClr>
                <a:srgbClr val="339933"/>
              </a:buClr>
              <a:buSzPct val="85000"/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Contractile vacuole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فجوة منقبضة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, found in freshwater protists, pump excess water out of the cell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990720" indent="-533520">
              <a:spcBef>
                <a:spcPts val="451"/>
              </a:spcBef>
              <a:buClr>
                <a:srgbClr val="339933"/>
              </a:buClr>
              <a:buSzPct val="85000"/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990720" indent="-533520">
              <a:spcBef>
                <a:spcPts val="451"/>
              </a:spcBef>
              <a:buClr>
                <a:srgbClr val="339933"/>
              </a:buClr>
              <a:buSzPct val="85000"/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Central vacuoles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فجوة مركزية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are found in many mature plant cell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Line 4"/>
          <p:cNvSpPr/>
          <p:nvPr/>
        </p:nvSpPr>
        <p:spPr>
          <a:xfrm>
            <a:off x="152280" y="12952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3"/>
          <p:cNvGrpSpPr/>
          <p:nvPr/>
        </p:nvGrpSpPr>
        <p:grpSpPr>
          <a:xfrm>
            <a:off x="152280" y="701640"/>
            <a:ext cx="8839080" cy="6003720"/>
            <a:chOff x="152280" y="701640"/>
            <a:chExt cx="8839080" cy="6003720"/>
          </a:xfrm>
        </p:grpSpPr>
        <p:pic>
          <p:nvPicPr>
            <p:cNvPr id="234" name="Picture 4" descr=""/>
            <p:cNvPicPr/>
            <p:nvPr/>
          </p:nvPicPr>
          <p:blipFill>
            <a:blip r:embed="rId1"/>
            <a:srcRect l="0" t="0" r="0" b="3000"/>
            <a:stretch/>
          </p:blipFill>
          <p:spPr>
            <a:xfrm>
              <a:off x="152280" y="1767600"/>
              <a:ext cx="5745600" cy="493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Text Box 5"/>
            <p:cNvSpPr/>
            <p:nvPr/>
          </p:nvSpPr>
          <p:spPr>
            <a:xfrm>
              <a:off x="2877840" y="2339640"/>
              <a:ext cx="1388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EG" sz="1800" spc="-1" strike="noStrike">
                  <a:solidFill>
                    <a:srgbClr val="000000"/>
                  </a:solidFill>
                  <a:latin typeface="Arial"/>
                </a:rPr>
                <a:t>الفجوة المركذي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6" name="Picture 6" descr=""/>
            <p:cNvPicPr/>
            <p:nvPr/>
          </p:nvPicPr>
          <p:blipFill>
            <a:blip r:embed="rId2"/>
            <a:srcRect l="0" t="0" r="0" b="3357"/>
            <a:stretch/>
          </p:blipFill>
          <p:spPr>
            <a:xfrm>
              <a:off x="4645440" y="701640"/>
              <a:ext cx="4345920" cy="336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Text Box 7"/>
            <p:cNvSpPr/>
            <p:nvPr/>
          </p:nvSpPr>
          <p:spPr>
            <a:xfrm>
              <a:off x="299160" y="1261800"/>
              <a:ext cx="1388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0000ff"/>
                  </a:solidFill>
                  <a:latin typeface="Arial"/>
                </a:rPr>
                <a:t>خلية نباتي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Text Box 8"/>
            <p:cNvSpPr/>
            <p:nvPr/>
          </p:nvSpPr>
          <p:spPr>
            <a:xfrm>
              <a:off x="7297560" y="3992760"/>
              <a:ext cx="1535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0000ff"/>
                  </a:solidFill>
                  <a:latin typeface="Arial"/>
                </a:rPr>
                <a:t>خلية حيواني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5181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Calibri"/>
              </a:rPr>
              <a:t>Other Membranous Organelles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6320" y="1370160"/>
            <a:ext cx="8686800" cy="565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Constantia"/>
              </a:rPr>
              <a:t>A)- Peroxisomes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contain enzymes that transfer hydrogen from various substrates to oxyge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Functions of peroxisom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1-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Hydrogen peroxide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(H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Constantia"/>
              </a:rPr>
              <a:t>2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O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Constanti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) is a poison,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but th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peroxisome has enzyme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that converts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nstantia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nstantia"/>
              </a:rPr>
              <a:t>2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 to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Constantia"/>
              </a:rPr>
              <a:t>water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2-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Some peroxisomes break fatty acids down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o smaller molecules that are transported to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mitochondria for fuel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لإنتاج الطاقة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3-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They detoxify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يبطل المفعول السُّمى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lcohol and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other harmful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compounds. Thus, it exists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extensively in the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Constantia"/>
              </a:rPr>
              <a:t>liver cells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Line 4"/>
          <p:cNvSpPr/>
          <p:nvPr/>
        </p:nvSpPr>
        <p:spPr>
          <a:xfrm>
            <a:off x="152280" y="8380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5" descr=""/>
          <p:cNvPicPr/>
          <p:nvPr/>
        </p:nvPicPr>
        <p:blipFill>
          <a:blip r:embed="rId1"/>
          <a:srcRect l="0" t="0" r="0" b="4072"/>
          <a:stretch/>
        </p:blipFill>
        <p:spPr>
          <a:xfrm>
            <a:off x="5283360" y="2513160"/>
            <a:ext cx="3708360" cy="327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228600" y="1066680"/>
            <a:ext cx="8686800" cy="61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Constantia"/>
              </a:rPr>
              <a:t>B)-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Constantia"/>
              </a:rPr>
              <a:t>Mitochondria</a:t>
            </a:r>
            <a:r>
              <a:rPr b="1" lang="en-GB" sz="2800" spc="-1" strike="noStrike" u="sng">
                <a:solidFill>
                  <a:srgbClr val="0000ff"/>
                </a:solidFill>
                <a:uFillTx/>
                <a:latin typeface="Constantia"/>
              </a:rPr>
              <a:t>:</a:t>
            </a:r>
            <a:br>
              <a:rPr sz="3600"/>
            </a:b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y are the main energy transformers of cells a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s they convert energy to fuel </a:t>
            </a:r>
            <a:r>
              <a:rPr b="0" lang="ar-EG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الطاقة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at cells can use for work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3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Impact"/>
              </a:rPr>
              <a:t>Mitochondria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Impact"/>
              </a:rPr>
              <a:t> are the sites of cellular respiration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3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generating </a:t>
            </a:r>
            <a:r>
              <a:rPr b="0" lang="ar-EG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تـُنتِج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ATP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from the catabolism </a:t>
            </a:r>
            <a:r>
              <a:rPr b="0" lang="ar-EG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هدم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of sugars, fats, and other fuels </a:t>
            </a:r>
            <a:r>
              <a:rPr b="0" lang="ar-EG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مصادر</a:t>
            </a:r>
            <a:r>
              <a:rPr b="0" lang="ar-EG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طاقة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in the presence of oxyge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3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Almost all eukaryotic cells have mitochondria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3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Mitochondria and chloroplasts are mobile and move around the cell along tracks in the cytoskeleton.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Rectangle 3"/>
          <p:cNvSpPr/>
          <p:nvPr/>
        </p:nvSpPr>
        <p:spPr>
          <a:xfrm>
            <a:off x="457200" y="228600"/>
            <a:ext cx="5715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Other Membranous Organelles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4"/>
          <p:cNvSpPr/>
          <p:nvPr/>
        </p:nvSpPr>
        <p:spPr>
          <a:xfrm>
            <a:off x="152280" y="8380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76320" y="914400"/>
            <a:ext cx="9067680" cy="137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onstantia"/>
              </a:rPr>
              <a:t>Mitochondria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have a smooth outer membrane and a highly folded inner membrane forming </a:t>
            </a: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cristae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نتوءات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 inner membrane encloses the </a:t>
            </a: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mitochondrial matrix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, a fluid-filled space with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DNA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, ribosomes, and enzymes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7" name="Picture 3" descr=""/>
          <p:cNvPicPr/>
          <p:nvPr/>
        </p:nvPicPr>
        <p:blipFill>
          <a:blip r:embed="rId1"/>
          <a:srcRect l="0" t="0" r="0" b="6594"/>
          <a:stretch/>
        </p:blipFill>
        <p:spPr>
          <a:xfrm>
            <a:off x="1238400" y="2362320"/>
            <a:ext cx="6153120" cy="446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152280" y="1054080"/>
            <a:ext cx="8839440" cy="542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In th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nstantia"/>
              </a:rPr>
              <a:t>nucleolus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, ribosomal RNA (</a:t>
            </a:r>
            <a:r>
              <a:rPr b="1" lang="en-US" sz="2000" spc="-1" strike="noStrike">
                <a:solidFill>
                  <a:srgbClr val="ff3300"/>
                </a:solidFill>
                <a:latin typeface="Constantia"/>
              </a:rPr>
              <a:t>rRNA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) is synthesized and assembled with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proteins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from the cytoplasm to form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ribosomal subunits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 subunits pass from the nuclear pores to the cytoplasm where they combine to form </a:t>
            </a:r>
            <a:r>
              <a:rPr b="1" lang="en-US" sz="2000" spc="-1" strike="noStrike">
                <a:solidFill>
                  <a:srgbClr val="ff3300"/>
                </a:solidFill>
                <a:latin typeface="Constantia"/>
              </a:rPr>
              <a:t>ribosomes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Cell types that synthesize large quantities of proteins (e.g., pancreas) have large numbers of ribosomes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3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onstantia"/>
              </a:rPr>
              <a:t>Types of Ribosomes:-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451"/>
              </a:spcBef>
              <a:buClr>
                <a:srgbClr val="ff0000"/>
              </a:buClr>
              <a:buSzPct val="95000"/>
              <a:buFont typeface="Constantia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Free ribosomes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are suspended </a:t>
            </a:r>
            <a:r>
              <a:rPr b="0" lang="ar-EG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معلق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in the cytosol and synthesize proteins that function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within the cytosol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74"/>
              </a:spcBef>
              <a:buClr>
                <a:srgbClr val="ff0000"/>
              </a:buClr>
              <a:buSzPct val="95000"/>
              <a:buFont typeface="Constantia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451"/>
              </a:spcBef>
              <a:buClr>
                <a:srgbClr val="ff0000"/>
              </a:buClr>
              <a:buSzPct val="95000"/>
              <a:buFont typeface="Constantia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Bound ribosomes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are attached to </a:t>
            </a:r>
            <a:r>
              <a:rPr b="0" lang="ar-EG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ملتصق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بـ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the outside of the endoplasmic reticulum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990720" indent="-533520">
              <a:spcBef>
                <a:spcPts val="45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These synthesize proteins that are either included into membranes or for secretion outside the cell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4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6FF6D-6178-4A8B-8BC4-DF9B3B8583A8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2"/>
          <p:cNvSpPr/>
          <p:nvPr/>
        </p:nvSpPr>
        <p:spPr>
          <a:xfrm>
            <a:off x="533520" y="1066680"/>
            <a:ext cx="7772400" cy="642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7030a0"/>
                </a:solidFill>
                <a:uFillTx/>
                <a:latin typeface="Arial"/>
              </a:rPr>
              <a:t>3- The Endomembran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3"/>
          <p:cNvSpPr/>
          <p:nvPr/>
        </p:nvSpPr>
        <p:spPr>
          <a:xfrm>
            <a:off x="228600" y="1887480"/>
            <a:ext cx="8763120" cy="470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5000"/>
              </a:lnSpc>
              <a:buClr>
                <a:srgbClr val="0000ff"/>
              </a:buClr>
              <a:buFont typeface="Arial"/>
              <a:buAutoNum type="alphaLcParenR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ndoplasmic reticulu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شبكة الإندوبلازمي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ufacturers membranes and performs many other biosynthetic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5000"/>
              </a:lnSpc>
              <a:buClr>
                <a:srgbClr val="0000ff"/>
              </a:buClr>
              <a:buFont typeface="Arial"/>
              <a:buAutoNum type="alphaLcParenR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5000"/>
              </a:lnSpc>
              <a:buClr>
                <a:srgbClr val="0000ff"/>
              </a:buClr>
              <a:buFont typeface="Arial"/>
              <a:buAutoNum type="alphaLcParenR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Golgi apparatu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جهاز جولـﭽـ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ishes, sorts, and ships cell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5000"/>
              </a:lnSpc>
              <a:buClr>
                <a:srgbClr val="0000ff"/>
              </a:buClr>
              <a:buFont typeface="Arial"/>
              <a:buAutoNum type="alphaLcParenR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5000"/>
              </a:lnSpc>
              <a:buClr>
                <a:srgbClr val="0000ff"/>
              </a:buClr>
              <a:buFont typeface="Arial"/>
              <a:buAutoNum type="alphaLcParenR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ysosom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يسوزومات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digestive compart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5000"/>
              </a:lnSpc>
              <a:buClr>
                <a:srgbClr val="0000ff"/>
              </a:buClr>
              <a:buFont typeface="Arial"/>
              <a:buAutoNum type="alphaLcParenR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5000"/>
              </a:lnSpc>
              <a:buClr>
                <a:srgbClr val="0000ff"/>
              </a:buClr>
              <a:buFont typeface="Arial"/>
              <a:buAutoNum type="alphaLcParenR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Vacuol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فجوات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ve diverse functions in cell mainten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Group 2"/>
          <p:cNvGrpSpPr/>
          <p:nvPr/>
        </p:nvGrpSpPr>
        <p:grpSpPr>
          <a:xfrm>
            <a:off x="4676760" y="1295280"/>
            <a:ext cx="4467240" cy="5486400"/>
            <a:chOff x="4676760" y="1295280"/>
            <a:chExt cx="4467240" cy="5486400"/>
          </a:xfrm>
        </p:grpSpPr>
        <p:pic>
          <p:nvPicPr>
            <p:cNvPr id="208" name="Picture 3" descr=""/>
            <p:cNvPicPr/>
            <p:nvPr/>
          </p:nvPicPr>
          <p:blipFill>
            <a:blip r:embed="rId1"/>
            <a:srcRect l="0" t="0" r="0" b="3000"/>
            <a:stretch/>
          </p:blipFill>
          <p:spPr>
            <a:xfrm>
              <a:off x="4676760" y="1295280"/>
              <a:ext cx="446724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Line 4"/>
            <p:cNvSpPr/>
            <p:nvPr/>
          </p:nvSpPr>
          <p:spPr>
            <a:xfrm>
              <a:off x="5943600" y="4952880"/>
              <a:ext cx="0" cy="53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5"/>
            <p:cNvSpPr/>
            <p:nvPr/>
          </p:nvSpPr>
          <p:spPr>
            <a:xfrm>
              <a:off x="8001000" y="4952880"/>
              <a:ext cx="0" cy="53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80520" y="838080"/>
            <a:ext cx="541044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Calibri"/>
              </a:rPr>
              <a:t>A)-</a:t>
            </a:r>
            <a:r>
              <a:rPr b="1" lang="en-US" sz="25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1" lang="en-US" sz="2500" spc="-1" strike="noStrike">
                <a:solidFill>
                  <a:srgbClr val="0000ff"/>
                </a:solidFill>
                <a:latin typeface="Calibri"/>
              </a:rPr>
              <a:t>The endoplasmic reticulum (</a:t>
            </a:r>
            <a:r>
              <a:rPr b="1" lang="en-US" sz="2500" spc="-1" strike="noStrike">
                <a:solidFill>
                  <a:srgbClr val="ff0000"/>
                </a:solidFill>
                <a:latin typeface="Calibri"/>
              </a:rPr>
              <a:t>ER</a:t>
            </a:r>
            <a:r>
              <a:rPr b="1" lang="en-US" sz="2500" spc="-1" strike="noStrike">
                <a:solidFill>
                  <a:srgbClr val="0000ff"/>
                </a:solidFill>
                <a:latin typeface="Calibri"/>
              </a:rPr>
              <a:t>)</a:t>
            </a:r>
            <a:br>
              <a:rPr sz="2200"/>
            </a:br>
            <a:r>
              <a:rPr b="1" lang="en-US" sz="2200" spc="-1" strike="noStrike">
                <a:solidFill>
                  <a:srgbClr val="0000ff"/>
                </a:solidFill>
                <a:latin typeface="Calibri"/>
              </a:rPr>
              <a:t> </a:t>
            </a:r>
            <a:br>
              <a:rPr sz="1400"/>
            </a:br>
            <a:r>
              <a:rPr b="1" lang="en-US" sz="2200" spc="-1" strike="noStrike">
                <a:solidFill>
                  <a:srgbClr val="04617b"/>
                </a:solidFill>
                <a:latin typeface="Calibri"/>
              </a:rPr>
              <a:t>manufacturers membranes and performs many other biosynthetic functions</a:t>
            </a:r>
            <a:endParaRPr b="0" lang="en-US" sz="2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75960" y="2703240"/>
            <a:ext cx="472428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ER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includes membranous tubul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3360" indent="-60336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re are two types of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ER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that differ in structure and functio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3360" indent="-603360"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  <a:p>
            <a:pPr lvl="1" marL="980640" indent="-52812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SzPct val="85000"/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ff"/>
                </a:solidFill>
                <a:uFillTx/>
                <a:latin typeface="Constantia"/>
              </a:rPr>
              <a:t>Smooth ER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looks smooth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ناعمة</a:t>
            </a:r>
            <a:r>
              <a:rPr b="1" lang="ar-EG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because it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nstantia"/>
              </a:rPr>
              <a:t>lacks ribosomes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980640" indent="-52812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SzPct val="85000"/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ff"/>
                </a:solidFill>
                <a:uFillTx/>
                <a:latin typeface="Constantia"/>
              </a:rPr>
              <a:t>Rough ER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looks rough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خشنة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because ribosomes (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bound ribosomes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) are attached to 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its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outsid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Line 8"/>
          <p:cNvSpPr/>
          <p:nvPr/>
        </p:nvSpPr>
        <p:spPr>
          <a:xfrm>
            <a:off x="228600" y="12193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304920" y="1023480"/>
            <a:ext cx="8610480" cy="662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Constantia"/>
              </a:rPr>
              <a:t>The smooth ER: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ar-EG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الشبكة الإندوبلازمية الناعمة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- It is rich in enzymes and plays a role in metaboli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 process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- Its enzymes synthesize lipids </a:t>
            </a:r>
            <a:r>
              <a:rPr b="0" lang="ar-EG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دهون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(oils, phospholipids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 and steroids) including the sex hormone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هرمونات الجنسية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Extensive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توجد بكثرة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n the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Constantia"/>
              </a:rPr>
              <a:t>liver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 it helps detoxify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إبطال الأثر السام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drug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مخدرات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and poison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سموم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Constantia"/>
              </a:rPr>
              <a:t>The rough ER:</a:t>
            </a:r>
            <a:r>
              <a:rPr b="1" lang="ar-EG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1" lang="ar-EG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الشبكة الإندوبلازمية الخشنة</a:t>
            </a:r>
            <a:r>
              <a:rPr b="1" lang="ar-EG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- is especially abundant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متوفرة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in those cells that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secrete proteins as it contains ribosom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- These secretory proteins are packaged in transport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vesicles that carry them to their next stag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371600" y="838080"/>
            <a:ext cx="7238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Calibri"/>
              </a:rPr>
              <a:t>B)- Golgi apparatus: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200"/>
            </a:b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inishes, sorts </a:t>
            </a:r>
            <a:r>
              <a:rPr b="0" lang="ar-EG" sz="18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تـُجَهز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 packaging and ships </a:t>
            </a:r>
            <a:r>
              <a:rPr b="0" lang="ar-EG" sz="18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تغلف وتنقل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ell products</a:t>
            </a: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51920" y="2028960"/>
            <a:ext cx="8915400" cy="46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Many transport vesicle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أوعية ناقلة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from the ER travel to the Golgi apparatus for modification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تطوير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of their content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 Golgi function is manufacturing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تصنيع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 warehousing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تغليف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 sorting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تـَجْهيز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Packaging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 and shipping </a:t>
            </a:r>
            <a:r>
              <a:rPr b="0" lang="ar-EG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نقل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materials to outside the cell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2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The Golgi apparatus is especially extensive in cells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Constantia"/>
              </a:rPr>
              <a:t>specialized for secretion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خلايا إفرازية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 Golgi also manufactures pectin and polysaccharid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Line 4"/>
          <p:cNvSpPr/>
          <p:nvPr/>
        </p:nvSpPr>
        <p:spPr>
          <a:xfrm>
            <a:off x="152280" y="137160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" name="Group 3"/>
          <p:cNvGrpSpPr/>
          <p:nvPr/>
        </p:nvGrpSpPr>
        <p:grpSpPr>
          <a:xfrm>
            <a:off x="152280" y="457200"/>
            <a:ext cx="8839440" cy="6248520"/>
            <a:chOff x="152280" y="457200"/>
            <a:chExt cx="8839440" cy="6248520"/>
          </a:xfrm>
        </p:grpSpPr>
        <p:pic>
          <p:nvPicPr>
            <p:cNvPr id="219" name="Picture 4" descr=""/>
            <p:cNvPicPr/>
            <p:nvPr/>
          </p:nvPicPr>
          <p:blipFill>
            <a:blip r:embed="rId1"/>
            <a:srcRect l="0" t="0" r="0" b="10164"/>
            <a:stretch/>
          </p:blipFill>
          <p:spPr>
            <a:xfrm>
              <a:off x="152280" y="457200"/>
              <a:ext cx="8839440" cy="624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Text Box 5"/>
            <p:cNvSpPr/>
            <p:nvPr/>
          </p:nvSpPr>
          <p:spPr>
            <a:xfrm>
              <a:off x="3086280" y="3936960"/>
              <a:ext cx="914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600" spc="-1" strike="noStrike">
                  <a:solidFill>
                    <a:srgbClr val="0000ff"/>
                  </a:solidFill>
                  <a:latin typeface="Arial"/>
                </a:rPr>
                <a:t>وعاء ناق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533520"/>
            <a:ext cx="73152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C)- Lysosomes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ar-EG" sz="24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الأجسام المُحللة</a:t>
            </a:r>
            <a:r>
              <a:rPr b="1" lang="ar-EG" sz="3200" spc="-1" strike="noStrike">
                <a:solidFill>
                  <a:srgbClr val="ff0000"/>
                </a:solidFill>
                <a:latin typeface="Calibri"/>
                <a:ea typeface="Traditional Arabic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are digestive component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228600" y="1279080"/>
            <a:ext cx="8686800" cy="70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lysosome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is a membrane-bounded sac </a:t>
            </a:r>
            <a:r>
              <a:rPr b="1" lang="ar-EG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كيس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of enzymes that digests macromolecul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Line 4"/>
          <p:cNvSpPr/>
          <p:nvPr/>
        </p:nvSpPr>
        <p:spPr>
          <a:xfrm>
            <a:off x="152280" y="8380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5" descr=""/>
          <p:cNvPicPr/>
          <p:nvPr/>
        </p:nvPicPr>
        <p:blipFill>
          <a:blip r:embed="rId1"/>
          <a:srcRect l="0" t="6939" r="35742" b="6358"/>
          <a:stretch/>
        </p:blipFill>
        <p:spPr>
          <a:xfrm>
            <a:off x="0" y="1935000"/>
            <a:ext cx="9144000" cy="492300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7"/>
          <p:cNvSpPr/>
          <p:nvPr/>
        </p:nvSpPr>
        <p:spPr>
          <a:xfrm>
            <a:off x="7238880" y="4572000"/>
            <a:ext cx="8384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228240" y="2007720"/>
            <a:ext cx="8534520" cy="505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Lysosomal enzymes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work best at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Constantia"/>
              </a:rPr>
              <a:t>pH = 5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 (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Constantia"/>
              </a:rPr>
              <a:t>acidic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The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lysosomal enzymes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are synthesized by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rough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ER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and then transferred to 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تنقل إلى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th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Golgi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then to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lysosomes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Constantia"/>
              </a:rPr>
              <a:t>Function of Lysozomal enzym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SzPct val="95000"/>
              <a:buFont typeface="Constantia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They hydrolyse 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EG" sz="1400" spc="-1" strike="noStrike">
                <a:solidFill>
                  <a:srgbClr val="000000"/>
                </a:solidFill>
                <a:latin typeface="Constantia"/>
                <a:cs typeface="Majalla UI"/>
              </a:rPr>
              <a:t>يحلل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proteins, fats, polysaccharides, and nucleic acid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SzPct val="95000"/>
              <a:buFont typeface="Constantia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Can destroy the cell by autodigestion (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autophagy) </a:t>
            </a:r>
            <a:r>
              <a:rPr b="0" lang="ar-EG" sz="1400" spc="-1" strike="noStrike">
                <a:solidFill>
                  <a:srgbClr val="000000"/>
                </a:solidFill>
                <a:latin typeface="Constantia"/>
                <a:cs typeface="Majalla UI"/>
              </a:rPr>
              <a:t>الهضم الذاتى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SzPct val="95000"/>
              <a:buFont typeface="Constantia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Can fuse with food vacuoles </a:t>
            </a:r>
            <a:r>
              <a:rPr b="0" lang="ar-EG" sz="1400" spc="-1" strike="noStrike">
                <a:solidFill>
                  <a:srgbClr val="000000"/>
                </a:solidFill>
                <a:latin typeface="Constantia"/>
                <a:cs typeface="Majalla UI"/>
              </a:rPr>
              <a:t>الفحجوة الغذائية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to digest food, (when a food item is brought into the cell by phagocytosis)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SzPct val="95000"/>
              <a:buFont typeface="Constantia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Can also fuse with another organelle or part of the cytosol. This process of </a:t>
            </a:r>
            <a:r>
              <a:rPr b="1" i="1" lang="en-US" sz="1800" spc="-1" strike="noStrike">
                <a:solidFill>
                  <a:srgbClr val="0000ff"/>
                </a:solidFill>
                <a:latin typeface="Constantia"/>
              </a:rPr>
              <a:t>autophagy</a:t>
            </a:r>
            <a:r>
              <a:rPr b="1" i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called </a:t>
            </a: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recycling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which renews the cel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Text Box 3"/>
          <p:cNvSpPr/>
          <p:nvPr/>
        </p:nvSpPr>
        <p:spPr>
          <a:xfrm>
            <a:off x="1676520" y="108108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Lysozomal enzy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4"/>
          <p:cNvSpPr/>
          <p:nvPr/>
        </p:nvSpPr>
        <p:spPr>
          <a:xfrm>
            <a:off x="152280" y="7621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04T05:47:50Z</dcterms:created>
  <dc:creator>User</dc:creator>
  <dc:description/>
  <dc:language>en-US</dc:language>
  <cp:lastModifiedBy>د أشرف مشالي</cp:lastModifiedBy>
  <dcterms:modified xsi:type="dcterms:W3CDTF">2013-09-01T08:09:56Z</dcterms:modified>
  <cp:revision>8</cp:revision>
  <dc:subject/>
  <dc:title>Slide 1</dc:title>
</cp:coreProperties>
</file>