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864-D33B-444C-BD38-E04AF41AA4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144-0758-47F6-9A49-236FCD8B6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CE3D-BCC3-4440-92E8-1839453CF6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6CE-A0B9-422C-826A-E36E875C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55C-1D8C-40AF-91E4-D584797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DE8F-B10D-4595-87F2-8E2A9E04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496B-A911-44A3-956F-F2EDEE4B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F3B-1DF3-4582-9CC7-73D3F212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E65-303E-4E06-9C77-6593C238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A0C-52B8-4300-8D5D-245D61D0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7D9-E8D3-4782-B5C0-D78549B1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CA4-BE95-4601-8049-C5620AB5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300-5C6F-4AB1-BDC2-D8F5F272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AAB-FB7F-4A06-85CD-C465F69E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A15-AD22-44C5-A821-B260E458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4D57-886E-4351-97D9-9944CD7626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F031-3697-44F9-84E7-321CA26EBE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99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7"/>
            <p:cNvSpPr/>
            <p:nvPr/>
          </p:nvSpPr>
          <p:spPr>
            <a:xfrm>
              <a:off x="4938840" y="2776680"/>
              <a:ext cx="252864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ff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4101840" cy="3121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8"/>
          <p:cNvSpPr/>
          <p:nvPr/>
        </p:nvSpPr>
        <p:spPr>
          <a:xfrm>
            <a:off x="858240" y="303120"/>
            <a:ext cx="71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ring Prokaryotic and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4" descr=""/>
          <p:cNvPicPr/>
          <p:nvPr/>
        </p:nvPicPr>
        <p:blipFill>
          <a:blip r:embed="rId1"/>
          <a:stretch/>
        </p:blipFill>
        <p:spPr>
          <a:xfrm>
            <a:off x="4168800" y="1295280"/>
            <a:ext cx="4518000" cy="201960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583B-9E1A-4046-A855-DB52341B3EA4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4168800" y="3454560"/>
            <a:ext cx="4537080" cy="2676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58A4-8558-4944-85ED-0ED17AF2033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: Discovery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The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Domains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ities between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between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E9B4-F4F1-405B-9BC2-7C0E8F45C0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41C9-E92C-4859-92AF-757E7A9E6D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8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ists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ontent Placeholder 4" descr=""/>
          <p:cNvPicPr/>
          <p:nvPr/>
        </p:nvPicPr>
        <p:blipFill>
          <a:blip r:embed="rId1"/>
          <a:stretch/>
        </p:blipFill>
        <p:spPr>
          <a:xfrm>
            <a:off x="228600" y="122400"/>
            <a:ext cx="8763120" cy="658332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9349-755A-4782-8E68-A7D29A07DF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Student</cp:lastModifiedBy>
  <dcterms:modified xsi:type="dcterms:W3CDTF">2016-01-24T08:10:04Z</dcterms:modified>
  <cp:revision>4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