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AD4C-A6C1-4768-AC73-E2A1C37C10C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EB68-DB2F-4C84-BE39-7C26FA5475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BA24-265A-488E-B7EB-67958705849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1AB-CA76-4A9B-8900-756C4958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C43C-0B88-4AE4-9B86-C378BC76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B52A-93F9-4C51-88A7-0C9A1141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721-41F4-4DC9-A2DE-B5C3FC27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967E-159F-41A6-9153-6E02B8A8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08C5-49C5-418E-AF3E-D08E8BB5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9EA-F560-433C-AB27-11CA2680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1309-B33C-4ECC-A966-172EBE71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92E9-E2B3-4903-9753-BD87F5DE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EA8B-E8B1-4EED-85BC-E79F279B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6CF-B350-4101-8CEE-C6B2F091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229-11DB-4316-80CB-A96F7182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63BA-8B17-458E-9395-8E70D526D5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F34A-A7FB-419C-9E7F-4E97CBEE23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9760" y="222552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286020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25960" y="36306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181480" y="6342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125960" y="4210200"/>
            <a:ext cx="46483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cture 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23000" y="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4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51460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304920" y="19051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karyotes have a nucleus, while prokaryotes do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karyotes have membrane-bound organelles, while prokaryotes do no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karyotic cells are, on average, ten times the size of prokaryotic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NA of eukaryotes is much more complex and therefore much more extensive than the DNA of prokary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karyotes have a cell wall composed of peptidoglycan,. Many types of eukaryotic cells also have cell walls, but none made of peptidoglyc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NA of prokaryotes floats freely inside the cell; the DNA of eukaryotes is held within its nucleus and associated with histones (prote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karyotes undergo mitosi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meiosis; prokaryotes divide by binary fission (simple cell divi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4"/>
          <p:cNvGrpSpPr/>
          <p:nvPr/>
        </p:nvGrpSpPr>
        <p:grpSpPr>
          <a:xfrm>
            <a:off x="2362320" y="2666880"/>
            <a:ext cx="5862600" cy="3111480"/>
            <a:chOff x="2362320" y="2666880"/>
            <a:chExt cx="5862600" cy="3111480"/>
          </a:xfrm>
        </p:grpSpPr>
        <p:sp>
          <p:nvSpPr>
            <p:cNvPr id="99" name="Oval 22"/>
            <p:cNvSpPr/>
            <p:nvPr/>
          </p:nvSpPr>
          <p:spPr>
            <a:xfrm>
              <a:off x="2362320" y="2666880"/>
              <a:ext cx="5862600" cy="31114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7"/>
            <p:cNvSpPr/>
            <p:nvPr/>
          </p:nvSpPr>
          <p:spPr>
            <a:xfrm>
              <a:off x="4938840" y="2776680"/>
              <a:ext cx="252864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ffff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Endoplasmic reticul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Golgi apparat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Lysoso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Vacuo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Mitochond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Cytoskelet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Group 13" descr=""/>
          <p:cNvPicPr/>
          <p:nvPr/>
        </p:nvPicPr>
        <p:blipFill>
          <a:blip r:embed="rId1"/>
          <a:stretch/>
        </p:blipFill>
        <p:spPr>
          <a:xfrm>
            <a:off x="762120" y="2670120"/>
            <a:ext cx="4101840" cy="31212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8"/>
          <p:cNvSpPr/>
          <p:nvPr/>
        </p:nvSpPr>
        <p:spPr>
          <a:xfrm>
            <a:off x="858240" y="303120"/>
            <a:ext cx="71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paring Prokaryotic and Eu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5"/>
          <p:cNvSpPr/>
          <p:nvPr/>
        </p:nvSpPr>
        <p:spPr>
          <a:xfrm>
            <a:off x="1295280" y="1752480"/>
            <a:ext cx="2438640" cy="838440"/>
          </a:xfrm>
          <a:prstGeom prst="downArrowCallout">
            <a:avLst>
              <a:gd name="adj1" fmla="val 72720"/>
              <a:gd name="adj2" fmla="val 72714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6"/>
          <p:cNvSpPr/>
          <p:nvPr/>
        </p:nvSpPr>
        <p:spPr>
          <a:xfrm>
            <a:off x="4419720" y="1752480"/>
            <a:ext cx="2438280" cy="838440"/>
          </a:xfrm>
          <a:prstGeom prst="downArrowCallout">
            <a:avLst>
              <a:gd name="adj1" fmla="val 72709"/>
              <a:gd name="adj2" fmla="val 72703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Content Placeholder 4" descr=""/>
          <p:cNvPicPr/>
          <p:nvPr/>
        </p:nvPicPr>
        <p:blipFill>
          <a:blip r:embed="rId1"/>
          <a:stretch/>
        </p:blipFill>
        <p:spPr>
          <a:xfrm>
            <a:off x="4168800" y="1295280"/>
            <a:ext cx="4518000" cy="2019600"/>
          </a:xfrm>
          <a:prstGeom prst="rect">
            <a:avLst/>
          </a:prstGeom>
          <a:ln w="0">
            <a:noFill/>
          </a:ln>
        </p:spPr>
      </p:pic>
      <p:sp>
        <p:nvSpPr>
          <p:cNvPr id="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3D9E-079A-47D7-811E-9FDD5CDE9AB5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4168800" y="3454560"/>
            <a:ext cx="4537080" cy="2676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ABC6-DBD4-49FA-AE89-9AAF579EE53B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: Discovery of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The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Domains of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ities between Prokaryotic and Eukaryotic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s between Prokaryotic and Eukaryotic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E05A-6929-4727-A260-D1291FC58C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Cell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very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igure 5-1b"/>
          <p:cNvPicPr/>
          <p:nvPr/>
        </p:nvPicPr>
        <p:blipFill>
          <a:blip r:embed="rId1"/>
          <a:stretch/>
        </p:blipFill>
        <p:spPr>
          <a:xfrm>
            <a:off x="5410080" y="2362320"/>
            <a:ext cx="3505320" cy="2357280"/>
          </a:xfrm>
          <a:prstGeom prst="rect">
            <a:avLst/>
          </a:prstGeom>
          <a:ln w="0">
            <a:noFill/>
          </a:ln>
        </p:spPr>
      </p:pic>
      <p:sp>
        <p:nvSpPr>
          <p:cNvPr id="63" name="Line 5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152280" y="2844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52280" y="190476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person to see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ert Hooke in 16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was looking at a thin slice of cork through a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he found what he described as "tiny rooms" that he call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8, the German botanist Matthias Schleiden concluded that all plants were composed of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9, Theodor Schwann concluded the same thing fo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55, Rudolf Virchow noted that all cells come from oth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cell theory state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l living organisms are made of one or more cel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are the basic units of structure and function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come only from pre-existing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ell is the smallest unit that can carry on all of the processes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>
            <a:off x="990720" y="685800"/>
            <a:ext cx="815328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741A-0593-40AB-911F-EA64E597DD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066680" y="297180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5"/>
          <p:cNvSpPr/>
          <p:nvPr/>
        </p:nvSpPr>
        <p:spPr>
          <a:xfrm>
            <a:off x="6172200" y="289548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33520" y="228600"/>
            <a:ext cx="281916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94360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289548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Types 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712800" y="4551480"/>
            <a:ext cx="31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 and related 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33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Domains of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p1"/>
          <p:cNvPicPr/>
          <p:nvPr/>
        </p:nvPicPr>
        <p:blipFill>
          <a:blip r:embed="rId2"/>
          <a:stretch/>
        </p:blipFill>
        <p:spPr>
          <a:xfrm>
            <a:off x="1981080" y="1447920"/>
            <a:ext cx="5410440" cy="4640040"/>
          </a:xfrm>
          <a:prstGeom prst="rect">
            <a:avLst/>
          </a:prstGeom>
          <a:ln w="0">
            <a:noFill/>
          </a:ln>
        </p:spPr>
      </p:pic>
      <p:sp>
        <p:nvSpPr>
          <p:cNvPr id="83" name="Line 7"/>
          <p:cNvSpPr/>
          <p:nvPr/>
        </p:nvSpPr>
        <p:spPr>
          <a:xfrm>
            <a:off x="304920" y="10476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omain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469880" y="1066680"/>
            <a:ext cx="531180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)- Prokaryota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2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بدائيات وتضم البكتيريا البدائ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البكتيريا الحقيق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)- Eukaryota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قيقيات النوا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4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gi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فطر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tists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طلائع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ntae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نبات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حيوان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>
            <a:off x="304920" y="9907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1920" y="2209320"/>
            <a:ext cx="8915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are surrounded by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ادة 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شبه ال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سائ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514600" y="160020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ontent Placeholder 4" descr=""/>
          <p:cNvPicPr/>
          <p:nvPr/>
        </p:nvPicPr>
        <p:blipFill>
          <a:blip r:embed="rId1"/>
          <a:stretch/>
        </p:blipFill>
        <p:spPr>
          <a:xfrm>
            <a:off x="228600" y="122400"/>
            <a:ext cx="8763120" cy="6583320"/>
          </a:xfrm>
          <a:prstGeom prst="rect">
            <a:avLst/>
          </a:prstGeom>
          <a:ln w="0">
            <a:noFill/>
          </a:ln>
        </p:spPr>
      </p:pic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9B53-0985-4E5D-84FD-E9C5E7BFE1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Student</cp:lastModifiedBy>
  <dcterms:modified xsi:type="dcterms:W3CDTF">2016-01-24T08:10:04Z</dcterms:modified>
  <cp:revision>49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F18A715-23FA-4BC3-B070-F83B2FD50F30</vt:lpwstr>
  </property>
  <property fmtid="{D5CDD505-2E9C-101B-9397-08002B2CF9AE}" pid="3" name="ArticulatePath">
    <vt:lpwstr>Lecture 4</vt:lpwstr>
  </property>
</Properties>
</file>