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672-1722-4EFB-93E1-5814CB7F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413-F257-4BD9-89DC-8139E2F5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7A6-B7FF-437E-B809-A537E7AE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B83-D8F3-4D94-BD6B-C513E138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FFC8-9FF0-4DB9-B529-FD9C1D59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6E08-8D55-442A-85F7-195254E4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0A0D-865C-48F2-A541-D09B4264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C095-AA41-414C-A042-AFFF189C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59E0-5718-4A5F-817A-FF7D5ECA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1195-B16F-42E0-84AC-E850AC96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F7F5-C54B-4BBE-8281-705509E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3FE-8C17-406A-9A2C-856398EF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6C79-5DD8-4F41-B012-65A4BF51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46CA-97BC-4CFF-B397-A3A4E7E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4A12-4D3C-4E0E-ABD2-8716F10C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B034-AF3B-439E-9C11-11657DF6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17B5-BBF0-460E-817A-69D8481D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D07C-FDCC-432D-B334-F1A29768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6702-9EF2-4454-A52A-11AD8493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66B5-1280-4332-8B4C-E16FD483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6B43-838E-4DB2-9331-83A00A53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E08A-6E37-47DF-8F0C-A8D7071A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564-FD4D-4EE1-B62F-B9DF4B75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02E2-330B-4985-A420-2668A543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CD437-3648-436A-88C5-DC380DCC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F8C0-0972-4E40-BCB1-62318E2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AFC9-E497-4BB7-B475-DE3E61B7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E55D-67CF-4333-BC26-7E22B5D9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881A-5313-4124-BA9F-E0543505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E863-6444-4279-855B-73E7F403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FFDD5-40B3-49DE-A831-A98E53EB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4A2F6-14A6-42AD-AABA-B671F5BC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47528-AB1C-4C7A-A6E5-7C252D6E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C55-A7A3-4283-95D7-CBC129E4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64FA-2241-4500-B6B7-34FE5D9D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58F69-8A68-48D1-B367-91C5A3E9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8CC8-9A85-470C-AEBA-44389E92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C169-21E0-4EC5-A6F5-6B823B23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A0D7-3A4D-49E9-B696-58C5E3FC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A8D1-3D51-411A-AF17-E4074D13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2FCEB-ACCF-4591-BF39-648E7D6C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899FE-B455-4245-9904-1D7CB555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E4E6C-E36E-4F2E-A209-359FDD08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391-67BA-477B-9115-F61E0BB9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ACB-2927-4615-8F19-C420E9B1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7F4-247B-403E-992D-B8C8BDC6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CB6-494C-4897-BF16-4121295F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819-DD20-48D6-8F0C-A22788E1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1B3-2B8A-4EF3-8F48-C5BC248257E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A2C8-0E5C-45EA-BAED-71399F578C0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BBF8-3077-45B7-AA43-4C0FFC35A6C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FD8A-8547-4FEB-B8E7-CB7E296419F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998D-3150-4A75-B830-8B1179CB66E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User</cp:lastModifiedBy>
  <dcterms:modified xsi:type="dcterms:W3CDTF">2014-08-27T10:10:56Z</dcterms:modified>
  <cp:revision>8</cp:revision>
  <dc:subject/>
  <dc:title>Slide 1</dc:title>
</cp:coreProperties>
</file>