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4DA1-9A84-48BA-801E-9B063E2FC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02F9-B4C1-4F83-992D-64B3F85A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9E2E-6FB8-4FB8-A546-C1E53FB58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ABDD-4D4B-47B2-8BE6-E2ACF71A2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85D6-091A-4D9E-AC0C-21DD863AE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310B-AD49-4358-8297-367EBA5F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4AEB-2876-4D5E-B852-1AE74CB4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D142-F888-48CD-9304-AD6F3762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1E15-3E0A-43CA-9FDD-F817FEAE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BBBD-FE09-4BEE-811D-5846053F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A8A9-3E5A-40F5-AD55-243B23F7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5860-F6F6-4AE2-B2A6-2E98926B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53CF-5910-4E3E-9FF2-449798E0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5377-E74D-4F25-AEBD-0AF24C78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B2AE-9FC0-4080-98F6-6E256B02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0695-6145-4603-9DE5-EC1ABAB2F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9627B-136B-491C-97A3-43121DFAF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FB71A-6BFD-42D6-A218-123355AD2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DAE06-96A7-4389-AF32-086CDE1D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3ED33-5A53-4A88-8048-A22988DC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5F780-6624-44E2-ADB7-ED0EB429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BBE79-2BE3-47F2-A462-EB54B9F4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6A12-C466-4862-9391-8312C6C5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C3280-DB29-4482-931D-8F623572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0754C-DAEB-46C0-ACD5-FB1495A7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762AE-6CA7-4366-9339-7B7A7834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89BAD-2A23-412F-AA94-03483F8A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B72B7-4B75-40D3-8C16-F6C01A85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C1924-725C-4E4C-BA72-E4DFD6612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702D0-4ADF-483C-B8FB-CC0F3A05C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3CF20-3C35-40C3-B06C-39760DEB2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6125E-2B5C-498E-B14A-C05572C2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6A676-0FEB-4E05-9E53-9F9074AC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CDC1-5158-4B38-97C5-F9EEEFE1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C67AD-BC7C-49E8-8BD5-D0F571D2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C6919-9F8E-4EEE-A03D-7DDBFE68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ADD52-7160-4604-9AA2-6736175B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14884-1D33-4776-97A4-E76FCE7B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2CCD4-B074-481D-9013-53808B2A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C791A-7E5B-4EB2-BB03-6090629A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9648C-C4A0-4EE5-B4F1-1C8FD8E9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57405-6C00-4544-A552-12E8CFC7B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210D9-860F-4427-8E80-1C568BC2E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C73C-F6F2-4F6C-9CCA-2E3B1945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B556-5FCB-401E-8C64-C9CB83A4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5835-BC48-4CD4-99F4-4DCA4468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BCD8-E8F1-48D2-9DD8-91EAB9E7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46A3-504B-48B7-A5F8-6E574578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110F-2622-41C6-9AEB-DE1FE64FD8B0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C2A0-8BBD-442F-9880-8179AA996B22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5258-0FC3-48F4-A08A-5F9479875C78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65D8-CDB2-460B-83CD-B353CD21F82A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ibosomes: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build the cell’s protein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0"/>
          <p:cNvGrpSpPr/>
          <p:nvPr/>
        </p:nvGrpSpPr>
        <p:grpSpPr>
          <a:xfrm>
            <a:off x="76320" y="2971800"/>
            <a:ext cx="8839080" cy="3809880"/>
            <a:chOff x="76320" y="2971800"/>
            <a:chExt cx="8839080" cy="3809880"/>
          </a:xfrm>
        </p:grpSpPr>
        <p:pic>
          <p:nvPicPr>
            <p:cNvPr id="198" name="Picture 6" descr=""/>
            <p:cNvPicPr/>
            <p:nvPr/>
          </p:nvPicPr>
          <p:blipFill>
            <a:blip r:embed="rId1"/>
            <a:srcRect l="0" t="0" r="0" b="8186"/>
            <a:stretch/>
          </p:blipFill>
          <p:spPr>
            <a:xfrm>
              <a:off x="76320" y="2971800"/>
              <a:ext cx="883908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Text Box 8"/>
            <p:cNvSpPr/>
            <p:nvPr/>
          </p:nvSpPr>
          <p:spPr>
            <a:xfrm>
              <a:off x="5331960" y="5096160"/>
              <a:ext cx="74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ff0000"/>
                  </a:solidFill>
                  <a:latin typeface="Arial"/>
                </a:rPr>
                <a:t>مرتبط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9"/>
            <p:cNvSpPr/>
            <p:nvPr/>
          </p:nvSpPr>
          <p:spPr>
            <a:xfrm>
              <a:off x="5169960" y="4583520"/>
              <a:ext cx="59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ff0000"/>
                  </a:solidFill>
                  <a:latin typeface="Arial"/>
                </a:rPr>
                <a:t>حر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 txBox="1"/>
          <p:nvPr/>
        </p:nvSpPr>
        <p:spPr>
          <a:xfrm>
            <a:off x="152280" y="2133360"/>
            <a:ext cx="8686800" cy="106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ibosomes contain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nd protei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 ribosome is composed of two subunit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وحدتين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combine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تحد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o carry out protein synthesi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خليق البروتين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1447920" y="142920"/>
            <a:ext cx="6629400" cy="916920"/>
          </a:xfrm>
          <a:prstGeom prst="rect">
            <a:avLst/>
          </a:prstGeom>
          <a:solidFill>
            <a:srgbClr val="009dd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opperplate Gothic Bold"/>
              </a:rPr>
              <a:t>Lecture 4: The Ce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rcRect l="0" t="0" r="0" b="3080"/>
          <a:stretch/>
        </p:blipFill>
        <p:spPr>
          <a:xfrm>
            <a:off x="977760" y="762120"/>
            <a:ext cx="705348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160" y="1142640"/>
            <a:ext cx="87627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D)- Vacuoles: </a:t>
            </a:r>
            <a:r>
              <a:rPr b="0" lang="ar-EG" sz="25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فجوات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500"/>
            </a:b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ave diverse functions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وظائف متنوعة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 cell maintenance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للحفاظ على الخلية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5960" y="2717280"/>
            <a:ext cx="891540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Vesic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وعـية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nd vacuo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جوات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re membrane-bound sac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كياس ذات أغشية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with varied functio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Food vacuo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جوة غذائ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from phagocytosis, fuse with lysosom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Contractile vacuo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جوة منقبضة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found in freshwater protists, pump excess water out of the cell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Central vacuole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جوة مركز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re found in many mature plant cell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3"/>
          <p:cNvGrpSpPr/>
          <p:nvPr/>
        </p:nvGrpSpPr>
        <p:grpSpPr>
          <a:xfrm>
            <a:off x="152280" y="701640"/>
            <a:ext cx="8839080" cy="6003720"/>
            <a:chOff x="152280" y="701640"/>
            <a:chExt cx="8839080" cy="6003720"/>
          </a:xfrm>
        </p:grpSpPr>
        <p:pic>
          <p:nvPicPr>
            <p:cNvPr id="234" name="Picture 4" descr=""/>
            <p:cNvPicPr/>
            <p:nvPr/>
          </p:nvPicPr>
          <p:blipFill>
            <a:blip r:embed="rId1"/>
            <a:srcRect l="0" t="0" r="0" b="3000"/>
            <a:stretch/>
          </p:blipFill>
          <p:spPr>
            <a:xfrm>
              <a:off x="152280" y="1767600"/>
              <a:ext cx="5745600" cy="493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5"/>
            <p:cNvSpPr/>
            <p:nvPr/>
          </p:nvSpPr>
          <p:spPr>
            <a:xfrm>
              <a:off x="2877840" y="2339640"/>
              <a:ext cx="138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00"/>
                  </a:solidFill>
                  <a:latin typeface="Arial"/>
                </a:rPr>
                <a:t>الفجوة المركذي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Picture 6" descr=""/>
            <p:cNvPicPr/>
            <p:nvPr/>
          </p:nvPicPr>
          <p:blipFill>
            <a:blip r:embed="rId2"/>
            <a:srcRect l="0" t="0" r="0" b="3357"/>
            <a:stretch/>
          </p:blipFill>
          <p:spPr>
            <a:xfrm>
              <a:off x="4645440" y="701640"/>
              <a:ext cx="4345920" cy="336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Text Box 7"/>
            <p:cNvSpPr/>
            <p:nvPr/>
          </p:nvSpPr>
          <p:spPr>
            <a:xfrm>
              <a:off x="299160" y="1261800"/>
              <a:ext cx="1388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ff"/>
                  </a:solidFill>
                  <a:latin typeface="Arial"/>
                </a:rPr>
                <a:t>خلية نبات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8"/>
            <p:cNvSpPr/>
            <p:nvPr/>
          </p:nvSpPr>
          <p:spPr>
            <a:xfrm>
              <a:off x="7297560" y="3992760"/>
              <a:ext cx="1535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ff"/>
                  </a:solidFill>
                  <a:latin typeface="Arial"/>
                </a:rPr>
                <a:t>خلية حيوان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5181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Other Membranous Organelles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6320" y="1370160"/>
            <a:ext cx="8686800" cy="565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</a:rPr>
              <a:t>A)- Peroxisom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ontain enzymes that transfer hydrogen from various substrates to oxyg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Functions of peroxisom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1-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Hydrogen peroxide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(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Constantia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 is a poison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ut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peroxisome has enzyme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that convert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 to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onstantia"/>
              </a:rPr>
              <a:t>water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2-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Some peroxisomes break fatty acids down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o smaller molecules that are transported to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itochondria for fuel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لإنتاج الطاق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3-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They detoxify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بطل المفعول السُّمى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lcohol an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ther harmful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ompounds. Thus, it exist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xtensively in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liver cell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1"/>
          <a:srcRect l="0" t="0" r="0" b="4072"/>
          <a:stretch/>
        </p:blipFill>
        <p:spPr>
          <a:xfrm>
            <a:off x="5283360" y="2513160"/>
            <a:ext cx="3708360" cy="32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228600" y="1066680"/>
            <a:ext cx="8686800" cy="61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</a:rPr>
              <a:t>B)-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</a:rPr>
              <a:t>Mitochondria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Constantia"/>
              </a:rPr>
              <a:t>: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y are the main energy transformers of cells 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 they convert energy to fuel 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طاق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at cells can use for work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Impact"/>
              </a:rPr>
              <a:t>Mitochondri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Impact"/>
              </a:rPr>
              <a:t> are the sites of cellular respirati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generating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ـُنتِج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ATP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from the catabolism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هدم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sugars, fats, and other fuels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صادر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طاق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the presence of oxyge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Almost all eukaryotic cells have mitochondri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itochondria and chloroplasts are mobile and move around the cell along tracks in the cytoskeleton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57200" y="228600"/>
            <a:ext cx="5715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ther Membranous Organelles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76320" y="914400"/>
            <a:ext cx="9067680" cy="13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Mitochondri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have a smooth outer membrane and a highly folded inner membrane forming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cristae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نتوءات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inner membrane encloses the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a fluid-filled space with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DN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ribosomes, and enzyme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rcRect l="0" t="0" r="0" b="6594"/>
          <a:stretch/>
        </p:blipFill>
        <p:spPr>
          <a:xfrm>
            <a:off x="1238400" y="2362320"/>
            <a:ext cx="6153120" cy="44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52280" y="1054080"/>
            <a:ext cx="883944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ribosomal RNA (</a:t>
            </a:r>
            <a:r>
              <a:rPr b="1" lang="en-US" sz="2000" spc="-1" strike="noStrike">
                <a:solidFill>
                  <a:srgbClr val="ff3300"/>
                </a:solidFill>
                <a:latin typeface="Constantia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 is synthesized and assembled with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rotein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from the cytoplasm to form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ribosomal subunit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subunits pass from the nuclear pores to the cytoplasm where they combine to form </a:t>
            </a:r>
            <a:r>
              <a:rPr b="1" lang="en-US" sz="2000" spc="-1" strike="noStrike">
                <a:solidFill>
                  <a:srgbClr val="ff3300"/>
                </a:solidFill>
                <a:latin typeface="Constantia"/>
              </a:rPr>
              <a:t>ribosom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Cell types that synthesize large quantities of proteins (e.g., pancreas) have large numbers of ribosom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Types of Ribosomes: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51"/>
              </a:spcBef>
              <a:buClr>
                <a:srgbClr val="ff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ree ribosome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re suspended 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معلق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the cytosol and synthesize proteins that functio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within the cytosol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74"/>
              </a:spcBef>
              <a:buClr>
                <a:srgbClr val="ff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51"/>
              </a:spcBef>
              <a:buClr>
                <a:srgbClr val="ff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Bound ribosome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re attached to 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ملتصق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بـ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outside of the endoplasmic reticulum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se synthesize proteins that are either included into membranes or for secretion outside the cell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2B88-0C15-4D75-BD98-A779C0F13CCE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533520" y="1066680"/>
            <a:ext cx="777240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7030a0"/>
                </a:solidFill>
                <a:uFillTx/>
                <a:latin typeface="Arial"/>
              </a:rPr>
              <a:t>3- The Endomembran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228600" y="1887480"/>
            <a:ext cx="8763120" cy="47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doplasmic reticul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شبكة الإندوبلازم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ufacturers membranes and performs many other biosynthet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olgi apparat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جهاز جولـﭽـ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ishes, sorts, and ships cell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ysosom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يسوزوم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digestive compar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acuo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فجو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diverse functions in cell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"/>
          <p:cNvGrpSpPr/>
          <p:nvPr/>
        </p:nvGrpSpPr>
        <p:grpSpPr>
          <a:xfrm>
            <a:off x="4676760" y="1295280"/>
            <a:ext cx="4467240" cy="5486400"/>
            <a:chOff x="4676760" y="1295280"/>
            <a:chExt cx="4467240" cy="5486400"/>
          </a:xfrm>
        </p:grpSpPr>
        <p:pic>
          <p:nvPicPr>
            <p:cNvPr id="208" name="Picture 3" descr=""/>
            <p:cNvPicPr/>
            <p:nvPr/>
          </p:nvPicPr>
          <p:blipFill>
            <a:blip r:embed="rId1"/>
            <a:srcRect l="0" t="0" r="0" b="3000"/>
            <a:stretch/>
          </p:blipFill>
          <p:spPr>
            <a:xfrm>
              <a:off x="4676760" y="1295280"/>
              <a:ext cx="446724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Line 4"/>
            <p:cNvSpPr/>
            <p:nvPr/>
          </p:nvSpPr>
          <p:spPr>
            <a:xfrm>
              <a:off x="5943600" y="495288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5"/>
            <p:cNvSpPr/>
            <p:nvPr/>
          </p:nvSpPr>
          <p:spPr>
            <a:xfrm>
              <a:off x="8001000" y="495288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541044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A)-</a:t>
            </a:r>
            <a:r>
              <a:rPr b="1" lang="en-US" sz="2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The endoplasmic reticulum (</a:t>
            </a:r>
            <a:r>
              <a:rPr b="1" lang="en-US" sz="2500" spc="-1" strike="noStrike">
                <a:solidFill>
                  <a:srgbClr val="ff0000"/>
                </a:solidFill>
                <a:latin typeface="Calibri"/>
              </a:rPr>
              <a:t>ER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)</a:t>
            </a:r>
            <a:br>
              <a:rPr sz="2200"/>
            </a:b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 </a:t>
            </a:r>
            <a:br>
              <a:rPr sz="1400"/>
            </a:br>
            <a:r>
              <a:rPr b="1" lang="en-US" sz="2200" spc="-1" strike="noStrike">
                <a:solidFill>
                  <a:srgbClr val="04617b"/>
                </a:solidFill>
                <a:latin typeface="Calibri"/>
              </a:rPr>
              <a:t>manufacturers membranes and performs many other biosynthetic functions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75960" y="2703240"/>
            <a:ext cx="47242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R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includes membranous tubu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re are two types of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R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that differ in structure and func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Constantia"/>
              </a:rPr>
              <a:t>Smooth ER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looks smooth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ناعمة</a:t>
            </a:r>
            <a:r>
              <a:rPr b="1" lang="ar-EG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ecause i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lacks ribosom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Constantia"/>
              </a:rPr>
              <a:t>Rough ER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looks rough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خشن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ecause ribosomes (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ound ribosom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 are attached to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it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outsid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228600" y="12193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04920" y="1023480"/>
            <a:ext cx="8610480" cy="662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he smooth ER: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شبكة الإندوبلازمية الناعم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It is rich in enzymes and plays a role in metabol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process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Its enzymes synthesize lipids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دهون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(oils, phospholipids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and steroids) including the sex hormon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هرمونات الجنس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xtensive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وجد بكثرة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n th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liver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it helps detoxify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إبطال الأثر السام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rug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خدرات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poison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موم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he rough ER:</a:t>
            </a:r>
            <a:r>
              <a:rPr b="1" lang="ar-EG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شبكة الإندوبلازمية الخشنة</a:t>
            </a:r>
            <a:r>
              <a:rPr b="1" lang="ar-EG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is especially abundant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توفر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those cells tha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secrete proteins as it contains ribosom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These secretory proteins are packaged in transpor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vesicles that carry them to their next sta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B)- Golgi apparatus: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nishes, sorts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ـُجَهز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 packaging and ships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غلف وتنقل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ell products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51920" y="2028960"/>
            <a:ext cx="8915400" cy="46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any transport vesic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وعية ناقل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rom the ER travel to the Golgi apparatus for modification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طوير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their conten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Golgi function is manufactur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صنيع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warehous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غليف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sort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ـَجْهيز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Packaging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d shipping 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نقل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aterials to outside the cell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The Golgi apparatus is especially extensive in cells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specialized for secreti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خلايا إفراز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Golgi also manufactures pectin and polysaccharid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3"/>
          <p:cNvGrpSpPr/>
          <p:nvPr/>
        </p:nvGrpSpPr>
        <p:grpSpPr>
          <a:xfrm>
            <a:off x="152280" y="457200"/>
            <a:ext cx="8839440" cy="6248520"/>
            <a:chOff x="152280" y="457200"/>
            <a:chExt cx="8839440" cy="6248520"/>
          </a:xfrm>
        </p:grpSpPr>
        <p:pic>
          <p:nvPicPr>
            <p:cNvPr id="219" name="Picture 4" descr=""/>
            <p:cNvPicPr/>
            <p:nvPr/>
          </p:nvPicPr>
          <p:blipFill>
            <a:blip r:embed="rId1"/>
            <a:srcRect l="0" t="0" r="0" b="10164"/>
            <a:stretch/>
          </p:blipFill>
          <p:spPr>
            <a:xfrm>
              <a:off x="152280" y="457200"/>
              <a:ext cx="8839440" cy="624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5"/>
            <p:cNvSpPr/>
            <p:nvPr/>
          </p:nvSpPr>
          <p:spPr>
            <a:xfrm>
              <a:off x="3086280" y="393696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وعاء ناق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C)- Lysosomes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أجسام المُحللة</a:t>
            </a:r>
            <a:r>
              <a:rPr b="1" lang="ar-EG" sz="3200" spc="-1" strike="noStrike">
                <a:solidFill>
                  <a:srgbClr val="ff0000"/>
                </a:solidFill>
                <a:latin typeface="Calibri"/>
                <a:ea typeface="Traditional Arabic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are digestive compon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28600" y="1279080"/>
            <a:ext cx="868680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lysosom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s a membrane-bounded sac </a:t>
            </a:r>
            <a:r>
              <a:rPr b="1" lang="ar-EG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كيس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f enzymes that digests macromolecul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1"/>
          <a:srcRect l="0" t="6939" r="35742" b="6358"/>
          <a:stretch/>
        </p:blipFill>
        <p:spPr>
          <a:xfrm>
            <a:off x="0" y="1935000"/>
            <a:ext cx="9144000" cy="4923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7"/>
          <p:cNvSpPr/>
          <p:nvPr/>
        </p:nvSpPr>
        <p:spPr>
          <a:xfrm>
            <a:off x="7238880" y="4572000"/>
            <a:ext cx="8384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228240" y="2007720"/>
            <a:ext cx="853452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Lysosomal enzym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work best at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onstantia"/>
              </a:rPr>
              <a:t>pH = 5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 (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acidic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lysosomal enzyme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re synthesized by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rough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ER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nd then transferred to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نقل إل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Golgi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then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lysosome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nstantia"/>
              </a:rPr>
              <a:t>Function of Lysozomal enzym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y hydrolys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يحلل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proteins, fats, polysaccharides, and nucleic acid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an destroy the cell by autodigestion (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utophagy)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هضم الذات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an fuse with food vacuoles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فحجوة الغذائ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o digest food, (when a food item is brought into the cell by phagocytosis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an also fuse with another organelle or part of the cytosol. This process of </a:t>
            </a:r>
            <a:r>
              <a:rPr b="1" i="1" lang="en-US" sz="1800" spc="-1" strike="noStrike">
                <a:solidFill>
                  <a:srgbClr val="0000ff"/>
                </a:solidFill>
                <a:latin typeface="Constantia"/>
              </a:rPr>
              <a:t>autophagy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alled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recycling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which renews the cel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676520" y="10810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ysozomal enz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4"/>
          <p:cNvSpPr/>
          <p:nvPr/>
        </p:nvSpPr>
        <p:spPr>
          <a:xfrm>
            <a:off x="152280" y="7621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4T05:47:50Z</dcterms:created>
  <dc:creator>User</dc:creator>
  <dc:description/>
  <dc:language>en-US</dc:language>
  <cp:lastModifiedBy>User</cp:lastModifiedBy>
  <dcterms:modified xsi:type="dcterms:W3CDTF">2014-08-27T10:10:56Z</dcterms:modified>
  <cp:revision>8</cp:revision>
  <dc:subject/>
  <dc:title>Slide 1</dc:title>
</cp:coreProperties>
</file>