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3C9-FC68-44E4-BE5F-C07297A8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96F0-A17E-4AA8-B8FC-7C557749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1361-F150-4833-A6A8-767847FB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469-43C1-43BB-AF1B-E51F8E5C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A5C0-3134-4B20-ACE6-490559E5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2DFF-6A5C-4DE0-A058-19C77265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5B45-7045-45D1-99A8-036C07D2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81EB-021A-41C6-974D-053E47A5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947A-32A6-4B59-AA91-1BA94DC8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639C-78BE-49BD-84E9-D87C0B02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BF27-D45C-42F5-9459-1E682F15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F0A-CD0C-48DB-A339-4ED4650E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33C1-452F-44AC-BD1E-F031FE89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D5D5-5624-4A20-829D-917231B8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39A2-0539-4E5B-A54A-2B1DAF28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8F66-303F-4080-A151-9E22CED3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0C4A-48BF-422D-9451-B58A6824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CD76E-1F7F-40A2-8C3A-44479880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8F369-59F2-4C42-8D67-D8D613D0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8137A-B8F3-4CC9-B75A-06CFBA5A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B8C9C-F710-44AD-997B-928B8FF2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230E8-6698-4653-A691-D8174506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103-8411-43AA-9D2E-5424E49D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7F900-674D-46EA-B404-0BC23370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FBCE5-74A1-42B9-A981-968A5E98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6818E-26B9-4321-AEF6-E91E0CE3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6F019-01FB-4168-924F-7742E03F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B5E6F-F32A-4D95-8F89-B37A50C9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2EB05-BBBC-4096-87D8-C614A663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89D53-C5AC-4BF7-8F87-DBBE3D09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60627-6252-41D9-A440-BEAECF7E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9D25D-CD3A-4DF0-812C-DC5CD8D2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39C21-2E58-4A03-8859-6D9E0B0E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9B8-7E1F-469C-A3B9-F086B4AC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2A3D2-BA78-4FF1-ABFD-4206DA97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47AD6-D8AC-448A-85C6-3EB265EA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98DDB-8394-4619-BEF3-46CA1ADD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283AD-CD49-418F-A301-095A7C54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99B5F-F5E4-402E-9FF7-678ED41F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5AA48-30A1-46FD-A088-A4DB842C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67C43-E83C-44F2-BA78-E6DB2049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6D02B-A402-42F7-8FB1-97D7DFEF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D2592-3B28-4FF3-B127-F7236447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F50B-2A8B-4CDE-B3A8-775AFE2C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A37F-E7BE-4870-BDD4-B22BB677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3291-D583-4C7E-9282-FD3E7570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2C8-6764-4359-A75E-F85BBAE7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F58-4CBE-4273-8791-C31A8EA4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EBFD-B619-4826-9E87-92AAD0DECFB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B472-100C-4059-9E12-C8DAA7E2CF0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D593-DDD9-46A5-9453-2044F6CBE7A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A369-E709-4644-8088-3AA459CB304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ibosomes: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build the cell’s protein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76320" y="2971800"/>
            <a:ext cx="8839080" cy="3809880"/>
            <a:chOff x="76320" y="2971800"/>
            <a:chExt cx="8839080" cy="3809880"/>
          </a:xfrm>
        </p:grpSpPr>
        <p:pic>
          <p:nvPicPr>
            <p:cNvPr id="198" name="Picture 6" descr=""/>
            <p:cNvPicPr/>
            <p:nvPr/>
          </p:nvPicPr>
          <p:blipFill>
            <a:blip r:embed="rId1"/>
            <a:srcRect l="0" t="0" r="0" b="8186"/>
            <a:stretch/>
          </p:blipFill>
          <p:spPr>
            <a:xfrm>
              <a:off x="76320" y="2971800"/>
              <a:ext cx="88390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8"/>
            <p:cNvSpPr/>
            <p:nvPr/>
          </p:nvSpPr>
          <p:spPr>
            <a:xfrm>
              <a:off x="5331960" y="5096160"/>
              <a:ext cx="74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مرتب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5169960" y="4583520"/>
              <a:ext cx="5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ح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 txBox="1"/>
          <p:nvPr/>
        </p:nvSpPr>
        <p:spPr>
          <a:xfrm>
            <a:off x="152280" y="2133360"/>
            <a:ext cx="868680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ibosomes contain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ribosome is composed of two subuni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حد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ombin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تحد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carry out protein synthesi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خليق البرو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447920" y="14292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4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rcRect l="0" t="0" r="0" b="3080"/>
          <a:stretch/>
        </p:blipFill>
        <p:spPr>
          <a:xfrm>
            <a:off x="977760" y="762120"/>
            <a:ext cx="70534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87627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D)- Vacuoles: </a:t>
            </a:r>
            <a:r>
              <a:rPr b="0" lang="ar-EG" sz="25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فجوات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500"/>
            </a:b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ve diverse functions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وظائف متنوع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cell maintenance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للحفاظ على الخلية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5960" y="2717280"/>
            <a:ext cx="89154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ـ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ات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re membrane-bound sac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كياس ذات أغش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ith varied func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oo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rom phagocytosis, fuse with lys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ntractile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نقبضة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ound in freshwater protists, pump excess water out of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entral vacuol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ركز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found in many mature pla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"/>
          <p:cNvGrpSpPr/>
          <p:nvPr/>
        </p:nvGrpSpPr>
        <p:grpSpPr>
          <a:xfrm>
            <a:off x="152280" y="701640"/>
            <a:ext cx="8839080" cy="6003720"/>
            <a:chOff x="152280" y="701640"/>
            <a:chExt cx="8839080" cy="6003720"/>
          </a:xfrm>
        </p:grpSpPr>
        <p:pic>
          <p:nvPicPr>
            <p:cNvPr id="234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152280" y="1767600"/>
              <a:ext cx="5745600" cy="49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5"/>
            <p:cNvSpPr/>
            <p:nvPr/>
          </p:nvSpPr>
          <p:spPr>
            <a:xfrm>
              <a:off x="2877840" y="2339640"/>
              <a:ext cx="138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00"/>
                  </a:solidFill>
                  <a:latin typeface="Arial"/>
                </a:rPr>
                <a:t>الفجوة المركذ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6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645440" y="701640"/>
              <a:ext cx="4345920" cy="336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7"/>
            <p:cNvSpPr/>
            <p:nvPr/>
          </p:nvSpPr>
          <p:spPr>
            <a:xfrm>
              <a:off x="299160" y="1261800"/>
              <a:ext cx="138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نبات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7297560" y="3992760"/>
              <a:ext cx="1535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حيوان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Other Membranous Organelles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6320" y="1370160"/>
            <a:ext cx="8686800" cy="565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A)- Peroxisom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 enzymes that transfer hydrogen from various substrates to oxyg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unctions of peroxis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Hydrogen peroxid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(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 is a poison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ut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peroxisome has enzym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that convert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to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wate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Some peroxisomes break fatty acids dow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smaller molecules that are transported t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tochondria for fuel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لإنتاج الطاق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3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hey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بطل المفعول السُّم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cohol an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ther harmful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mpounds. Thus, it exist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xtensively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liver cell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rcRect l="0" t="0" r="0" b="4072"/>
          <a:stretch/>
        </p:blipFill>
        <p:spPr>
          <a:xfrm>
            <a:off x="5283360" y="2513160"/>
            <a:ext cx="370836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28600" y="1066680"/>
            <a:ext cx="8686800" cy="61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B)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Mitochondria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Constantia"/>
              </a:rPr>
              <a:t>: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y are the main energy transformers of cells 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 they convert energy to fuel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cells can use for wor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Mitochondri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 are the sites of cellular respira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enerating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نتِج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rom the catabolism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د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ugars, fats, and other fuel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صادر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e presence of oxyg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lmost all eukaryotic cells have mitochondr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tochondria and chloroplasts are mobile and move around the cell along tracks in the cytoskeleton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22860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Membranous Organelle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6320" y="914400"/>
            <a:ext cx="906768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Mitochondr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smooth outer membrane and a highly folded inner membrane forming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rista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توء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ner membrane encloses the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fluid-filled space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es, and enzym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1238400" y="2362320"/>
            <a:ext cx="6153120" cy="44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52280" y="1054080"/>
            <a:ext cx="883944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ubunits pass from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ell type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ree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suspended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علق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the cytosol and synthesize proteins that functi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ithin the cytosol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4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und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attached to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لتصق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بـ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outside of the endoplasmic reticulum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synthesize proteins that are either included into membranes or for secretion outside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C5A5-6965-42B2-9D19-AC63CF19F3CF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33520" y="1066680"/>
            <a:ext cx="77724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030a0"/>
                </a:solidFill>
                <a:uFillTx/>
                <a:latin typeface="Arial"/>
              </a:rPr>
              <a:t>3- The Endomembra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28600" y="1887480"/>
            <a:ext cx="876312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oplasmic reticul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بكة الإندوبلازم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facturers membranes and performs many other biosynthe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olgi apparat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هاز جولـﭽـ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shes, sorts, and ships cel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ys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يسوزوم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digestive com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cu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فجو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diverse functions in cell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4676760" y="1295280"/>
            <a:ext cx="4467240" cy="5486400"/>
            <a:chOff x="4676760" y="1295280"/>
            <a:chExt cx="4467240" cy="5486400"/>
          </a:xfrm>
        </p:grpSpPr>
        <p:pic>
          <p:nvPicPr>
            <p:cNvPr id="208" name="Picture 3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4676760" y="1295280"/>
              <a:ext cx="446724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4"/>
            <p:cNvSpPr/>
            <p:nvPr/>
          </p:nvSpPr>
          <p:spPr>
            <a:xfrm>
              <a:off x="59436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80010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54104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A)-</a:t>
            </a:r>
            <a:r>
              <a:rPr b="1" lang="en-US" sz="2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The endoplasmic reticulum (</a:t>
            </a: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ER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</a:t>
            </a:r>
            <a:br>
              <a:rPr sz="2200"/>
            </a:b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400"/>
            </a:br>
            <a:r>
              <a:rPr b="1" lang="en-US" sz="2200" spc="-1" strike="noStrike">
                <a:solidFill>
                  <a:srgbClr val="04617b"/>
                </a:solidFill>
                <a:latin typeface="Calibri"/>
              </a:rPr>
              <a:t>manufacturers membranes and performs many other biosynthetic function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5960" y="2703240"/>
            <a:ext cx="4724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ncludes membranous tubu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re are two types of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hat differ i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Smoot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smooth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اعمة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i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cks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Roug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rough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شن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ribosomes 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are attached to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utsid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2860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920" y="1023480"/>
            <a:ext cx="8610480" cy="662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smooth ER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ناعم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 is rich in enzymes and plays a role in metabol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proces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s enzymes synthesize lipid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هو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oils, phospholipid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and steroids) including the sex hormon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رمونات الجنس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tens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وجد بكثرة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liv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helps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بطال الأثر السام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rug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خدرا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poiso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rough ER: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خشنة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s especially abunda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وفر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ose cells th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secrete proteins as it contains riboso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These secretory proteins are packaged in transp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vesicles that carry them to their next st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B)- Golgi apparatus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nishes, sort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ـُجَه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packaging and ship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غلف وتنق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ll product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51920" y="2028960"/>
            <a:ext cx="8915400" cy="46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ny transport 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ية ناق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rom the ER travel to the Golgi apparatus for modific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طوير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their conte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function is manufactur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arehous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غليف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sort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َجْهيز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ackagin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shipping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نق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terials to outside the cel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he Golgi apparatus is especially extensive in cell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specialized for secre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إفراز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also manufactures pectin and polysaccharid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3"/>
          <p:cNvGrpSpPr/>
          <p:nvPr/>
        </p:nvGrpSpPr>
        <p:grpSpPr>
          <a:xfrm>
            <a:off x="152280" y="457200"/>
            <a:ext cx="8839440" cy="6248520"/>
            <a:chOff x="152280" y="457200"/>
            <a:chExt cx="8839440" cy="6248520"/>
          </a:xfrm>
        </p:grpSpPr>
        <p:pic>
          <p:nvPicPr>
            <p:cNvPr id="219" name="Picture 4" descr=""/>
            <p:cNvPicPr/>
            <p:nvPr/>
          </p:nvPicPr>
          <p:blipFill>
            <a:blip r:embed="rId1"/>
            <a:srcRect l="0" t="0" r="0" b="10164"/>
            <a:stretch/>
          </p:blipFill>
          <p:spPr>
            <a:xfrm>
              <a:off x="152280" y="457200"/>
              <a:ext cx="8839440" cy="62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5"/>
            <p:cNvSpPr/>
            <p:nvPr/>
          </p:nvSpPr>
          <p:spPr>
            <a:xfrm>
              <a:off x="3086280" y="39369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وعاء ناق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C)- Lysosomes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أجسام المُحللة</a:t>
            </a:r>
            <a:r>
              <a:rPr b="1" lang="ar-EG" sz="32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re digestive compon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600" y="1279080"/>
            <a:ext cx="86868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lysosom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membrane-bounded sac 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يس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nzymes that digests macromolecu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rcRect l="0" t="6939" r="35742" b="6358"/>
          <a:stretch/>
        </p:blipFill>
        <p:spPr>
          <a:xfrm>
            <a:off x="0" y="1935000"/>
            <a:ext cx="9144000" cy="4923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7238880" y="4572000"/>
            <a:ext cx="838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28240" y="2007720"/>
            <a:ext cx="8534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ysosomal enzym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ork best at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pH = 5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(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acid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ysosomal enzy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re synthesized b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roug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hen transferred to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نقل إل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Golg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then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lysoso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nstantia"/>
              </a:rPr>
              <a:t>Function of Lysozomal enzym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ydrolys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يحلل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proteins, fats, polysaccharides, and nucleic aci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destroy the cell by autodigestion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utophagy)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ضم الذات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fuse with food vacuoles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حجوة ال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digest food, (when a food item is brought into the cell by phagocytosi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also fuse with another organelle or part of the cytosol. This process of </a:t>
            </a:r>
            <a:r>
              <a:rPr b="1" i="1" lang="en-US" sz="1800" spc="-1" strike="noStrike">
                <a:solidFill>
                  <a:srgbClr val="0000ff"/>
                </a:solidFill>
                <a:latin typeface="Constantia"/>
              </a:rPr>
              <a:t>autophagy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recycling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hich renews the ce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676520" y="1081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ysozomal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05:47:50Z</dcterms:created>
  <dc:creator>User</dc:creator>
  <dc:description/>
  <dc:language>en-US</dc:language>
  <cp:lastModifiedBy>د أشرف مشالي</cp:lastModifiedBy>
  <dcterms:modified xsi:type="dcterms:W3CDTF">2013-09-01T08:09:56Z</dcterms:modified>
  <cp:revision>8</cp:revision>
  <dc:subject/>
  <dc:title>Slide 1</dc:title>
</cp:coreProperties>
</file>