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0F32-FDB2-4717-BCCE-32271DAAF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C69E-C0F7-4B91-98C4-3070AF0DA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BAD8-9E5B-4EDD-9CC5-C07FFAFF0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B285-65CA-4D80-8E7E-EA70E4D8A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46CAA-7A19-4E89-95D9-22DF0D654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978C6-FAAA-4CBB-B2AD-37D127FDA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C5AAD-5381-47C1-B658-93FAF8607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E7512-0F5C-4560-8BFE-57759D2EC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1259E-2EDD-4C50-90CF-686CEEE03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56040-5FC7-479D-8CCA-4877693E6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3C534-CF47-488A-93BE-71918C08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7E41-2739-4B9F-AB9B-09BEE6A3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D8158-F304-46D6-91AB-1C5EE1E5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9657F-46FF-47F2-BE77-72878863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79209-2FD5-4F3D-BF10-7857E7D85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3BDBE-2372-4463-A4CE-16329CD60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0BE23-921C-4586-A1A9-CA0DBCE66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C15C9-79B5-49B9-A3AB-D7FEE74F0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D415D-49A6-417F-BC16-368453ECB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4CA64-0345-4FFA-A2A0-30C0868FC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FAF05-2B4F-4489-A8A4-95248FE28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A2BCF-FFAF-4166-BAD8-5B8844CEF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9431-FF4A-4668-A232-6D9C5AE82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B6CFF-E01F-4508-AB8E-94BC507FD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150E9-D926-4740-88F2-6278F0C4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AA52A-4040-41A0-B653-743172FB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8446B-FC07-408C-9B8B-C7AB3F88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05FDC-1BD5-4542-99B8-BF6557CCF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9B1EC-323E-4397-B119-BB846E26D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EE0B6-3C6A-4BDC-BC65-63BF1CDB6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6EDB1-81EE-430B-A8F1-7DC99FE26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D64A0-B8E6-4126-99C9-8954E3C0F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0927B-2696-408D-97C8-795E28989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37FC-05CA-4B3B-BAF9-079E06389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5B757-9F13-4762-9AE9-ED8FA03CC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44453-617F-4DE8-A43C-F76021E65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8C394-515B-4AF3-AAA5-B9BC0A99C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84A89-5578-42FF-8AFE-F5008EB1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67F0D-9C52-4F79-BC8D-8BE47778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DB93E-312E-48AB-9AFF-AAF9EED8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32582-F019-4D75-8991-F625E4B3C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C07C1-0576-4588-BAFE-2B634AF4E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76915-0870-437C-A5A3-B9FA4514F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3BBC-83F1-4AD2-AC1A-CED06B6BC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E9E2-BFC5-4E06-BC4E-BE679752A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ED4F-E049-4786-AC04-AC3C2861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320C-B187-472E-8035-F8DB7ECE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243F-A94A-4F14-8B9F-2C6F904F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E2F92-A47D-43ED-ABC7-C9179C9B99CC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31DEA-ACEF-4F95-AFE3-2F48717F8578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81BEA-892B-4189-81AF-02722D8C425A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8F865-F97F-4674-8DB7-9CD4AA746941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ibosomes:    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build the cell’s protein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Line 5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0"/>
          <p:cNvGrpSpPr/>
          <p:nvPr/>
        </p:nvGrpSpPr>
        <p:grpSpPr>
          <a:xfrm>
            <a:off x="76320" y="2971800"/>
            <a:ext cx="8839080" cy="3809880"/>
            <a:chOff x="76320" y="2971800"/>
            <a:chExt cx="8839080" cy="3809880"/>
          </a:xfrm>
        </p:grpSpPr>
        <p:pic>
          <p:nvPicPr>
            <p:cNvPr id="198" name="Picture 6" descr=""/>
            <p:cNvPicPr/>
            <p:nvPr/>
          </p:nvPicPr>
          <p:blipFill>
            <a:blip r:embed="rId1"/>
            <a:srcRect l="0" t="0" r="0" b="8186"/>
            <a:stretch/>
          </p:blipFill>
          <p:spPr>
            <a:xfrm>
              <a:off x="76320" y="2971800"/>
              <a:ext cx="8839080" cy="38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Text Box 8"/>
            <p:cNvSpPr/>
            <p:nvPr/>
          </p:nvSpPr>
          <p:spPr>
            <a:xfrm>
              <a:off x="5331960" y="5096160"/>
              <a:ext cx="74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800" spc="-1" strike="noStrike">
                  <a:solidFill>
                    <a:srgbClr val="ff0000"/>
                  </a:solidFill>
                  <a:latin typeface="Arial"/>
                </a:rPr>
                <a:t>مرتبط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9"/>
            <p:cNvSpPr/>
            <p:nvPr/>
          </p:nvSpPr>
          <p:spPr>
            <a:xfrm>
              <a:off x="5169960" y="4583520"/>
              <a:ext cx="599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800" spc="-1" strike="noStrike">
                  <a:solidFill>
                    <a:srgbClr val="ff0000"/>
                  </a:solidFill>
                  <a:latin typeface="Arial"/>
                </a:rPr>
                <a:t>حر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 txBox="1"/>
          <p:nvPr/>
        </p:nvSpPr>
        <p:spPr>
          <a:xfrm>
            <a:off x="152280" y="2133360"/>
            <a:ext cx="8686800" cy="106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Ribosomes contain 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rRN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and protei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 ribosome is composed of two subunit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وحدتين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at combine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تحد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o carry out protein synthesi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خليق البروتين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Text Box 2"/>
          <p:cNvSpPr/>
          <p:nvPr/>
        </p:nvSpPr>
        <p:spPr>
          <a:xfrm>
            <a:off x="1447920" y="142920"/>
            <a:ext cx="6629400" cy="916920"/>
          </a:xfrm>
          <a:prstGeom prst="rect">
            <a:avLst/>
          </a:prstGeom>
          <a:solidFill>
            <a:srgbClr val="009dd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0000"/>
                </a:solidFill>
                <a:latin typeface="Copperplate Gothic Bold"/>
              </a:rPr>
              <a:t>Lecture 4: The Cel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"/>
          <p:cNvPicPr/>
          <p:nvPr/>
        </p:nvPicPr>
        <p:blipFill>
          <a:blip r:embed="rId1"/>
          <a:srcRect l="0" t="0" r="0" b="3080"/>
          <a:stretch/>
        </p:blipFill>
        <p:spPr>
          <a:xfrm>
            <a:off x="977760" y="762120"/>
            <a:ext cx="7053480" cy="60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160" y="1142640"/>
            <a:ext cx="87627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D)- Vacuoles: </a:t>
            </a:r>
            <a:r>
              <a:rPr b="0" lang="ar-EG" sz="25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فجوات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500"/>
            </a:b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ave diverse functions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وظائف متنوعة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 cell maintenance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للحفاظ على الخلية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75960" y="2717280"/>
            <a:ext cx="8915400" cy="40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Vesicl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وعـية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nd vacuol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فجوات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re membrane-bound sac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كياس ذات أغشية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with varied function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Food vacuol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فجوة غذائية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, from phagocytosis, fuse with lysosome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Contractile vacuol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فجوة منقبضة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, found in freshwater protists, pump excess water out of the cell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Central vacuole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فجوة مركزية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re found in many mature plant cell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Line 4"/>
          <p:cNvSpPr/>
          <p:nvPr/>
        </p:nvSpPr>
        <p:spPr>
          <a:xfrm>
            <a:off x="152280" y="12952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3"/>
          <p:cNvGrpSpPr/>
          <p:nvPr/>
        </p:nvGrpSpPr>
        <p:grpSpPr>
          <a:xfrm>
            <a:off x="152280" y="701640"/>
            <a:ext cx="8839080" cy="6003720"/>
            <a:chOff x="152280" y="701640"/>
            <a:chExt cx="8839080" cy="6003720"/>
          </a:xfrm>
        </p:grpSpPr>
        <p:pic>
          <p:nvPicPr>
            <p:cNvPr id="234" name="Picture 4" descr=""/>
            <p:cNvPicPr/>
            <p:nvPr/>
          </p:nvPicPr>
          <p:blipFill>
            <a:blip r:embed="rId1"/>
            <a:srcRect l="0" t="0" r="0" b="3000"/>
            <a:stretch/>
          </p:blipFill>
          <p:spPr>
            <a:xfrm>
              <a:off x="152280" y="1767600"/>
              <a:ext cx="5745600" cy="493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Text Box 5"/>
            <p:cNvSpPr/>
            <p:nvPr/>
          </p:nvSpPr>
          <p:spPr>
            <a:xfrm>
              <a:off x="2877840" y="2339640"/>
              <a:ext cx="1388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00"/>
                  </a:solidFill>
                  <a:latin typeface="Arial"/>
                </a:rPr>
                <a:t>الفجوة المركذي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6" name="Picture 6" descr=""/>
            <p:cNvPicPr/>
            <p:nvPr/>
          </p:nvPicPr>
          <p:blipFill>
            <a:blip r:embed="rId2"/>
            <a:srcRect l="0" t="0" r="0" b="3357"/>
            <a:stretch/>
          </p:blipFill>
          <p:spPr>
            <a:xfrm>
              <a:off x="4645440" y="701640"/>
              <a:ext cx="4345920" cy="336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Text Box 7"/>
            <p:cNvSpPr/>
            <p:nvPr/>
          </p:nvSpPr>
          <p:spPr>
            <a:xfrm>
              <a:off x="299160" y="1261800"/>
              <a:ext cx="1388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0000ff"/>
                  </a:solidFill>
                  <a:latin typeface="Arial"/>
                </a:rPr>
                <a:t>خلية نبات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8"/>
            <p:cNvSpPr/>
            <p:nvPr/>
          </p:nvSpPr>
          <p:spPr>
            <a:xfrm>
              <a:off x="7297560" y="3992760"/>
              <a:ext cx="1535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0000ff"/>
                  </a:solidFill>
                  <a:latin typeface="Arial"/>
                </a:rPr>
                <a:t>خلية حيوان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5181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Other Membranous Organelles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6320" y="1370160"/>
            <a:ext cx="8686800" cy="565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Constantia"/>
              </a:rPr>
              <a:t>A)- Peroxisome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contain enzymes that transfer hydrogen from various substrates to oxyge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Functions of peroxisom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1-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Hydrogen peroxide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(H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Constantia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Constanti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) is a poison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ut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peroxisome has enzyme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that convert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 to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Constantia"/>
              </a:rPr>
              <a:t>water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2-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Some peroxisomes break fatty acids down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o smaller molecules that are transported to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mitochondria for fuel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لإنتاج الطاقة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3-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They detoxify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يبطل المفعول السُّمى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lcohol and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other harmful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ompounds. Thus, it exist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xtensively in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liver cells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Line 4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5" descr=""/>
          <p:cNvPicPr/>
          <p:nvPr/>
        </p:nvPicPr>
        <p:blipFill>
          <a:blip r:embed="rId1"/>
          <a:srcRect l="0" t="0" r="0" b="4072"/>
          <a:stretch/>
        </p:blipFill>
        <p:spPr>
          <a:xfrm>
            <a:off x="5283360" y="2513160"/>
            <a:ext cx="3708360" cy="327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228600" y="1066680"/>
            <a:ext cx="8686800" cy="61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Constantia"/>
              </a:rPr>
              <a:t>B)-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onstantia"/>
              </a:rPr>
              <a:t>Mitochondria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Constantia"/>
              </a:rPr>
              <a:t>:</a:t>
            </a: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y are the main energy transformers of cells a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 they convert energy to fuel </a:t>
            </a:r>
            <a:r>
              <a:rPr b="0" lang="ar-EG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طاق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at cells can use for work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Impact"/>
              </a:rPr>
              <a:t>Mitochondri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Impact"/>
              </a:rPr>
              <a:t> are the sites of cellular respiration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generating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تـُنتِج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ATP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from the catabolism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هدم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of sugars, fats, and other fuels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مصادر</a:t>
            </a:r>
            <a:r>
              <a:rPr b="0" lang="ar-EG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طاق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n the presence of oxyge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Almost all eukaryotic cells have mitochondria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itochondria and chloroplasts are mobile and move around the cell along tracks in the cytoskeleton.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457200" y="228600"/>
            <a:ext cx="5715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ther Membranous Organelles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4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76320" y="914400"/>
            <a:ext cx="9067680" cy="137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Mitochondri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have a smooth outer membrane and a highly folded inner membrane forming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cristae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نتوءات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inner membrane encloses the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mitochondrial matrix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a fluid-filled space with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DN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ribosomes, and enzyme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Picture 3" descr=""/>
          <p:cNvPicPr/>
          <p:nvPr/>
        </p:nvPicPr>
        <p:blipFill>
          <a:blip r:embed="rId1"/>
          <a:srcRect l="0" t="0" r="0" b="6594"/>
          <a:stretch/>
        </p:blipFill>
        <p:spPr>
          <a:xfrm>
            <a:off x="1238400" y="2362320"/>
            <a:ext cx="6153120" cy="446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152280" y="1054080"/>
            <a:ext cx="883944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n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ribosomal RNA (</a:t>
            </a:r>
            <a:r>
              <a:rPr b="1" lang="en-US" sz="2000" spc="-1" strike="noStrike">
                <a:solidFill>
                  <a:srgbClr val="ff3300"/>
                </a:solidFill>
                <a:latin typeface="Constantia"/>
              </a:rPr>
              <a:t>rRN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 is synthesized and assembled with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protein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from the cytoplasm to form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ribosomal subunit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subunits pass from the nuclear pores to the cytoplasm where they combine to form </a:t>
            </a:r>
            <a:r>
              <a:rPr b="1" lang="en-US" sz="2000" spc="-1" strike="noStrike">
                <a:solidFill>
                  <a:srgbClr val="ff3300"/>
                </a:solidFill>
                <a:latin typeface="Constantia"/>
              </a:rPr>
              <a:t>ribosome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Cell types that synthesize large quantities of proteins (e.g., pancreas) have large numbers of ribosome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Types of Ribosomes:-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51"/>
              </a:spcBef>
              <a:buClr>
                <a:srgbClr val="ff0000"/>
              </a:buClr>
              <a:buSzPct val="9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Free ribosomes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re suspended </a:t>
            </a:r>
            <a:r>
              <a:rPr b="0" lang="ar-EG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معلق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n the cytosol and synthesize proteins that functio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within the cytosol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74"/>
              </a:spcBef>
              <a:buClr>
                <a:srgbClr val="ff0000"/>
              </a:buClr>
              <a:buSzPct val="9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51"/>
              </a:spcBef>
              <a:buClr>
                <a:srgbClr val="ff0000"/>
              </a:buClr>
              <a:buSzPct val="9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Bound ribosomes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re attached to </a:t>
            </a:r>
            <a:r>
              <a:rPr b="0" lang="ar-EG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ملتصق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بـ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outside of the endoplasmic reticulum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se synthesize proteins that are either included into membranes or for secretion outside the cell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E7AC5-31A8-4279-B4C7-A0CBFC92DE5B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533520" y="1066680"/>
            <a:ext cx="777240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7030a0"/>
                </a:solidFill>
                <a:uFillTx/>
                <a:latin typeface="Arial"/>
              </a:rPr>
              <a:t>3- The Endomembran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228600" y="1887480"/>
            <a:ext cx="8763120" cy="47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buClr>
                <a:srgbClr val="0000ff"/>
              </a:buClr>
              <a:buFont typeface="Arial"/>
              <a:buAutoNum type="alphaLcParenR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ndoplasmic reticul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شبكة الإندوبلازم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ufacturers membranes and performs many other biosynthetic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buClr>
                <a:srgbClr val="0000ff"/>
              </a:buClr>
              <a:buFont typeface="Arial"/>
              <a:buAutoNum type="alphaLcParenR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buClr>
                <a:srgbClr val="0000ff"/>
              </a:buClr>
              <a:buFont typeface="Arial"/>
              <a:buAutoNum type="alphaLcParenR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olgi apparat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جهاز جولـﭽـ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ishes, sorts, and ships cell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buClr>
                <a:srgbClr val="0000ff"/>
              </a:buClr>
              <a:buFont typeface="Arial"/>
              <a:buAutoNum type="alphaLcParenR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buClr>
                <a:srgbClr val="0000ff"/>
              </a:buClr>
              <a:buFont typeface="Arial"/>
              <a:buAutoNum type="alphaLcParenR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ysosom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يسوزوما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digestive compar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buClr>
                <a:srgbClr val="0000ff"/>
              </a:buClr>
              <a:buFont typeface="Arial"/>
              <a:buAutoNum type="alphaLcParenR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buClr>
                <a:srgbClr val="0000ff"/>
              </a:buClr>
              <a:buFont typeface="Arial"/>
              <a:buAutoNum type="alphaLcParenR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acuo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فجوا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diverse functions in cell maint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2"/>
          <p:cNvGrpSpPr/>
          <p:nvPr/>
        </p:nvGrpSpPr>
        <p:grpSpPr>
          <a:xfrm>
            <a:off x="4676760" y="1295280"/>
            <a:ext cx="4467240" cy="5486400"/>
            <a:chOff x="4676760" y="1295280"/>
            <a:chExt cx="4467240" cy="5486400"/>
          </a:xfrm>
        </p:grpSpPr>
        <p:pic>
          <p:nvPicPr>
            <p:cNvPr id="208" name="Picture 3" descr=""/>
            <p:cNvPicPr/>
            <p:nvPr/>
          </p:nvPicPr>
          <p:blipFill>
            <a:blip r:embed="rId1"/>
            <a:srcRect l="0" t="0" r="0" b="3000"/>
            <a:stretch/>
          </p:blipFill>
          <p:spPr>
            <a:xfrm>
              <a:off x="4676760" y="1295280"/>
              <a:ext cx="446724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Line 4"/>
            <p:cNvSpPr/>
            <p:nvPr/>
          </p:nvSpPr>
          <p:spPr>
            <a:xfrm>
              <a:off x="5943600" y="4952880"/>
              <a:ext cx="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5"/>
            <p:cNvSpPr/>
            <p:nvPr/>
          </p:nvSpPr>
          <p:spPr>
            <a:xfrm>
              <a:off x="8001000" y="4952880"/>
              <a:ext cx="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520" y="838080"/>
            <a:ext cx="541044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A)-</a:t>
            </a:r>
            <a:r>
              <a:rPr b="1" lang="en-US" sz="2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The endoplasmic reticulum (</a:t>
            </a:r>
            <a:r>
              <a:rPr b="1" lang="en-US" sz="2500" spc="-1" strike="noStrike">
                <a:solidFill>
                  <a:srgbClr val="ff0000"/>
                </a:solidFill>
                <a:latin typeface="Calibri"/>
              </a:rPr>
              <a:t>ER</a:t>
            </a: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)</a:t>
            </a:r>
            <a:br>
              <a:rPr sz="2200"/>
            </a:b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 </a:t>
            </a:r>
            <a:br>
              <a:rPr sz="1400"/>
            </a:br>
            <a:r>
              <a:rPr b="1" lang="en-US" sz="2200" spc="-1" strike="noStrike">
                <a:solidFill>
                  <a:srgbClr val="04617b"/>
                </a:solidFill>
                <a:latin typeface="Calibri"/>
              </a:rPr>
              <a:t>manufacturers membranes and performs many other biosynthetic functions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75960" y="2703240"/>
            <a:ext cx="47242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ER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includes membranous tubu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re are two types of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ER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that differ in structure and func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Constantia"/>
              </a:rPr>
              <a:t>Smooth ER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looks smooth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ناعمة</a:t>
            </a:r>
            <a:r>
              <a:rPr b="1" lang="ar-EG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ecause i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lacks ribosome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Constantia"/>
              </a:rPr>
              <a:t>Rough ER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looks rough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خشن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ecause ribosomes (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ound ribosome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 are attached to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it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outsid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Line 8"/>
          <p:cNvSpPr/>
          <p:nvPr/>
        </p:nvSpPr>
        <p:spPr>
          <a:xfrm>
            <a:off x="228600" y="12193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04920" y="1023480"/>
            <a:ext cx="8610480" cy="662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The smooth ER: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شبكة الإندوبلازمية الناعم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- It is rich in enzymes and plays a role in metabol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process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- Its enzymes synthesize lipids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دهون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(oils, phospholipids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and steroids) including the sex hormon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هرمونات الجنسي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xtensive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وجد بكثرة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n the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onstantia"/>
              </a:rPr>
              <a:t>liver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it helps detoxify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إبطال الأثر السام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drug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خدرات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nd poison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سموم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The rough ER:</a:t>
            </a:r>
            <a:r>
              <a:rPr b="1" lang="ar-EG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شبكة الإندوبلازمية الخشنة</a:t>
            </a:r>
            <a:r>
              <a:rPr b="1" lang="ar-EG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- is especially abundant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توفر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n those cells tha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secrete proteins as it contains ribosom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- These secretory proteins are packaged in transpor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vesicles that carry them to their next stag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600" y="8380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B)- Golgi apparatus: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200"/>
            </a:b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inishes, sorts 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تـُجَهز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 packaging and ships 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تغلف وتنقل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ell products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51920" y="2028960"/>
            <a:ext cx="8915400" cy="46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any transport vesicl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وعية ناقل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from the ER travel to the Golgi apparatus for modification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طوير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of their conten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Golgi function is manufacturing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صنيع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warehousing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غليف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sorting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ـَجْهيز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Packaging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and shipping </a:t>
            </a:r>
            <a:r>
              <a:rPr b="0" lang="ar-EG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نقل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aterials to outside the cell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The Golgi apparatus is especially extensive in cells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onstantia"/>
              </a:rPr>
              <a:t>specialized for secretion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خلايا إفرازي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Golgi also manufactures pectin and polysaccharid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up 3"/>
          <p:cNvGrpSpPr/>
          <p:nvPr/>
        </p:nvGrpSpPr>
        <p:grpSpPr>
          <a:xfrm>
            <a:off x="152280" y="457200"/>
            <a:ext cx="8839440" cy="6248520"/>
            <a:chOff x="152280" y="457200"/>
            <a:chExt cx="8839440" cy="6248520"/>
          </a:xfrm>
        </p:grpSpPr>
        <p:pic>
          <p:nvPicPr>
            <p:cNvPr id="219" name="Picture 4" descr=""/>
            <p:cNvPicPr/>
            <p:nvPr/>
          </p:nvPicPr>
          <p:blipFill>
            <a:blip r:embed="rId1"/>
            <a:srcRect l="0" t="0" r="0" b="10164"/>
            <a:stretch/>
          </p:blipFill>
          <p:spPr>
            <a:xfrm>
              <a:off x="152280" y="457200"/>
              <a:ext cx="8839440" cy="624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Text Box 5"/>
            <p:cNvSpPr/>
            <p:nvPr/>
          </p:nvSpPr>
          <p:spPr>
            <a:xfrm>
              <a:off x="3086280" y="3936960"/>
              <a:ext cx="91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وعاء ناق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C)- Lysosomes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ar-EG" sz="2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أجسام المُحللة</a:t>
            </a:r>
            <a:r>
              <a:rPr b="1" lang="ar-EG" sz="3200" spc="-1" strike="noStrike">
                <a:solidFill>
                  <a:srgbClr val="ff0000"/>
                </a:solidFill>
                <a:latin typeface="Calibri"/>
                <a:ea typeface="Traditional Arabic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are digestive componen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28600" y="1279080"/>
            <a:ext cx="8686800" cy="7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lysosom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is a membrane-bounded sac </a:t>
            </a:r>
            <a:r>
              <a:rPr b="1" lang="ar-EG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كيس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f enzymes that digests macromolecul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Line 4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5" descr=""/>
          <p:cNvPicPr/>
          <p:nvPr/>
        </p:nvPicPr>
        <p:blipFill>
          <a:blip r:embed="rId1"/>
          <a:srcRect l="0" t="6939" r="35742" b="6358"/>
          <a:stretch/>
        </p:blipFill>
        <p:spPr>
          <a:xfrm>
            <a:off x="0" y="1935000"/>
            <a:ext cx="9144000" cy="492300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7"/>
          <p:cNvSpPr/>
          <p:nvPr/>
        </p:nvSpPr>
        <p:spPr>
          <a:xfrm>
            <a:off x="7238880" y="4572000"/>
            <a:ext cx="8384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228240" y="2007720"/>
            <a:ext cx="8534520" cy="505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Lysosomal enzyme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work best at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Constantia"/>
              </a:rPr>
              <a:t>pH = 5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 (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onstantia"/>
              </a:rPr>
              <a:t>acidic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lysosomal enzyme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are synthesized by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rough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ER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and then transferred to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نقل إلى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Golgi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then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lysosome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Constantia"/>
              </a:rPr>
              <a:t>Function of Lysozomal enzym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y hydrolyse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Constantia"/>
                <a:cs typeface="Majalla UI"/>
              </a:rPr>
              <a:t>يحلل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proteins, fats, polysaccharides, and nucleic acid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Can destroy the cell by autodigestion (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autophagy) </a:t>
            </a:r>
            <a:r>
              <a:rPr b="0" lang="ar-EG" sz="1400" spc="-1" strike="noStrike">
                <a:solidFill>
                  <a:srgbClr val="000000"/>
                </a:solidFill>
                <a:latin typeface="Constantia"/>
                <a:cs typeface="Majalla UI"/>
              </a:rPr>
              <a:t>الهضم الذاتى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Can fuse with food vacuoles </a:t>
            </a:r>
            <a:r>
              <a:rPr b="0" lang="ar-EG" sz="1400" spc="-1" strike="noStrike">
                <a:solidFill>
                  <a:srgbClr val="000000"/>
                </a:solidFill>
                <a:latin typeface="Constantia"/>
                <a:cs typeface="Majalla UI"/>
              </a:rPr>
              <a:t>الفحجوة الغذائية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o digest food, (when a food item is brought into the cell by phagocytosis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Can also fuse with another organelle or part of the cytosol. This process of </a:t>
            </a:r>
            <a:r>
              <a:rPr b="1" i="1" lang="en-US" sz="1800" spc="-1" strike="noStrike">
                <a:solidFill>
                  <a:srgbClr val="0000ff"/>
                </a:solidFill>
                <a:latin typeface="Constantia"/>
              </a:rPr>
              <a:t>autophagy</a:t>
            </a: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called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recycling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which renews the cel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1676520" y="10810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Lysozomal enzy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4"/>
          <p:cNvSpPr/>
          <p:nvPr/>
        </p:nvSpPr>
        <p:spPr>
          <a:xfrm>
            <a:off x="152280" y="7621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4T05:47:50Z</dcterms:created>
  <dc:creator>User</dc:creator>
  <dc:description/>
  <dc:language>en-US</dc:language>
  <cp:lastModifiedBy>د أشرف مشالي</cp:lastModifiedBy>
  <dcterms:modified xsi:type="dcterms:W3CDTF">2013-09-01T08:09:56Z</dcterms:modified>
  <cp:revision>8</cp:revision>
  <dc:subject/>
  <dc:title>Slide 1</dc:title>
</cp:coreProperties>
</file>