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9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867-C69A-40B7-A9CC-EA569A1B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D42-5C8A-471B-AE16-E65FBB01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8CC-BDDC-4BAC-8BB6-BB35F8F3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C36-F36A-4E1C-B648-9748E222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4700-EF09-4AD0-8DB6-F46D57B1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BCD0-40C3-4D92-8FDC-5DB12CC4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A9D-4303-4116-960E-827E98D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1D8F-048C-4145-B784-F1E7F0A5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175-7BEC-4E94-8591-A68CB74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C29C-37D1-4C6B-9991-F0FF7814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0B1-25D0-435F-B7AD-346E200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BDA-BBD6-45D6-9EDA-4E0BFA06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CB49-E797-4D50-B6B9-7B56FD6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561D-58B1-4E48-8258-8B256A1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B7E-0761-4D33-9C58-65F07F5C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284A-61CA-48A9-A53F-ACE1E7BA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8048-819D-4636-9EA3-516FE388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4862-E028-43A2-9D85-E49890BD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2E80-CC2C-410B-822B-219A8CF8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5DD2-E88A-417B-BDAB-522877BD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B094-6846-43D4-8977-CC5A53C2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3640-E81B-4ECC-823D-29999F3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CF4-65E9-4E3C-8852-05F395B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C0CC-54CA-4A48-BF94-CAE1E51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9B50-63D0-4E57-B27D-B45FF89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7CDA-CE5A-4791-B321-208792A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9E32-2F50-4E94-AE25-B2DABE4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8DEB-2742-4922-BBA3-1E90AFA6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B243-108D-4626-BA9C-5628309F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E418-A73F-4D4F-ACF0-FD68C8D1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BF32-3696-4D6A-BE0F-092171F9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A10E-8CB9-4BCB-AD14-A24D0C0B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C252-DA3F-43DF-941E-0E64D0EA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F5E-8DF0-453A-9AB4-667B3A6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1F05-EF98-4711-8888-758392A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38C2-3B15-4D77-BB06-8D7B4E3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DC23-460F-437E-8F0D-5BF44BF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6E73-B56C-464A-BE48-0E76A73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3062-046D-4360-B85A-27845615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E452-AE82-48F7-A38A-B18375C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F8E8-8267-44C5-B1BF-AF860E2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51A4-A783-455E-8E80-AD972D5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DE1A-681D-46C6-9D72-5C42647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7DD26-9678-4DD3-95AC-DAE7DF5B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489-62D5-4813-B533-6FB4DF1D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F4AC-1051-4F41-86C8-6BFE11E0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B89F-3FBA-483A-8CA4-D7F9DB32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059D5-4B6B-4626-B2B2-9AF16D66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EDEB4-8A84-4B30-B959-F81F891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471A-A91B-4B48-A13C-43B13D81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06BB-9E3D-4B99-8FE0-D25C031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439A-87C6-4B92-87A7-19E2D4C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F92F-EA00-4D84-B8DD-359A681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4FC7-E902-485E-AB74-1494C962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A3FD-7E61-4032-B63C-0EF60AC4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F8D-7348-4994-AC98-E7CEB57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C706D-374D-401C-B0BA-E260BA9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8CA-4499-4573-9192-902BD64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9C4-B14A-47F3-AA9E-F4BC8F5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981-57CC-44CD-B468-803FBF0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CAD-FAC0-4E0D-831D-857E8CB0CD6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A85-070C-4C2F-93EF-A1E3926838B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1F70-BB61-4088-B893-67125E2D386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C9C-54FC-42B5-A71E-850AB435F40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25C3-CC2C-4F33-B6B7-AAAB1F2625D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URINE ANALYSI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3" descr="urine_analysis_dipping_image_j5wTXTj.jpg"/>
          <p:cNvPicPr/>
          <p:nvPr/>
        </p:nvPicPr>
        <p:blipFill>
          <a:blip r:embed="rId1"/>
          <a:stretch/>
        </p:blipFill>
        <p:spPr>
          <a:xfrm>
            <a:off x="2743200" y="3657600"/>
            <a:ext cx="368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MICROSCOPIC URI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icroscopic examination used to view elements that are not visible without microscope. e.g ce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Red Blood Cell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ematuria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is the presence of abnormal numbers of red cells in urine due to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. Glomerular damag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. Tumo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. Urinary tract ston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. Upper and lower urinary tract infectio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2533c"/>
                </a:solidFill>
                <a:latin typeface="Arial"/>
              </a:rPr>
              <a:t>Hematuria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292934"/>
                </a:solidFill>
                <a:uFillTx/>
                <a:latin typeface="Arial"/>
              </a:rPr>
              <a:t>Two Types of Hematur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Gross hematuri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means that the blood can be seen by the naked eye. The urine may look pinkish, brownish, or bright r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Microscopic hematuria</a:t>
            </a:r>
            <a:r>
              <a:rPr b="0" lang="en-GB" sz="2400" spc="-1" strike="noStrike">
                <a:solidFill>
                  <a:srgbClr val="292934"/>
                </a:solidFill>
                <a:latin typeface="Arial"/>
              </a:rPr>
              <a:t> means that the urine is clear, but blood cells can be seen under a microsco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50845.jpg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http://library.med.utah.edu/WebPath/TUTORIAL/URINE/URINE01.gif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5"/>
          <p:cNvSpPr/>
          <p:nvPr/>
        </p:nvSpPr>
        <p:spPr>
          <a:xfrm>
            <a:off x="1066680" y="1219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BC's may appear normally shaped, swollen by diluted urin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51" name="Picture 5" descr="http://vet.uga.edu/ivcvm/courses/vpat5215/urinary/uremia/images/F07121.jpg"/>
          <p:cNvPicPr/>
          <p:nvPr/>
        </p:nvPicPr>
        <p:blipFill>
          <a:blip r:embed="rId2"/>
          <a:stretch/>
        </p:blipFill>
        <p:spPr>
          <a:xfrm>
            <a:off x="5029200" y="3048120"/>
            <a:ext cx="384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2.White Blood Cell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Pyuria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refers to the presence of abnormal numbers of leukocytes that may appear with infection in either the upper or lower urinary tract or with acute glomerulonephritis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sually, the WBC's are granulocy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BCs - ≤2-5 WBC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http://library.med.utah.edu/WebPath/TUTORIAL/URINE/URINE02.gif"/>
          <p:cNvPicPr/>
          <p:nvPr/>
        </p:nvPicPr>
        <p:blipFill>
          <a:blip r:embed="rId1"/>
          <a:stretch/>
        </p:blipFill>
        <p:spPr>
          <a:xfrm>
            <a:off x="1219320" y="685800"/>
            <a:ext cx="6476760" cy="31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5" name="Picture 4" descr="http://usercontent1.hubimg.com/8485192_f260.jpg"/>
          <p:cNvPicPr/>
          <p:nvPr/>
        </p:nvPicPr>
        <p:blipFill>
          <a:blip r:embed="rId2"/>
          <a:stretch/>
        </p:blipFill>
        <p:spPr>
          <a:xfrm>
            <a:off x="2514600" y="4191120"/>
            <a:ext cx="390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3. Epithelial Cell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nal tubular epithelial cells, contain a large round or oval nucleus and normally slough into the urine in small numbers. However, with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nephrotic syndrome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d in conditions leading to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tubular degeneration, the number sloughed is increas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≤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5-20 squamous epithelial cells/hpf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http://library.med.utah.edu/WebPath/TUTORIAL/URINE/URINE11.gif"/>
          <p:cNvPicPr/>
          <p:nvPr/>
        </p:nvPicPr>
        <p:blipFill>
          <a:blip r:embed="rId1"/>
          <a:stretch/>
        </p:blipFill>
        <p:spPr>
          <a:xfrm>
            <a:off x="1143000" y="838080"/>
            <a:ext cx="670572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9" name="Picture 4" descr="Image result for epithelial cells in urine"/>
          <p:cNvPicPr/>
          <p:nvPr/>
        </p:nvPicPr>
        <p:blipFill>
          <a:blip r:embed="rId2"/>
          <a:stretch/>
        </p:blipFill>
        <p:spPr>
          <a:xfrm>
            <a:off x="2590920" y="38862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4.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rinary casts are cylindrical structures produced by the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idney and present in the urine in certain disease stat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formed in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istal convoluted tubule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(DCT) and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llecting ducts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f nephrons, then dislodge and pass into the urine, where they can detected by microscopy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Urinary casts may be made up of cells (such as white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lood cells, red blood cells, kidney cells) or substanc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ch as protein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4960" indent="-17496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4" descr="http://library.med.utah.edu/WebPath/TUTORIAL/URINE/URINE13.gif"/>
          <p:cNvPicPr/>
          <p:nvPr/>
        </p:nvPicPr>
        <p:blipFill>
          <a:blip r:embed="rId1"/>
          <a:stretch/>
        </p:blipFill>
        <p:spPr>
          <a:xfrm>
            <a:off x="762120" y="838080"/>
            <a:ext cx="3722400" cy="2895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library.med.utah.edu/WebPath/jpeg2/URIN073.jpg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acroscopic urinalysis</a:t>
            </a:r>
            <a:r>
              <a:rPr b="0" lang="ar-SA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s the direct visual observation of the urine, noting its volume, color, clarity or cloudiness, etc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Normal urine is typically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ale yellow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. Obvious abnormalities in the color, clarity, and cloudiness may suggest different disease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The factors which favor protein cast formation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flow rate of the filtrate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high salt concentration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low pH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ll of which favor protein denaturation and precipitation, particularly that of the 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Tamm-Horsfall protein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Protein casts with long, thin tails formed at the junction of Henle's loop and the distal convoluted tubule are calle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Arial"/>
              </a:rPr>
              <a:t>cylindroid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Hyaline casts</a:t>
            </a:r>
            <a:r>
              <a:rPr b="1" lang="en-US" sz="2800" spc="-1" strike="noStrike">
                <a:solidFill>
                  <a:srgbClr val="3b3b4b"/>
                </a:solidFill>
                <a:latin typeface="Arial"/>
              </a:rPr>
              <a:t> (Tamm-Horsfall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proteins)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an be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seen even in healthy people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aline casts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re composed primarily of a mucoprotein (</a:t>
            </a:r>
            <a:r>
              <a:rPr b="1" i="1" lang="en-US" sz="2800" spc="-1" strike="noStrike">
                <a:solidFill>
                  <a:srgbClr val="292934"/>
                </a:solidFill>
                <a:latin typeface="Arial"/>
              </a:rPr>
              <a:t>Tamm-Horsfall protein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secreted by tubule cells. The Tamm-Horsfall protein secretion (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reen dot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) is illustrated in the diagram below, </a:t>
            </a:r>
            <a:r>
              <a:rPr b="0" lang="en-US" sz="2800" spc="-1" strike="noStrike" u="sng">
                <a:solidFill>
                  <a:srgbClr val="292934"/>
                </a:solidFill>
                <a:uFillTx/>
                <a:latin typeface="Arial"/>
              </a:rPr>
              <a:t>forming a hyaline cast in the collecting duc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709720" y="3429000"/>
            <a:ext cx="3724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"/>
          <p:cNvSpPr/>
          <p:nvPr/>
        </p:nvSpPr>
        <p:spPr>
          <a:xfrm>
            <a:off x="685800" y="11430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Red blood cells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may stick together and form red blood cell casts. Such casts are indicative of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, with leakage of RBC's from glomeruli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762120" y="37339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ahoma"/>
              </a:rPr>
              <a:t>White blood cell 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casts may also be present with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glomerulonephritis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 Their presence indicates inflammation of the kidney, because such casts will not form except in the kidney</a:t>
            </a:r>
            <a:r>
              <a:rPr b="0" lang="en-US" sz="2800" spc="-1" strike="noStrike">
                <a:solidFill>
                  <a:srgbClr val="292934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7" descr="http://library.med.utah.edu/WebPath/TUTORIAL/URINE/URINE06.gif"/>
          <p:cNvPicPr/>
          <p:nvPr/>
        </p:nvPicPr>
        <p:blipFill>
          <a:blip r:embed="rId1"/>
          <a:stretch/>
        </p:blipFill>
        <p:spPr>
          <a:xfrm>
            <a:off x="4038480" y="609480"/>
            <a:ext cx="4114800" cy="1648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1" name="Picture 18" descr="http://library.med.utah.edu/WebPath/TUTORIAL/URINE/URINE05.gif"/>
          <p:cNvPicPr/>
          <p:nvPr/>
        </p:nvPicPr>
        <p:blipFill>
          <a:blip r:embed="rId2"/>
          <a:stretch/>
        </p:blipFill>
        <p:spPr>
          <a:xfrm>
            <a:off x="4191120" y="3505320"/>
            <a:ext cx="4114800" cy="164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2" name="Picture 6" descr="http://www.pathguy.com/sol/17244.jpg"/>
          <p:cNvPicPr/>
          <p:nvPr/>
        </p:nvPicPr>
        <p:blipFill>
          <a:blip r:embed="rId3"/>
          <a:stretch/>
        </p:blipFill>
        <p:spPr>
          <a:xfrm>
            <a:off x="22320" y="380880"/>
            <a:ext cx="36828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mage result for white blood cell casts in urine"/>
          <p:cNvPicPr/>
          <p:nvPr/>
        </p:nvPicPr>
        <p:blipFill>
          <a:blip r:embed="rId4"/>
          <a:stretch/>
        </p:blipFill>
        <p:spPr>
          <a:xfrm>
            <a:off x="11160" y="3048120"/>
            <a:ext cx="3763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21718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1718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27507" t="65266" r="41110" b="0"/>
          <a:stretch/>
        </p:blipFill>
        <p:spPr>
          <a:xfrm>
            <a:off x="2771640" y="2143080"/>
            <a:ext cx="3505320" cy="2438280"/>
          </a:xfrm>
          <a:prstGeom prst="rect">
            <a:avLst/>
          </a:prstGeom>
          <a:ln w="9360">
            <a:solidFill>
              <a:srgbClr val="292934"/>
            </a:solidFill>
            <a:miter/>
          </a:ln>
        </p:spPr>
      </p:pic>
      <p:sp>
        <p:nvSpPr>
          <p:cNvPr id="278" name="Text Box 12"/>
          <p:cNvSpPr/>
          <p:nvPr/>
        </p:nvSpPr>
        <p:spPr>
          <a:xfrm>
            <a:off x="3564720" y="2060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</a:rPr>
              <a:t>Crenated RBC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4322880" y="2590920"/>
            <a:ext cx="609480" cy="838080"/>
          </a:xfrm>
          <a:prstGeom prst="line">
            <a:avLst/>
          </a:prstGeom>
          <a:ln w="3816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80" name="Picture 4" descr="RBCs-2"/>
          <p:cNvPicPr/>
          <p:nvPr/>
        </p:nvPicPr>
        <p:blipFill>
          <a:blip r:embed="rId2"/>
          <a:stretch/>
        </p:blipFill>
        <p:spPr>
          <a:xfrm>
            <a:off x="1351080" y="1638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Arial"/>
              </a:rPr>
              <a:t>R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WB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rcRect l="0" t="0" r="14286" b="0"/>
          <a:stretch/>
        </p:blipFill>
        <p:spPr>
          <a:xfrm>
            <a:off x="1447920" y="1752480"/>
            <a:ext cx="6033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5783040" cy="3809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627640" y="47242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Times New Roman"/>
              </a:rPr>
              <a:t>Hyaline Casts appear Transparent</a:t>
            </a:r>
            <a:endParaRPr b="0" lang="en-US" sz="24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D3C-2B61-492D-9BB7-296372CDE87F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d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88" name="Picture 4" descr="RBC_cast_arrow"/>
          <p:cNvPicPr/>
          <p:nvPr/>
        </p:nvPicPr>
        <p:blipFill>
          <a:blip r:embed="rId1"/>
          <a:srcRect l="0" t="20577" r="0" b="0"/>
          <a:stretch/>
        </p:blipFill>
        <p:spPr>
          <a:xfrm>
            <a:off x="1219320" y="2421000"/>
            <a:ext cx="5943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F9DD-E189-43E9-8CAC-7AAE0222100A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ite Cell Cas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rcRect l="0" t="0" r="0" b="13067"/>
          <a:stretch/>
        </p:blipFill>
        <p:spPr>
          <a:xfrm>
            <a:off x="1447920" y="2133720"/>
            <a:ext cx="61722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"/>
          <p:cNvSpPr/>
          <p:nvPr/>
        </p:nvSpPr>
        <p:spPr>
          <a:xfrm>
            <a:off x="0" y="15469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small proteins found in the urine. Testing for these proteins is done to diagnose and monitor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multiple myeloma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nd other similar diseases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Bence Jones proteins are considered th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first tumor marker. 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 u="sng">
                <a:solidFill>
                  <a:srgbClr val="292934"/>
                </a:solidFill>
                <a:uFillTx/>
                <a:latin typeface="Arial"/>
                <a:ea typeface="Times New Roman"/>
              </a:rPr>
              <a:t>tumor marker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  <a:ea typeface="Times New Roman"/>
              </a:rPr>
              <a:t>is a substance, made by the body, that is linked to a certain cancer, or malignancy. Bence Jones proteins are made by plasma cells, a type of white blood cell. The presence of these proteins in a person's urine is associated with a malignancy of plasma cells.</a:t>
            </a:r>
            <a:endParaRPr b="0" lang="en-US" sz="2800" spc="-1" strike="noStrike">
              <a:solidFill>
                <a:srgbClr val="292934"/>
              </a:solidFill>
              <a:latin typeface="Tahoma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2438280" y="4572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Bence Jones protein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urine"/>
          <p:cNvPicPr/>
          <p:nvPr/>
        </p:nvPicPr>
        <p:blipFill>
          <a:blip r:embed="rId1"/>
          <a:stretch/>
        </p:blipFill>
        <p:spPr>
          <a:xfrm>
            <a:off x="838080" y="2209680"/>
            <a:ext cx="228132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25" name="Picture 5" descr="http://www.kidneyfailureweb.com/uploads/allimg/130528/1-13052Q62Z11E.jpg"/>
          <p:cNvPicPr/>
          <p:nvPr/>
        </p:nvPicPr>
        <p:blipFill>
          <a:blip r:embed="rId2"/>
          <a:srcRect l="0" t="0" r="52923" b="0"/>
          <a:stretch/>
        </p:blipFill>
        <p:spPr>
          <a:xfrm>
            <a:off x="4797360" y="1468440"/>
            <a:ext cx="1577880" cy="2222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insidetheclinic.com/wp-content/uploads/2013/10/cloudy-urine-during-pregnancy.png"/>
          <p:cNvPicPr/>
          <p:nvPr/>
        </p:nvPicPr>
        <p:blipFill>
          <a:blip r:embed="rId3"/>
          <a:stretch/>
        </p:blipFill>
        <p:spPr>
          <a:xfrm>
            <a:off x="4876920" y="3857760"/>
            <a:ext cx="1419120" cy="2238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ttp://www.tabletsmanual.com/img/wiki/blood_urine.jpg"/>
          <p:cNvPicPr/>
          <p:nvPr/>
        </p:nvPicPr>
        <p:blipFill>
          <a:blip r:embed="rId4"/>
          <a:stretch/>
        </p:blipFill>
        <p:spPr>
          <a:xfrm>
            <a:off x="7162920" y="2438280"/>
            <a:ext cx="1523880" cy="2506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4724280" y="609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bnormal Urine</a:t>
            </a:r>
            <a:endParaRPr b="0" lang="en-US" sz="32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BJPCAST1.jpg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581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685800" y="44956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ahoma"/>
              </a:rPr>
              <a:t>Bence Jones protein cast (myeloma cast) from the urinary sediment of a patient with lambda-Bence Jones type multiple myeloma. Sternheimer stein, X200</a:t>
            </a:r>
            <a:endParaRPr b="0" lang="en-US" sz="20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209680" y="228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https://www.youtube.com/watch?v=M9Zc4G5EHPA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Pregnancy tests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It detects a hormone in the body called human  choronic gonadotropin (hCG)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a hormone produced during pregnancy. It appears in the blood and urine of pregnant women as early as 10 days after conception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hCG is released into the body by the placenta when a woman is pregnant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60" y="111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urine hCG test is usually performed by placing 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rops of urine on a prepared chemical strip. It takes 1-2 min. for a result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00" name="Picture 4" descr="482085923_070[1]"/>
          <p:cNvPicPr/>
          <p:nvPr/>
        </p:nvPicPr>
        <p:blipFill>
          <a:blip r:embed="rId1"/>
          <a:stretch/>
        </p:blipFill>
        <p:spPr>
          <a:xfrm>
            <a:off x="0" y="2862360"/>
            <a:ext cx="9144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img.docstoccdn.com/thumb/orig/114213457.png"/>
          <p:cNvPicPr/>
          <p:nvPr/>
        </p:nvPicPr>
        <p:blipFill>
          <a:blip r:embed="rId1"/>
          <a:stretch/>
        </p:blipFill>
        <p:spPr>
          <a:xfrm>
            <a:off x="609480" y="380880"/>
            <a:ext cx="8047080" cy="60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1.bp.blogspot.com/-UVhhcgbhfqw/UE4X8rS2v5I/AAAAAAAAB4E/1CFxx2jJ38k/s640/UroTest+Table.png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Dipstick chemical analysi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rine dipstick is a narrow plastic strip which has several squares of different colors attached to it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Each small square represents a component of the test used to interpret urinalysis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Colors generated by each pad are visually compared against a range of colors on brand-specific color chart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entire strip is dipped in the urine sample and color changes in each square are noted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2272" b="0"/>
          <a:stretch/>
        </p:blipFill>
        <p:spPr>
          <a:xfrm>
            <a:off x="7873920" y="762120"/>
            <a:ext cx="1270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The squares on the dipstick represent the following components in the urine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587680" cy="38685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0" y="5791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Nitrite (suggestive of bacteria in urine)</a:t>
            </a: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Bilirubin ( possible liver disease or red blood cell break down) </a:t>
            </a:r>
            <a:br>
              <a:rPr sz="1800"/>
            </a:br>
            <a:r>
              <a:rPr b="0" lang="en-US" sz="1800" spc="-1" strike="noStrike">
                <a:solidFill>
                  <a:srgbClr val="292934"/>
                </a:solidFill>
                <a:latin typeface="Tahoma"/>
              </a:rPr>
              <a:t>Urobilinogen ( possible liver disease)</a:t>
            </a:r>
            <a:br>
              <a:rPr sz="1800"/>
            </a:br>
            <a:endParaRPr b="0" lang="en-US" sz="18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5029200" y="1662120"/>
            <a:ext cx="3290760" cy="2212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934320" y="4030560"/>
            <a:ext cx="16794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Image result for dip stick urine analysis"/>
          <p:cNvPicPr/>
          <p:nvPr/>
        </p:nvPicPr>
        <p:blipFill>
          <a:blip r:embed="rId1"/>
          <a:stretch/>
        </p:blipFill>
        <p:spPr>
          <a:xfrm>
            <a:off x="3124080" y="4800600"/>
            <a:ext cx="2595600" cy="17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http://i01.i.aliimg.com/img/pb/526/545/074/1074545526_965.jpg"/>
          <p:cNvPicPr/>
          <p:nvPr/>
        </p:nvPicPr>
        <p:blipFill>
          <a:blip r:embed="rId2"/>
          <a:stretch/>
        </p:blipFill>
        <p:spPr>
          <a:xfrm>
            <a:off x="1258920" y="685800"/>
            <a:ext cx="6324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528560" y="86688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Tahoma"/>
              </a:rPr>
              <a:t>MICROSCOPIC URINALYSIS</a:t>
            </a:r>
            <a:endParaRPr b="0" lang="en-US" sz="3600" spc="-1" strike="noStrike">
              <a:solidFill>
                <a:srgbClr val="292934"/>
              </a:solidFill>
              <a:latin typeface="Tahoma"/>
            </a:endParaRPr>
          </a:p>
        </p:txBody>
      </p:sp>
      <p:pic>
        <p:nvPicPr>
          <p:cNvPr id="243" name="Picture 2" descr="laboratory_test_for_blood__saliva__stool__breath_urea_imageTXT.jpg"/>
          <p:cNvPicPr/>
          <p:nvPr/>
        </p:nvPicPr>
        <p:blipFill>
          <a:blip r:embed="rId1"/>
          <a:stretch/>
        </p:blipFill>
        <p:spPr>
          <a:xfrm>
            <a:off x="2209680" y="1905120"/>
            <a:ext cx="490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05:14Z</dcterms:created>
  <dc:creator>rmnouh</dc:creator>
  <dc:description/>
  <dc:language>en-US</dc:language>
  <cp:lastModifiedBy>aalbity</cp:lastModifiedBy>
  <dcterms:modified xsi:type="dcterms:W3CDTF">2016-10-13T06:52:22Z</dcterms:modified>
  <cp:revision>91</cp:revision>
  <dc:subject/>
  <dc:title>Urine analysis</dc:title>
</cp:coreProperties>
</file>