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669-6A5A-4C35-AECC-631CAF51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5DD-EE45-4E0A-A1F1-D7C8FC6D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030-B9AF-4B55-9C8F-36BBD277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267-9FF7-4C4C-9BA6-2C06BED7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A08-81F5-485B-93E0-60882715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1AE-7D47-4559-9DF6-13AFA37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3F30-ADD9-4CFE-A40B-11DDA31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BC5-2434-4228-A427-D04F5F67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1AB-A165-43F3-BF7D-45B33206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0088-85C6-4AD7-B79F-E8C37BDB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16E3-5F3A-4E7C-9333-FE85CDC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DB0-1FA4-4D60-BFF3-FD64CA7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7E68-C32B-4621-8485-F17836B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78E-B705-4465-9B59-E3B7953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F19-DB68-4E13-BE35-D1A43F9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DCC-B191-4333-B208-E1132F0F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A1E-59AE-4712-8B10-60FE28CB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436A-50DA-4B6E-BEB8-D7F999A5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F992-1AA9-457F-B040-B052B43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8992-5DFB-46D3-BF6B-568BC3D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8223-F5DF-4E7D-80A1-D0C7B728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383A-B826-4199-B42B-5A480CF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89B-F67A-4E3A-B42D-A66C961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F2E7-6D87-426E-A022-7F82EB37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5A95-9FB2-4761-AD91-468BD8D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3104-DFC9-4F4F-AD60-86EFFB2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362F-1B20-400E-9498-E768BBD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0B46-7E55-45FC-9ACC-BFDF3D4A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D4B0-710C-4EF1-B59A-30F167D5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0CCC-5FA4-4D47-833B-07D79A85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0CC1-D167-41B5-9C08-0802BA5A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FD79-BC3F-4B7C-B84D-9DBF39C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407C-8D9F-43D6-85AD-91D5A56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291-66AA-49EE-ABE8-CC0CF41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F539-B83F-465E-9951-FDC3195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0A92-1CB2-4E46-804D-9F5369E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418F-01DA-4400-9462-7988A5E0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6287-B1D6-4441-BAF5-B089D63D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F801-6A57-42B6-A8FF-1A3FA1F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447B-16B2-4606-904C-160100F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3AF2-EBCF-4071-B0BF-06B78764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000E-A2E5-4B5D-96D8-04269E46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E24F-6526-4FAA-B115-CB0E4B8F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7976-1E51-4C86-914A-A782CEA0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D98-1640-4D53-87A1-17CA10D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809C1-CC5D-43B0-9E34-07E8AFF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E5F0-F21E-4E47-B2FC-57F4A93A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6B7A-2E78-4A58-8901-B1DEBFF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DAE4-D87E-4E99-AF99-5DD530E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02B1-54D7-4575-AADE-77B2C1BD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C68C-875F-4D4C-B653-F43C631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F05C-77E4-4395-8F55-DD7E9E7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C8CC-80AF-404C-801C-3CA34DF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9996-F576-471C-9925-785A2ED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A9F9-57C1-4307-B2A4-7213B697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29F-ECC3-4F88-94B7-8030803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0E48-F8FF-41AE-9668-79C32204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6C9-7105-473E-86C7-F20EAA9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2C0-0130-4F0C-ADC2-B6E2CA4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900-51A9-4439-84F7-D6A175B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B49-D9B5-4CDA-A999-3F750AED84F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29AD-221F-410D-AC1E-C2A806922ED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FB7-FAE8-49C0-B742-3788225F9D4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9C5C-3862-42BE-BD54-FA10AA75EF5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B9CB-7378-4470-AEED-73EFB6B1018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URINE ANALYSI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3" descr="urine_analysis_dipping_image_j5wTXTj.jpg"/>
          <p:cNvPicPr/>
          <p:nvPr/>
        </p:nvPicPr>
        <p:blipFill>
          <a:blip r:embed="rId1"/>
          <a:stretch/>
        </p:blipFill>
        <p:spPr>
          <a:xfrm>
            <a:off x="2743200" y="3657600"/>
            <a:ext cx="368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MICROSCOPIC URI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icroscopic examination used to view elements that are not visible without microscope. e.g ce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Red Blood Cell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ematuria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the presence of abnormal numbers of red cells in urine due to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. Glomerular damag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. Tum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 Urinary tract sto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. Upper and lower urinary tract infecti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2533c"/>
                </a:solidFill>
                <a:latin typeface="Arial"/>
              </a:rPr>
              <a:t>Hematu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292934"/>
                </a:solidFill>
                <a:uFillTx/>
                <a:latin typeface="Arial"/>
              </a:rPr>
              <a:t>Two Types of Hematu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Gross hematuri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means that the blood can be seen by the naked eye. The urine may look pinkish, brownish, or bright 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Microscopic hematuria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 means that the urine is clear, but blood cells can be seen under a microsco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50845.jpg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://library.med.utah.edu/WebPath/TUTORIAL/URINE/URINE01.gif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5"/>
          <p:cNvSpPr/>
          <p:nvPr/>
        </p:nvSpPr>
        <p:spPr>
          <a:xfrm>
            <a:off x="1066680" y="1219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BC's may appear normally shaped, swollen by diluted urin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51" name="Picture 5" descr="http://vet.uga.edu/ivcvm/courses/vpat5215/urinary/uremia/images/F07121.jpg"/>
          <p:cNvPicPr/>
          <p:nvPr/>
        </p:nvPicPr>
        <p:blipFill>
          <a:blip r:embed="rId2"/>
          <a:stretch/>
        </p:blipFill>
        <p:spPr>
          <a:xfrm>
            <a:off x="5029200" y="3048120"/>
            <a:ext cx="384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2.White Blood Cell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Pyuri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refers to the presence of abnormal numbers of leukocytes that may appear with infection in either the upper or lower urinary tract or with acute glomerulonephriti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ually, the WBC's are granulocy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BCs - ≤2-5 WBC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http://library.med.utah.edu/WebPath/TUTORIAL/URINE/URINE02.gif"/>
          <p:cNvPicPr/>
          <p:nvPr/>
        </p:nvPicPr>
        <p:blipFill>
          <a:blip r:embed="rId1"/>
          <a:stretch/>
        </p:blipFill>
        <p:spPr>
          <a:xfrm>
            <a:off x="1219320" y="685800"/>
            <a:ext cx="6476760" cy="31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5" name="Picture 4" descr="http://usercontent1.hubimg.com/8485192_f260.jpg"/>
          <p:cNvPicPr/>
          <p:nvPr/>
        </p:nvPicPr>
        <p:blipFill>
          <a:blip r:embed="rId2"/>
          <a:stretch/>
        </p:blipFill>
        <p:spPr>
          <a:xfrm>
            <a:off x="2514600" y="4191120"/>
            <a:ext cx="390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3. Epithelial Cell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nal tubular epithelial cells, contain a large round or oval nucleus and normally slough into the urine in small numbers. However, with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nephrotic syndrom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in conditions leading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tubular degeneration, the number sloughed is increas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5-20 squamous epithelial cell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http://library.med.utah.edu/WebPath/TUTORIAL/URINE/URINE11.gif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9" name="Picture 4" descr="Image result for epithelial cells in urine"/>
          <p:cNvPicPr/>
          <p:nvPr/>
        </p:nvPicPr>
        <p:blipFill>
          <a:blip r:embed="rId2"/>
          <a:stretch/>
        </p:blipFill>
        <p:spPr>
          <a:xfrm>
            <a:off x="2590920" y="38862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4.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rinary casts are cylindrical structures produced by the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idney and present in the urine in certain disease stat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formed in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istal convoluted tubule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DCT) and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llecting ducts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f nephrons, then dislodge and pass into the urine, where they can detected by microscop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Urinary casts may be made up of cells (such as white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lood cells, red blood cells, kidney cells) or substa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ch as protein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4" descr="http://library.med.utah.edu/WebPath/TUTORIAL/URINE/URINE13.gif"/>
          <p:cNvPicPr/>
          <p:nvPr/>
        </p:nvPicPr>
        <p:blipFill>
          <a:blip r:embed="rId1"/>
          <a:stretch/>
        </p:blipFill>
        <p:spPr>
          <a:xfrm>
            <a:off x="762120" y="8380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library.med.utah.edu/WebPath/jpeg2/URIN073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croscopic urinalysis</a:t>
            </a:r>
            <a:r>
              <a:rPr b="0" lang="ar-SA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 the direct visual observation of the urine, noting its volume, color, clarity or cloudiness, etc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rmal urine is typically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ale yellow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. Obvious abnormalities in the color, clarity, and cloudiness may suggest different disease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The factors which favor protein cast formation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flow rate of the filtrat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igh salt concentration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p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of which favor protein denaturation and precipitation, particularly that of the 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Tamm-Horsfall protein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Protein casts with long, thin tails formed at the junction of Henle's loop and the distal convoluted tubule are calle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cylindroid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Hyaline casts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 (Tamm-Horsfall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teins)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een even in healthy people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aline cast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re composed primarily of a mucoprotein (</a:t>
            </a:r>
            <a:r>
              <a:rPr b="1" i="1" lang="en-US" sz="2800" spc="-1" strike="noStrike">
                <a:solidFill>
                  <a:srgbClr val="292934"/>
                </a:solidFill>
                <a:latin typeface="Arial"/>
              </a:rPr>
              <a:t>Tamm-Horsfall protei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secreted by tubule cells. The Tamm-Horsfall protein secretion (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reen dot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is illustrated in the diagram below,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forming a hyaline cast in the collecting du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709720" y="3429000"/>
            <a:ext cx="3724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685800" y="1143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Red blood cells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y stick together and form red blood cell casts. Such casts are indicative of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, with leakage of RBC's from glomeruli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762120" y="37339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ahoma"/>
              </a:rPr>
              <a:t>White blood cell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casts may also be present with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 Their presence indicates inflammation of the kidney, because such casts will not form except in the kidney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7" descr="http://library.med.utah.edu/WebPath/TUTORIAL/URINE/URINE06.gif"/>
          <p:cNvPicPr/>
          <p:nvPr/>
        </p:nvPicPr>
        <p:blipFill>
          <a:blip r:embed="rId1"/>
          <a:stretch/>
        </p:blipFill>
        <p:spPr>
          <a:xfrm>
            <a:off x="4038480" y="609480"/>
            <a:ext cx="4114800" cy="164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1" name="Picture 18" descr="http://library.med.utah.edu/WebPath/TUTORIAL/URINE/URINE05.gif"/>
          <p:cNvPicPr/>
          <p:nvPr/>
        </p:nvPicPr>
        <p:blipFill>
          <a:blip r:embed="rId2"/>
          <a:stretch/>
        </p:blipFill>
        <p:spPr>
          <a:xfrm>
            <a:off x="4191120" y="3505320"/>
            <a:ext cx="4114800" cy="164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2" name="Picture 6" descr="http://www.pathguy.com/sol/17244.jpg"/>
          <p:cNvPicPr/>
          <p:nvPr/>
        </p:nvPicPr>
        <p:blipFill>
          <a:blip r:embed="rId3"/>
          <a:stretch/>
        </p:blipFill>
        <p:spPr>
          <a:xfrm>
            <a:off x="22320" y="380880"/>
            <a:ext cx="36828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mage result for white blood cell casts in urine"/>
          <p:cNvPicPr/>
          <p:nvPr/>
        </p:nvPicPr>
        <p:blipFill>
          <a:blip r:embed="rId4"/>
          <a:stretch/>
        </p:blipFill>
        <p:spPr>
          <a:xfrm>
            <a:off x="11160" y="3048120"/>
            <a:ext cx="376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1718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1718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27507" t="65266" r="41110" b="0"/>
          <a:stretch/>
        </p:blipFill>
        <p:spPr>
          <a:xfrm>
            <a:off x="2771640" y="2143080"/>
            <a:ext cx="3505320" cy="2438280"/>
          </a:xfrm>
          <a:prstGeom prst="rect">
            <a:avLst/>
          </a:prstGeom>
          <a:ln w="9360">
            <a:solidFill>
              <a:srgbClr val="292934"/>
            </a:solidFill>
            <a:miter/>
          </a:ln>
        </p:spPr>
      </p:pic>
      <p:sp>
        <p:nvSpPr>
          <p:cNvPr id="278" name="Text Box 12"/>
          <p:cNvSpPr/>
          <p:nvPr/>
        </p:nvSpPr>
        <p:spPr>
          <a:xfrm>
            <a:off x="3564720" y="2060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Crenated RBC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322880" y="2590920"/>
            <a:ext cx="609480" cy="838080"/>
          </a:xfrm>
          <a:prstGeom prst="line">
            <a:avLst/>
          </a:prstGeom>
          <a:ln w="381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80" name="Picture 4" descr="RBCs-2"/>
          <p:cNvPicPr/>
          <p:nvPr/>
        </p:nvPicPr>
        <p:blipFill>
          <a:blip r:embed="rId2"/>
          <a:stretch/>
        </p:blipFill>
        <p:spPr>
          <a:xfrm>
            <a:off x="1351080" y="1638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R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W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rcRect l="0" t="0" r="14286" b="0"/>
          <a:stretch/>
        </p:blipFill>
        <p:spPr>
          <a:xfrm>
            <a:off x="1447920" y="1752480"/>
            <a:ext cx="60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5783040" cy="3809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627640" y="47242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</a:rPr>
              <a:t>Hyaline Casts appear Transparent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2C8F-4DAD-495B-B043-0BE416CD0DAD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d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4" descr="RBC_cast_arrow"/>
          <p:cNvPicPr/>
          <p:nvPr/>
        </p:nvPicPr>
        <p:blipFill>
          <a:blip r:embed="rId1"/>
          <a:srcRect l="0" t="20577" r="0" b="0"/>
          <a:stretch/>
        </p:blipFill>
        <p:spPr>
          <a:xfrm>
            <a:off x="1219320" y="2421000"/>
            <a:ext cx="5943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F7F-26A8-4270-981B-4ADF00DFC50A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ite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rcRect l="0" t="0" r="0" b="13067"/>
          <a:stretch/>
        </p:blipFill>
        <p:spPr>
          <a:xfrm>
            <a:off x="1447920" y="2133720"/>
            <a:ext cx="61722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5469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small proteins found in the urine. Testing for these proteins is done to diagnose and monitor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multiple myeloma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nd other similar diseas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consider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first tumor marker.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  <a:ea typeface="Times New Roman"/>
              </a:rPr>
              <a:t>tumor marker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is a substance, made by the body, that is linked to a certain cancer, or malignancy. Bence Jones proteins are made by plasma cells, a type of white blood cell. The presence of these proteins in a person's urine is associated with a malignancy of plasma cells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2438280" y="4572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Bence Jones protein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urine"/>
          <p:cNvPicPr/>
          <p:nvPr/>
        </p:nvPicPr>
        <p:blipFill>
          <a:blip r:embed="rId1"/>
          <a:stretch/>
        </p:blipFill>
        <p:spPr>
          <a:xfrm>
            <a:off x="838080" y="2209680"/>
            <a:ext cx="228132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25" name="Picture 5" descr="http://www.kidneyfailureweb.com/uploads/allimg/130528/1-13052Q62Z11E.jpg"/>
          <p:cNvPicPr/>
          <p:nvPr/>
        </p:nvPicPr>
        <p:blipFill>
          <a:blip r:embed="rId2"/>
          <a:srcRect l="0" t="0" r="52923" b="0"/>
          <a:stretch/>
        </p:blipFill>
        <p:spPr>
          <a:xfrm>
            <a:off x="4797360" y="1468440"/>
            <a:ext cx="15778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insidetheclinic.com/wp-content/uploads/2013/10/cloudy-urine-during-pregnancy.png"/>
          <p:cNvPicPr/>
          <p:nvPr/>
        </p:nvPicPr>
        <p:blipFill>
          <a:blip r:embed="rId3"/>
          <a:stretch/>
        </p:blipFill>
        <p:spPr>
          <a:xfrm>
            <a:off x="4876920" y="3857760"/>
            <a:ext cx="1419120" cy="223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://www.tabletsmanual.com/img/wiki/blood_urine.jpg"/>
          <p:cNvPicPr/>
          <p:nvPr/>
        </p:nvPicPr>
        <p:blipFill>
          <a:blip r:embed="rId4"/>
          <a:stretch/>
        </p:blipFill>
        <p:spPr>
          <a:xfrm>
            <a:off x="7162920" y="2438280"/>
            <a:ext cx="1523880" cy="2506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472428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b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BJPCAST1.jpg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581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685800" y="44956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ahoma"/>
              </a:rPr>
              <a:t>Bence Jones protein cast (myeloma cast) from the urinary sediment of a patient with lambda-Bence Jones type multiple myeloma. Sternheimer stein, X200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209680" y="228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https://www.youtube.com/watch?v=M9Zc4G5EHPA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Pregnancy test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 detects a hormone in the body called human  choronic gonadotropin (hCG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a hormone produced during pregnancy. It appears in the blood and urine of pregnant women as early as 10 days after conception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released into the body by the placenta when a woman is pregnant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60" y="111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urine hCG test is usually performed by placing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rops of urine on a prepared chemical strip. It takes 1-2 min. for a result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00" name="Picture 4" descr="482085923_070[1]"/>
          <p:cNvPicPr/>
          <p:nvPr/>
        </p:nvPicPr>
        <p:blipFill>
          <a:blip r:embed="rId1"/>
          <a:stretch/>
        </p:blipFill>
        <p:spPr>
          <a:xfrm>
            <a:off x="0" y="2862360"/>
            <a:ext cx="9144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img.docstoccdn.com/thumb/orig/114213457.png"/>
          <p:cNvPicPr/>
          <p:nvPr/>
        </p:nvPicPr>
        <p:blipFill>
          <a:blip r:embed="rId1"/>
          <a:stretch/>
        </p:blipFill>
        <p:spPr>
          <a:xfrm>
            <a:off x="609480" y="380880"/>
            <a:ext cx="804708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1.bp.blogspot.com/-UVhhcgbhfqw/UE4X8rS2v5I/AAAAAAAAB4E/1CFxx2jJ38k/s640/UroTest+Table.png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Dipstick chemical a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rine dipstick is a narrow plastic strip which has several squares of different colors attached to it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ach small square represents a component of the test used to interpret urinalysi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lors generated by each pad are visually compared against a range of colors on brand-specific color char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entire strip is dipped in the urine sample and color changes in each square are noted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2272" b="0"/>
          <a:stretch/>
        </p:blipFill>
        <p:spPr>
          <a:xfrm>
            <a:off x="7873920" y="762120"/>
            <a:ext cx="1270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The squares on the dipstick represent the following components in the urine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87680" cy="3868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0" y="5791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itrite (suggestive of bacteria in urine)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Bilirubin ( possible liver disease or red blood cell break down) </a:t>
            </a:r>
            <a:br>
              <a:rPr sz="1800"/>
            </a:b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Urobilinogen ( possible liver disease)</a:t>
            </a: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5029200" y="1662120"/>
            <a:ext cx="3290760" cy="2212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934320" y="4030560"/>
            <a:ext cx="16794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Image result for dip stick urine analysis"/>
          <p:cNvPicPr/>
          <p:nvPr/>
        </p:nvPicPr>
        <p:blipFill>
          <a:blip r:embed="rId1"/>
          <a:stretch/>
        </p:blipFill>
        <p:spPr>
          <a:xfrm>
            <a:off x="3124080" y="4800600"/>
            <a:ext cx="2595600" cy="17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http://i01.i.aliimg.com/img/pb/526/545/074/1074545526_965.jpg"/>
          <p:cNvPicPr/>
          <p:nvPr/>
        </p:nvPicPr>
        <p:blipFill>
          <a:blip r:embed="rId2"/>
          <a:stretch/>
        </p:blipFill>
        <p:spPr>
          <a:xfrm>
            <a:off x="1258920" y="685800"/>
            <a:ext cx="6324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528560" y="86688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Tahoma"/>
              </a:rPr>
              <a:t>MICROSCOPIC URINALYSI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43" name="Picture 2" descr="laboratory_test_for_blood__saliva__stool__breath_urea_imageTXT.jpg"/>
          <p:cNvPicPr/>
          <p:nvPr/>
        </p:nvPicPr>
        <p:blipFill>
          <a:blip r:embed="rId1"/>
          <a:stretch/>
        </p:blipFill>
        <p:spPr>
          <a:xfrm>
            <a:off x="2209680" y="1905120"/>
            <a:ext cx="490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05:14Z</dcterms:created>
  <dc:creator>rmnouh</dc:creator>
  <dc:description/>
  <dc:language>en-US</dc:language>
  <cp:lastModifiedBy>aalbity</cp:lastModifiedBy>
  <dcterms:modified xsi:type="dcterms:W3CDTF">2016-10-13T06:52:22Z</dcterms:modified>
  <cp:revision>91</cp:revision>
  <dc:subject/>
  <dc:title>Urine analysis</dc:title>
</cp:coreProperties>
</file>