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9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82C-C2E2-4C3C-8950-6A65FBCD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EA2-12D7-4987-A73C-9C62D86F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483-D4CF-4A3D-8C2F-CBE8E3D0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BB5-EF87-4CF6-9764-707C35FA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76B5-CE59-4FBD-B635-3611B133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A150-8A3A-4E89-84B9-90C6A115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CD2D-3091-42ED-B0E6-4E216949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677-D560-456E-AB9B-05441362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7692-BEA7-4735-8D04-65B9E071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A6F8-E9DA-41FD-9980-81250D1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0DAC-8575-4A24-B873-D2B8CC3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451-6285-487F-9BCB-DEB47AD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6110-B4EC-43C7-B065-419738B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6259-2D2A-410C-B032-80D19A5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595E-ED71-4510-8122-AE2B626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EEDD-CC25-490D-94BF-44F62919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348F-EF8D-4793-A24E-09338129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A7266-2407-4EF3-960C-6BDC6FC8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1D85-CE7C-434F-ADAA-6EA536E5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39E2-8073-4507-BB64-C2C84C5A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5D58-BA9C-4B34-A251-663980A6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8579-228A-44A6-91B6-F03F4750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0FB-6FF3-4EE0-8787-B484EDC2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8E7E-80DB-4C41-A69F-296F505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1B5B-5CAF-46E1-AD2C-389DAB4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99AD-204B-4179-A41C-94E02449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B86F-028C-4A21-91BC-5007BA2F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5F66-2094-4393-AD9E-EA09CDC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C457-BD64-4B4A-ACB2-58DC7CED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44D5-2950-420E-988A-9142CCB9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0E612-102A-4DD5-9457-933855B5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F497-7C04-46F4-BD30-97244AD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2FEB-1888-4EAF-A5EF-993BF81B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A15-11CA-414B-903A-5BFF6E13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1065-68A1-4321-AA00-60D50E30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CC63-6FF3-49A5-9699-A9FAC9FA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E0549-0F15-45E1-8FC0-201E00E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A7958-54F8-4B24-96A5-872726E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F900-DBBA-40CE-BC86-6610916A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35BCE-F503-43C5-923A-4FED2D31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54016-F342-4F86-8D03-2C274F7C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96C8-D1A7-4FAA-B196-84B31DC4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E704-5CE6-4FC2-874F-6F99844E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4FD13-08B2-4848-985D-2582B1DE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530-074C-4EBD-9C47-4FF3481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B675-4E39-408A-8B56-00C001A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D1BC-3D3B-405B-B574-9780A740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3C42-730C-4197-8134-DCED8399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CE959-CE49-442C-AAC0-E645F89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DD3E-F0C3-484D-AD64-3D97AB68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3190-8EF7-44D7-8DBA-1F0A6B6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DA36-BA09-40EC-A7B8-7BD0DBF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ABA6-CA73-4BB1-BCEB-34955369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32B28-766E-4C57-8B3A-A5D0C45C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7AED3-FE75-4ADF-BD69-F923C1C6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084-4F7B-45D2-9ADA-695234BE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69D8-B0EC-448C-A44F-4D465064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457-A91B-4C18-A398-87043C1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3AE-90EB-4701-A656-972D4A9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E36-9D6C-40BA-9F4E-A6C785C1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D583-6BD1-4A91-BF31-929513C459F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849D-1D2F-483D-9919-466AE33E6BA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633F-BC8A-434A-9E6A-58BC14092B2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BD6-883C-4A94-B4F7-D4CD7B02EF2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E0B0-06DE-43A1-8960-99884CE2440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URINE ANALYSIS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3" descr="urine_analysis_dipping_image_j5wTXTj.jpg"/>
          <p:cNvPicPr/>
          <p:nvPr/>
        </p:nvPicPr>
        <p:blipFill>
          <a:blip r:embed="rId1"/>
          <a:stretch/>
        </p:blipFill>
        <p:spPr>
          <a:xfrm>
            <a:off x="2743200" y="3657600"/>
            <a:ext cx="368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MICROSCOPIC URI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icroscopic examination used to view elements that are not visible without microscope. e.g ce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Red Blood Cell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Hematuria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is the presence of abnormal numbers of red cells in urine due to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. Glomerular damag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. Tumo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. Urinary tract ston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. Upper and lower urinary tract infectio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2533c"/>
                </a:solidFill>
                <a:latin typeface="Arial"/>
              </a:rPr>
              <a:t>Hematuri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292934"/>
                </a:solidFill>
                <a:uFillTx/>
                <a:latin typeface="Arial"/>
              </a:rPr>
              <a:t>Two Types of Hematur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Gross hematuri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means that the blood can be seen by the naked eye. The urine may look pinkish, brownish, or bright r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Microscopic hematuria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 means that the urine is clear, but blood cells can be seen under a microscop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50845.jpg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http://library.med.utah.edu/WebPath/TUTORIAL/URINE/URINE01.gif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381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5"/>
          <p:cNvSpPr/>
          <p:nvPr/>
        </p:nvSpPr>
        <p:spPr>
          <a:xfrm>
            <a:off x="1066680" y="1219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BC's may appear normally shaped, swollen by diluted urin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51" name="Picture 5" descr="http://vet.uga.edu/ivcvm/courses/vpat5215/urinary/uremia/images/F07121.jpg"/>
          <p:cNvPicPr/>
          <p:nvPr/>
        </p:nvPicPr>
        <p:blipFill>
          <a:blip r:embed="rId2"/>
          <a:stretch/>
        </p:blipFill>
        <p:spPr>
          <a:xfrm>
            <a:off x="5029200" y="3048120"/>
            <a:ext cx="3843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2.White Blood Cell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Pyuri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refers to the presence of abnormal numbers of leukocytes that may appear with infection in either the upper or lower urinary tract or with acute glomerulonephritis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ually, the WBC's are granulocyt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BCs - ≤2-5 WBC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http://library.med.utah.edu/WebPath/TUTORIAL/URINE/URINE02.gif"/>
          <p:cNvPicPr/>
          <p:nvPr/>
        </p:nvPicPr>
        <p:blipFill>
          <a:blip r:embed="rId1"/>
          <a:stretch/>
        </p:blipFill>
        <p:spPr>
          <a:xfrm>
            <a:off x="1219320" y="685800"/>
            <a:ext cx="6476760" cy="31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5" name="Picture 4" descr="http://usercontent1.hubimg.com/8485192_f260.jpg"/>
          <p:cNvPicPr/>
          <p:nvPr/>
        </p:nvPicPr>
        <p:blipFill>
          <a:blip r:embed="rId2"/>
          <a:stretch/>
        </p:blipFill>
        <p:spPr>
          <a:xfrm>
            <a:off x="2514600" y="4191120"/>
            <a:ext cx="390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3. Epithelial Cell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enal tubular epithelial cells, contain a large round or oval nucleus and normally slough into the urine in small numbers. However, with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nephrotic syndrom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in conditions leading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tubular degeneration, the number sloughed is increas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≤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5-20 squamous epithelial cell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http://library.med.utah.edu/WebPath/TUTORIAL/URINE/URINE11.gif"/>
          <p:cNvPicPr/>
          <p:nvPr/>
        </p:nvPicPr>
        <p:blipFill>
          <a:blip r:embed="rId1"/>
          <a:stretch/>
        </p:blipFill>
        <p:spPr>
          <a:xfrm>
            <a:off x="1143000" y="838080"/>
            <a:ext cx="6705720" cy="279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9" name="Picture 4" descr="Image result for epithelial cells in urine"/>
          <p:cNvPicPr/>
          <p:nvPr/>
        </p:nvPicPr>
        <p:blipFill>
          <a:blip r:embed="rId2"/>
          <a:stretch/>
        </p:blipFill>
        <p:spPr>
          <a:xfrm>
            <a:off x="2590920" y="38862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4.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rinary casts are cylindrical structures produced by the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idney and present in the urine in certain disease stat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formed in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distal convoluted tubule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DCT) and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llecting ducts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f nephrons, then dislodge and pass into the urine, where they can detected by microscop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Urinary casts may be made up of cells (such as white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lood cells, red blood cells, kidney cells) or substanc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ch as protein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4" descr="http://library.med.utah.edu/WebPath/TUTORIAL/URINE/URINE13.gif"/>
          <p:cNvPicPr/>
          <p:nvPr/>
        </p:nvPicPr>
        <p:blipFill>
          <a:blip r:embed="rId1"/>
          <a:stretch/>
        </p:blipFill>
        <p:spPr>
          <a:xfrm>
            <a:off x="762120" y="838080"/>
            <a:ext cx="3722400" cy="2895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library.med.utah.edu/WebPath/jpeg2/URIN073.jpg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croscopic urinalysis</a:t>
            </a:r>
            <a:r>
              <a:rPr b="0" lang="ar-SA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s the direct visual observation of the urine, noting its volume, color, clarity or cloudiness, etc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rmal urine is typically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ale yellow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clear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. Obvious abnormalities in the color, clarity, and cloudiness may suggest different disease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The factors which favor protein cast formation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flow rate of the filtrat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igh salt concentration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p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l of which favor protein denaturation and precipitation, particularly that of the 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Tamm-Horsfall protein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Protein casts with long, thin tails formed at the junction of Henle's loop and the distal convoluted tubule are called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</a:rPr>
              <a:t>cylindroid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Hyaline casts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 (Tamm-Horsfall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roteins)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an be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een even in healthy people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yaline casts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re composed primarily of a mucoprotein (</a:t>
            </a:r>
            <a:r>
              <a:rPr b="1" i="1" lang="en-US" sz="2800" spc="-1" strike="noStrike">
                <a:solidFill>
                  <a:srgbClr val="292934"/>
                </a:solidFill>
                <a:latin typeface="Arial"/>
              </a:rPr>
              <a:t>Tamm-Horsfall protein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secreted by tubule cells. The Tamm-Horsfall protein secretion (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green dot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is illustrated in the diagram below,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forming a hyaline cast in the collecting du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709720" y="3429000"/>
            <a:ext cx="3724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685800" y="11430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Red blood cells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ay stick together and form red blood cell casts. Such casts are indicative of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, with leakage of RBC's from glomeruli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762120" y="373392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ahoma"/>
              </a:rPr>
              <a:t>White blood cell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casts may also be present with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 Their presence indicates inflammation of the kidney, because such casts will not form except in the kidney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7" descr="http://library.med.utah.edu/WebPath/TUTORIAL/URINE/URINE06.gif"/>
          <p:cNvPicPr/>
          <p:nvPr/>
        </p:nvPicPr>
        <p:blipFill>
          <a:blip r:embed="rId1"/>
          <a:stretch/>
        </p:blipFill>
        <p:spPr>
          <a:xfrm>
            <a:off x="4038480" y="609480"/>
            <a:ext cx="4114800" cy="1648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1" name="Picture 18" descr="http://library.med.utah.edu/WebPath/TUTORIAL/URINE/URINE05.gif"/>
          <p:cNvPicPr/>
          <p:nvPr/>
        </p:nvPicPr>
        <p:blipFill>
          <a:blip r:embed="rId2"/>
          <a:stretch/>
        </p:blipFill>
        <p:spPr>
          <a:xfrm>
            <a:off x="4191120" y="3505320"/>
            <a:ext cx="4114800" cy="164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2" name="Picture 6" descr="http://www.pathguy.com/sol/17244.jpg"/>
          <p:cNvPicPr/>
          <p:nvPr/>
        </p:nvPicPr>
        <p:blipFill>
          <a:blip r:embed="rId3"/>
          <a:stretch/>
        </p:blipFill>
        <p:spPr>
          <a:xfrm>
            <a:off x="22320" y="380880"/>
            <a:ext cx="36828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mage result for white blood cell casts in urine"/>
          <p:cNvPicPr/>
          <p:nvPr/>
        </p:nvPicPr>
        <p:blipFill>
          <a:blip r:embed="rId4"/>
          <a:stretch/>
        </p:blipFill>
        <p:spPr>
          <a:xfrm>
            <a:off x="11160" y="3048120"/>
            <a:ext cx="376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1718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1718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27507" t="65266" r="41110" b="0"/>
          <a:stretch/>
        </p:blipFill>
        <p:spPr>
          <a:xfrm>
            <a:off x="2771640" y="2143080"/>
            <a:ext cx="3505320" cy="2438280"/>
          </a:xfrm>
          <a:prstGeom prst="rect">
            <a:avLst/>
          </a:prstGeom>
          <a:ln w="9360">
            <a:solidFill>
              <a:srgbClr val="292934"/>
            </a:solidFill>
            <a:miter/>
          </a:ln>
        </p:spPr>
      </p:pic>
      <p:sp>
        <p:nvSpPr>
          <p:cNvPr id="278" name="Text Box 12"/>
          <p:cNvSpPr/>
          <p:nvPr/>
        </p:nvSpPr>
        <p:spPr>
          <a:xfrm>
            <a:off x="3564720" y="2060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Crenated RBC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4322880" y="2590920"/>
            <a:ext cx="609480" cy="838080"/>
          </a:xfrm>
          <a:prstGeom prst="line">
            <a:avLst/>
          </a:prstGeom>
          <a:ln w="381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80" name="Picture 4" descr="RBCs-2"/>
          <p:cNvPicPr/>
          <p:nvPr/>
        </p:nvPicPr>
        <p:blipFill>
          <a:blip r:embed="rId2"/>
          <a:stretch/>
        </p:blipFill>
        <p:spPr>
          <a:xfrm>
            <a:off x="1351080" y="1638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R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W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rcRect l="0" t="0" r="14286" b="0"/>
          <a:stretch/>
        </p:blipFill>
        <p:spPr>
          <a:xfrm>
            <a:off x="1447920" y="1752480"/>
            <a:ext cx="603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5783040" cy="3809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627640" y="47242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</a:rPr>
              <a:t>Hyaline Casts appear Transparent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3344-3B5D-43A4-BC45-677B1517CCF6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d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8" name="Picture 4" descr="RBC_cast_arrow"/>
          <p:cNvPicPr/>
          <p:nvPr/>
        </p:nvPicPr>
        <p:blipFill>
          <a:blip r:embed="rId1"/>
          <a:srcRect l="0" t="20577" r="0" b="0"/>
          <a:stretch/>
        </p:blipFill>
        <p:spPr>
          <a:xfrm>
            <a:off x="1219320" y="2421000"/>
            <a:ext cx="5943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B18-9C40-4C70-824C-CE8F6A79F4AC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hite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rcRect l="0" t="0" r="0" b="13067"/>
          <a:stretch/>
        </p:blipFill>
        <p:spPr>
          <a:xfrm>
            <a:off x="1447920" y="2133720"/>
            <a:ext cx="61722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0" y="15469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small proteins found in the urine. Testing for these proteins is done to diagnose and monitor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multiple myeloma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nd other similar disease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considered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first tumor marker.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 </a:t>
            </a:r>
            <a:r>
              <a:rPr b="1" lang="en-US" sz="2800" spc="-1" strike="noStrike" u="sng">
                <a:solidFill>
                  <a:srgbClr val="292934"/>
                </a:solidFill>
                <a:uFillTx/>
                <a:latin typeface="Arial"/>
                <a:ea typeface="Times New Roman"/>
              </a:rPr>
              <a:t>tumor marker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is a substance, made by the body, that is linked to a certain cancer, or malignancy. Bence Jones proteins are made by plasma cells, a type of white blood cell. The presence of these proteins in a person's urine is associated with a malignancy of plasma cells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2438280" y="4572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Bence Jones protein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urine"/>
          <p:cNvPicPr/>
          <p:nvPr/>
        </p:nvPicPr>
        <p:blipFill>
          <a:blip r:embed="rId1"/>
          <a:stretch/>
        </p:blipFill>
        <p:spPr>
          <a:xfrm>
            <a:off x="838080" y="2209680"/>
            <a:ext cx="228132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25" name="Picture 5" descr="http://www.kidneyfailureweb.com/uploads/allimg/130528/1-13052Q62Z11E.jpg"/>
          <p:cNvPicPr/>
          <p:nvPr/>
        </p:nvPicPr>
        <p:blipFill>
          <a:blip r:embed="rId2"/>
          <a:srcRect l="0" t="0" r="52923" b="0"/>
          <a:stretch/>
        </p:blipFill>
        <p:spPr>
          <a:xfrm>
            <a:off x="4797360" y="1468440"/>
            <a:ext cx="1577880" cy="2222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http://insidetheclinic.com/wp-content/uploads/2013/10/cloudy-urine-during-pregnancy.png"/>
          <p:cNvPicPr/>
          <p:nvPr/>
        </p:nvPicPr>
        <p:blipFill>
          <a:blip r:embed="rId3"/>
          <a:stretch/>
        </p:blipFill>
        <p:spPr>
          <a:xfrm>
            <a:off x="4876920" y="3857760"/>
            <a:ext cx="1419120" cy="2238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ttp://www.tabletsmanual.com/img/wiki/blood_urine.jpg"/>
          <p:cNvPicPr/>
          <p:nvPr/>
        </p:nvPicPr>
        <p:blipFill>
          <a:blip r:embed="rId4"/>
          <a:stretch/>
        </p:blipFill>
        <p:spPr>
          <a:xfrm>
            <a:off x="7162920" y="2438280"/>
            <a:ext cx="1523880" cy="2506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472428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b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BJPCAST1.jpg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581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685800" y="44956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ahoma"/>
              </a:rPr>
              <a:t>Bence Jones protein cast (myeloma cast) from the urinary sediment of a patient with lambda-Bence Jones type multiple myeloma. Sternheimer stein, X200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209680" y="2286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https://www.youtube.com/watch?v=M9Zc4G5EHPA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Pregnancy test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 detects a hormone in the body called human  choronic gonadotropin (hCG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a hormone produced during pregnancy. It appears in the blood and urine of pregnant women as early as 10 days after conception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released into the body by the placenta when a woman is pregnant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60" y="111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urine hCG test is usually performed by placing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rops of urine on a prepared chemical strip. It takes 1-2 min. for a result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00" name="Picture 4" descr="482085923_070[1]"/>
          <p:cNvPicPr/>
          <p:nvPr/>
        </p:nvPicPr>
        <p:blipFill>
          <a:blip r:embed="rId1"/>
          <a:stretch/>
        </p:blipFill>
        <p:spPr>
          <a:xfrm>
            <a:off x="0" y="2862360"/>
            <a:ext cx="9144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img.docstoccdn.com/thumb/orig/114213457.png"/>
          <p:cNvPicPr/>
          <p:nvPr/>
        </p:nvPicPr>
        <p:blipFill>
          <a:blip r:embed="rId1"/>
          <a:stretch/>
        </p:blipFill>
        <p:spPr>
          <a:xfrm>
            <a:off x="609480" y="380880"/>
            <a:ext cx="8047080" cy="60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1.bp.blogspot.com/-UVhhcgbhfqw/UE4X8rS2v5I/AAAAAAAAB4E/1CFxx2jJ38k/s640/UroTest+Table.png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Dipstick chemical a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rine dipstick is a narrow plastic strip which has several squares of different colors attached to it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ach small square represents a component of the test used to interpret urinalysi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lors generated by each pad are visually compared against a range of colors on brand-specific color char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 entire strip is dipped in the urine sample and color changes in each square are noted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2272" b="0"/>
          <a:stretch/>
        </p:blipFill>
        <p:spPr>
          <a:xfrm>
            <a:off x="7873920" y="762120"/>
            <a:ext cx="1270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The squares on the dipstick represent the following components in the urine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587680" cy="38685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0" y="5791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Nitrite (suggestive of bacteria in urine)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Bilirubin ( possible liver disease or red blood cell break down) </a:t>
            </a:r>
            <a:br>
              <a:rPr sz="1800"/>
            </a:b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Urobilinogen ( possible liver disease)</a:t>
            </a: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5029200" y="1662120"/>
            <a:ext cx="3290760" cy="2212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934320" y="4030560"/>
            <a:ext cx="16794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Image result for dip stick urine analysis"/>
          <p:cNvPicPr/>
          <p:nvPr/>
        </p:nvPicPr>
        <p:blipFill>
          <a:blip r:embed="rId1"/>
          <a:stretch/>
        </p:blipFill>
        <p:spPr>
          <a:xfrm>
            <a:off x="3124080" y="4800600"/>
            <a:ext cx="2595600" cy="174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http://i01.i.aliimg.com/img/pb/526/545/074/1074545526_965.jpg"/>
          <p:cNvPicPr/>
          <p:nvPr/>
        </p:nvPicPr>
        <p:blipFill>
          <a:blip r:embed="rId2"/>
          <a:stretch/>
        </p:blipFill>
        <p:spPr>
          <a:xfrm>
            <a:off x="1258920" y="685800"/>
            <a:ext cx="6324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528560" y="86688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Tahoma"/>
              </a:rPr>
              <a:t>MICROSCOPIC URINALYSI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43" name="Picture 2" descr="laboratory_test_for_blood__saliva__stool__breath_urea_imageTXT.jpg"/>
          <p:cNvPicPr/>
          <p:nvPr/>
        </p:nvPicPr>
        <p:blipFill>
          <a:blip r:embed="rId1"/>
          <a:stretch/>
        </p:blipFill>
        <p:spPr>
          <a:xfrm>
            <a:off x="2209680" y="1905120"/>
            <a:ext cx="490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05:14Z</dcterms:created>
  <dc:creator>rmnouh</dc:creator>
  <dc:description/>
  <dc:language>en-US</dc:language>
  <cp:lastModifiedBy>aalbity</cp:lastModifiedBy>
  <dcterms:modified xsi:type="dcterms:W3CDTF">2016-10-13T06:52:22Z</dcterms:modified>
  <cp:revision>91</cp:revision>
  <dc:subject/>
  <dc:title>Urine analysis</dc:title>
</cp:coreProperties>
</file>