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12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22.jpeg" ContentType="image/jpeg"/>
  <Override PartName="/ppt/media/image9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C08-0519-4B51-903A-D52AB46714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- External Feature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063 - Spring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8DF612-A38E-49F7-92CC-B76C274A7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- External Feature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063 - Spring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ACD66E-1E02-4E84-909A-8E6C5129F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E89-C3DA-4BA4-847C-443C31BE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280-FAD1-4CAA-8A89-5F76B9A0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9A2-5CE7-430D-AA5C-00208A6A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CFE-2239-4263-9164-7B618D54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8E7-6882-43C7-B58F-861E4E3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EFF-8CAB-4B2D-B1D9-1B08287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C58-7209-4E3E-A17E-3764AA7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BD-6D19-4842-B90F-0D21998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AA9-07F8-4B8D-9523-AB380CA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4E5-7D3E-4907-A7D5-3DD849C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5D5-58D6-4079-9C60-82B3B12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7C2-EA6B-4BE9-8E69-A8584AC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7309-5438-4926-B0AF-B1311961F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c011_animal-photography-insect-butterfly.png"/>
          <p:cNvPicPr/>
          <p:nvPr/>
        </p:nvPicPr>
        <p:blipFill>
          <a:blip r:embed="rId1"/>
          <a:stretch/>
        </p:blipFill>
        <p:spPr>
          <a:xfrm>
            <a:off x="152280" y="109440"/>
            <a:ext cx="876312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علم الحشرات العام</a:t>
            </a:r>
            <a:br>
              <a:rPr sz="5400"/>
            </a:b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311</a:t>
            </a: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 ح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ntom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estive &amp; Excretor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estiv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metimes 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imentary ca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hould be easily s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long tube-like structure that runs from the m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a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 centrally located within the body cavity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ary function of the foregut is to begin the breakdown of foo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gut is the major area of digestion and absor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ndgut functions in water and solute reabsorption and waste 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estive &amp; Excretor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bug4"/>
          <p:cNvPicPr/>
          <p:nvPr/>
        </p:nvPicPr>
        <p:blipFill>
          <a:blip r:embed="rId1"/>
          <a:stretch/>
        </p:blipFill>
        <p:spPr>
          <a:xfrm>
            <a:off x="0" y="1881360"/>
            <a:ext cx="91440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25880" y="36684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A tubular alimentary canal, with mouth and 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Copy (2) of Im 3"/>
          <p:cNvPicPr/>
          <p:nvPr/>
        </p:nvPicPr>
        <p:blipFill>
          <a:blip r:embed="rId1"/>
          <a:stretch/>
        </p:blipFill>
        <p:spPr>
          <a:xfrm>
            <a:off x="2351160" y="990720"/>
            <a:ext cx="3821040" cy="5638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35 0.32222 E">
                                      <p:cBhvr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3"/>
          <p:cNvGrpSpPr/>
          <p:nvPr/>
        </p:nvGrpSpPr>
        <p:grpSpPr>
          <a:xfrm>
            <a:off x="533520" y="228600"/>
            <a:ext cx="3785040" cy="3339720"/>
            <a:chOff x="533520" y="228600"/>
            <a:chExt cx="3785040" cy="333972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609480" y="762120"/>
            <a:ext cx="3428640" cy="263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762120"/>
                      <a:ext cx="3428640" cy="26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16"/>
            <p:cNvSpPr/>
            <p:nvPr/>
          </p:nvSpPr>
          <p:spPr>
            <a:xfrm>
              <a:off x="2895480" y="2209680"/>
              <a:ext cx="1142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6200000">
              <a:off x="1637640" y="-266400"/>
              <a:ext cx="380880" cy="18284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990360" y="22860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نطقـة الأمـامي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 rot="2869800">
              <a:off x="2948760" y="1242000"/>
              <a:ext cx="140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نطقـة التـناسـلي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2438280" y="304920"/>
              <a:ext cx="68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ـظـهـ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2133360" y="1447920"/>
              <a:ext cx="6854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بـطـــ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609480" y="1523880"/>
              <a:ext cx="6091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جـن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914040" y="3048120"/>
              <a:ext cx="1676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2514240" y="2286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2285640" y="2819520"/>
              <a:ext cx="609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752480" y="2971800"/>
              <a:ext cx="7614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2209680" y="1905120"/>
              <a:ext cx="380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2666880" y="2514600"/>
              <a:ext cx="114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ـنـتـقـة الخل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تـنـاسـلـيـ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2361960" y="2362320"/>
              <a:ext cx="456840" cy="914400"/>
            </a:xfrm>
            <a:custGeom>
              <a:avLst/>
              <a:gdLst>
                <a:gd name="textAreaLeft" fmla="*/ 0 w 456840"/>
                <a:gd name="textAreaRight" fmla="*/ 164880 w 4568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H="1">
              <a:off x="2209320" y="457200"/>
              <a:ext cx="304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V="1">
              <a:off x="914040" y="1219320"/>
              <a:ext cx="456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H="1" flipV="1">
              <a:off x="1904760" y="1371240"/>
              <a:ext cx="30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6"/>
            <p:cNvSpPr/>
            <p:nvPr/>
          </p:nvSpPr>
          <p:spPr>
            <a:xfrm>
              <a:off x="1447560" y="3048120"/>
              <a:ext cx="11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آلة وضع البي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 flipV="1">
              <a:off x="2209680" y="2514240"/>
              <a:ext cx="75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H="1" flipV="1">
              <a:off x="1981080" y="274320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533520" y="1219320"/>
              <a:ext cx="45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3047760" y="1066680"/>
              <a:ext cx="3045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 rot="18895200">
              <a:off x="3227760" y="1038960"/>
              <a:ext cx="287280" cy="9140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57"/>
          <p:cNvSpPr/>
          <p:nvPr/>
        </p:nvSpPr>
        <p:spPr>
          <a:xfrm>
            <a:off x="2666880" y="6172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ردوب المعو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5" descr="Digestive"/>
          <p:cNvPicPr/>
          <p:nvPr/>
        </p:nvPicPr>
        <p:blipFill>
          <a:blip r:embed="rId3"/>
          <a:stretch/>
        </p:blipFill>
        <p:spPr>
          <a:xfrm>
            <a:off x="609480" y="4471920"/>
            <a:ext cx="3810240" cy="19242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6"/>
          <p:cNvGrpSpPr/>
          <p:nvPr/>
        </p:nvGrpSpPr>
        <p:grpSpPr>
          <a:xfrm>
            <a:off x="1981080" y="5410080"/>
            <a:ext cx="304560" cy="380880"/>
            <a:chOff x="1981080" y="5410080"/>
            <a:chExt cx="304560" cy="380880"/>
          </a:xfrm>
        </p:grpSpPr>
        <p:sp>
          <p:nvSpPr>
            <p:cNvPr id="145" name="Freeform 37"/>
            <p:cNvSpPr/>
            <p:nvPr/>
          </p:nvSpPr>
          <p:spPr>
            <a:xfrm>
              <a:off x="1981080" y="5410080"/>
              <a:ext cx="203040" cy="1587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2" h="240">
                  <a:moveTo>
                    <a:pt x="192" y="240"/>
                  </a:moveTo>
                  <a:cubicBezTo>
                    <a:pt x="136" y="164"/>
                    <a:pt x="80" y="88"/>
                    <a:pt x="48" y="48"/>
                  </a:cubicBezTo>
                  <a:cubicBezTo>
                    <a:pt x="16" y="8"/>
                    <a:pt x="8" y="4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2082600" y="5410080"/>
              <a:ext cx="152280" cy="158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4" h="240">
                  <a:moveTo>
                    <a:pt x="144" y="240"/>
                  </a:moveTo>
                  <a:cubicBezTo>
                    <a:pt x="108" y="164"/>
                    <a:pt x="72" y="88"/>
                    <a:pt x="48" y="48"/>
                  </a:cubicBezTo>
                  <a:cubicBezTo>
                    <a:pt x="24" y="8"/>
                    <a:pt x="12" y="4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1981080" y="5664240"/>
              <a:ext cx="203040" cy="1112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92" h="168">
                  <a:moveTo>
                    <a:pt x="192" y="0"/>
                  </a:moveTo>
                  <a:cubicBezTo>
                    <a:pt x="184" y="60"/>
                    <a:pt x="176" y="120"/>
                    <a:pt x="144" y="144"/>
                  </a:cubicBezTo>
                  <a:cubicBezTo>
                    <a:pt x="112" y="168"/>
                    <a:pt x="24" y="144"/>
                    <a:pt x="0" y="14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2133360" y="5664240"/>
              <a:ext cx="152280" cy="126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4" h="192">
                  <a:moveTo>
                    <a:pt x="144" y="0"/>
                  </a:moveTo>
                  <a:cubicBezTo>
                    <a:pt x="132" y="56"/>
                    <a:pt x="120" y="112"/>
                    <a:pt x="96" y="144"/>
                  </a:cubicBezTo>
                  <a:cubicBezTo>
                    <a:pt x="72" y="176"/>
                    <a:pt x="16" y="184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Text Box 41"/>
          <p:cNvSpPr/>
          <p:nvPr/>
        </p:nvSpPr>
        <p:spPr>
          <a:xfrm>
            <a:off x="3124080" y="45720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لأما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2"/>
          <p:cNvSpPr/>
          <p:nvPr/>
        </p:nvSpPr>
        <p:spPr>
          <a:xfrm>
            <a:off x="3581280" y="48006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2209680" y="4419720"/>
            <a:ext cx="106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المتوسط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44"/>
          <p:cNvSpPr/>
          <p:nvPr/>
        </p:nvSpPr>
        <p:spPr>
          <a:xfrm>
            <a:off x="2438280" y="4800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685800" y="43434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لخلف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6"/>
          <p:cNvSpPr/>
          <p:nvPr/>
        </p:nvSpPr>
        <p:spPr>
          <a:xfrm>
            <a:off x="1295280" y="4800600"/>
            <a:ext cx="6098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1371600" y="6019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نابيب ملبيج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4038480" y="51814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مرى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9"/>
          <p:cNvSpPr/>
          <p:nvPr/>
        </p:nvSpPr>
        <p:spPr>
          <a:xfrm flipH="1">
            <a:off x="3885840" y="5486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3886200" y="59436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انص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1"/>
          <p:cNvSpPr/>
          <p:nvPr/>
        </p:nvSpPr>
        <p:spPr>
          <a:xfrm flipH="1" flipV="1">
            <a:off x="3352320" y="5410080"/>
            <a:ext cx="7621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380880" y="48006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مسـتق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3"/>
          <p:cNvSpPr/>
          <p:nvPr/>
        </p:nvSpPr>
        <p:spPr>
          <a:xfrm>
            <a:off x="9144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4"/>
          <p:cNvSpPr/>
          <p:nvPr/>
        </p:nvSpPr>
        <p:spPr>
          <a:xfrm flipV="1">
            <a:off x="1981080" y="5409720"/>
            <a:ext cx="763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5"/>
          <p:cNvSpPr/>
          <p:nvPr/>
        </p:nvSpPr>
        <p:spPr>
          <a:xfrm flipV="1">
            <a:off x="1981080" y="57913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8"/>
          <p:cNvSpPr/>
          <p:nvPr/>
        </p:nvSpPr>
        <p:spPr>
          <a:xfrm flipH="1" flipV="1">
            <a:off x="3048120" y="540972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9"/>
          <p:cNvSpPr/>
          <p:nvPr/>
        </p:nvSpPr>
        <p:spPr>
          <a:xfrm flipH="1" flipV="1">
            <a:off x="2590920" y="54860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61"/>
          <p:cNvGraphicFramePr/>
          <p:nvPr/>
        </p:nvGraphicFramePr>
        <p:xfrm>
          <a:off x="5410080" y="457200"/>
          <a:ext cx="2880000" cy="351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457200"/>
                    <a:ext cx="28800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62"/>
          <p:cNvSpPr/>
          <p:nvPr/>
        </p:nvSpPr>
        <p:spPr>
          <a:xfrm>
            <a:off x="7162920" y="12952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ردوب المعـو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3"/>
          <p:cNvSpPr/>
          <p:nvPr/>
        </p:nvSpPr>
        <p:spPr>
          <a:xfrm flipH="1" flipV="1">
            <a:off x="7695720" y="91440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4"/>
          <p:cNvSpPr/>
          <p:nvPr/>
        </p:nvSpPr>
        <p:spPr>
          <a:xfrm flipH="1">
            <a:off x="7924680" y="1523880"/>
            <a:ext cx="763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4648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دائر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7"/>
          <p:cNvSpPr/>
          <p:nvPr/>
        </p:nvSpPr>
        <p:spPr>
          <a:xfrm>
            <a:off x="5715000" y="1371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9"/>
          <p:cNvSpPr/>
          <p:nvPr/>
        </p:nvSpPr>
        <p:spPr>
          <a:xfrm>
            <a:off x="4724280" y="2743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طو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0"/>
          <p:cNvSpPr/>
          <p:nvPr/>
        </p:nvSpPr>
        <p:spPr>
          <a:xfrm>
            <a:off x="5715000" y="2895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1"/>
          <p:cNvSpPr/>
          <p:nvPr/>
        </p:nvSpPr>
        <p:spPr>
          <a:xfrm flipV="1">
            <a:off x="5715000" y="259056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2"/>
          <p:cNvSpPr/>
          <p:nvPr/>
        </p:nvSpPr>
        <p:spPr>
          <a:xfrm>
            <a:off x="6095880" y="20574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طبقة الإنتم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3"/>
          <p:cNvSpPr/>
          <p:nvPr/>
        </p:nvSpPr>
        <p:spPr>
          <a:xfrm flipH="1">
            <a:off x="58669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4"/>
          <p:cNvSpPr/>
          <p:nvPr/>
        </p:nvSpPr>
        <p:spPr>
          <a:xfrm flipV="1">
            <a:off x="6858000" y="1676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5"/>
          <p:cNvSpPr/>
          <p:nvPr/>
        </p:nvSpPr>
        <p:spPr>
          <a:xfrm>
            <a:off x="7162920" y="25909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تجويف المعو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6"/>
          <p:cNvSpPr/>
          <p:nvPr/>
        </p:nvSpPr>
        <p:spPr>
          <a:xfrm flipH="1">
            <a:off x="6552720" y="27432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8"/>
          <p:cNvSpPr/>
          <p:nvPr/>
        </p:nvSpPr>
        <p:spPr>
          <a:xfrm>
            <a:off x="5410080" y="4191120"/>
            <a:ext cx="2895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طاع فى القناة الهضمية الامام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5753160" y="125280"/>
          <a:ext cx="308592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25280"/>
                    <a:ext cx="308592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3"/>
          <p:cNvSpPr/>
          <p:nvPr/>
        </p:nvSpPr>
        <p:spPr>
          <a:xfrm>
            <a:off x="5600880" y="3021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تجويف المعو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6819840" y="2182680"/>
            <a:ext cx="9907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19840" y="13446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طبقة الإنتم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6210000" y="1496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7581960" y="887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76840" y="125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طو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5905080" y="353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743880" y="201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105520" y="1752480"/>
            <a:ext cx="76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دائر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5600880" y="157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5520" y="2209680"/>
            <a:ext cx="60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غشية ضام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5676840" y="23353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334120" y="2666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طل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V="1">
            <a:off x="5981760" y="241092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5521320" y="3581280"/>
            <a:ext cx="3241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قطاع فى القناة الهضمية الخلف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2" descr=""/>
          <p:cNvPicPr/>
          <p:nvPr/>
        </p:nvPicPr>
        <p:blipFill>
          <a:blip r:embed="rId3"/>
          <a:stretch/>
        </p:blipFill>
        <p:spPr>
          <a:xfrm>
            <a:off x="5369040" y="4208400"/>
            <a:ext cx="3317760" cy="2116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3"/>
          <p:cNvSpPr/>
          <p:nvPr/>
        </p:nvSpPr>
        <p:spPr>
          <a:xfrm>
            <a:off x="5342040" y="64299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شكل يوضح أنابـيـب ملبيجى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مجموعة 36"/>
          <p:cNvGrpSpPr/>
          <p:nvPr/>
        </p:nvGrpSpPr>
        <p:grpSpPr>
          <a:xfrm>
            <a:off x="76320" y="609480"/>
            <a:ext cx="5029200" cy="4267440"/>
            <a:chOff x="76320" y="609480"/>
            <a:chExt cx="5029200" cy="4267440"/>
          </a:xfrm>
        </p:grpSpPr>
        <p:graphicFrame>
          <p:nvGraphicFramePr>
            <p:cNvPr id="202" name="Object 20"/>
            <p:cNvGraphicFramePr/>
            <p:nvPr/>
          </p:nvGraphicFramePr>
          <p:xfrm>
            <a:off x="1243080" y="609480"/>
            <a:ext cx="3618000" cy="426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3" name="Object 2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43080" y="609480"/>
                      <a:ext cx="361800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Text Box 3"/>
            <p:cNvSpPr/>
            <p:nvPr/>
          </p:nvSpPr>
          <p:spPr>
            <a:xfrm>
              <a:off x="76320" y="2448720"/>
              <a:ext cx="10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عضلات دائر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4"/>
            <p:cNvSpPr/>
            <p:nvPr/>
          </p:nvSpPr>
          <p:spPr>
            <a:xfrm>
              <a:off x="1243080" y="1344960"/>
              <a:ext cx="36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294840" y="1198080"/>
              <a:ext cx="10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عضلات طول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 flipV="1">
              <a:off x="1024200" y="2448720"/>
              <a:ext cx="36468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>
              <a:off x="1024200" y="2595960"/>
              <a:ext cx="36468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1243080" y="1344960"/>
              <a:ext cx="14580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118600" y="1566000"/>
              <a:ext cx="131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غـشـاء حول غـذائ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1826640" y="1786680"/>
              <a:ext cx="80208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2993760" y="1786680"/>
              <a:ext cx="10209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513720" y="4067640"/>
              <a:ext cx="123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تجويف المعو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 flipV="1">
              <a:off x="1680840" y="3699720"/>
              <a:ext cx="1312560" cy="5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4078080" y="990360"/>
              <a:ext cx="102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خلايا إفراز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 flipH="1">
              <a:off x="3504240" y="1271520"/>
              <a:ext cx="80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>
              <a:off x="4014360" y="1271520"/>
              <a:ext cx="364680" cy="36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838080" y="5067360"/>
            <a:ext cx="3772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طاع في القناة الهضمية الوسط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133720" y="2286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ملحقات القناة الهضم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057400" y="1549440"/>
            <a:ext cx="4229280" cy="2628720"/>
            <a:chOff x="2057400" y="1549440"/>
            <a:chExt cx="4229280" cy="2628720"/>
          </a:xfrm>
        </p:grpSpPr>
        <p:sp>
          <p:nvSpPr>
            <p:cNvPr id="221" name="Freeform 4"/>
            <p:cNvSpPr/>
            <p:nvPr/>
          </p:nvSpPr>
          <p:spPr>
            <a:xfrm>
              <a:off x="2057400" y="1549440"/>
              <a:ext cx="4229280" cy="2628720"/>
            </a:xfrm>
            <a:custGeom>
              <a:avLst/>
              <a:gdLst>
                <a:gd name="textAreaLeft" fmla="*/ 0 w 4229280"/>
                <a:gd name="textAreaRight" fmla="*/ 4229640 w 422928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2664" h="1656">
                  <a:moveTo>
                    <a:pt x="0" y="1088"/>
                  </a:moveTo>
                  <a:cubicBezTo>
                    <a:pt x="164" y="1104"/>
                    <a:pt x="398" y="1054"/>
                    <a:pt x="480" y="1040"/>
                  </a:cubicBezTo>
                  <a:cubicBezTo>
                    <a:pt x="562" y="1026"/>
                    <a:pt x="480" y="1021"/>
                    <a:pt x="491" y="1006"/>
                  </a:cubicBezTo>
                  <a:cubicBezTo>
                    <a:pt x="502" y="991"/>
                    <a:pt x="517" y="976"/>
                    <a:pt x="549" y="947"/>
                  </a:cubicBezTo>
                  <a:cubicBezTo>
                    <a:pt x="581" y="918"/>
                    <a:pt x="626" y="886"/>
                    <a:pt x="686" y="830"/>
                  </a:cubicBezTo>
                  <a:cubicBezTo>
                    <a:pt x="746" y="774"/>
                    <a:pt x="850" y="709"/>
                    <a:pt x="912" y="608"/>
                  </a:cubicBezTo>
                  <a:cubicBezTo>
                    <a:pt x="974" y="507"/>
                    <a:pt x="960" y="320"/>
                    <a:pt x="1056" y="224"/>
                  </a:cubicBezTo>
                  <a:cubicBezTo>
                    <a:pt x="1152" y="128"/>
                    <a:pt x="1296" y="56"/>
                    <a:pt x="1488" y="32"/>
                  </a:cubicBezTo>
                  <a:cubicBezTo>
                    <a:pt x="1680" y="8"/>
                    <a:pt x="2136" y="0"/>
                    <a:pt x="2208" y="80"/>
                  </a:cubicBezTo>
                  <a:cubicBezTo>
                    <a:pt x="2280" y="160"/>
                    <a:pt x="2056" y="408"/>
                    <a:pt x="1920" y="512"/>
                  </a:cubicBezTo>
                  <a:cubicBezTo>
                    <a:pt x="1784" y="616"/>
                    <a:pt x="1536" y="680"/>
                    <a:pt x="1392" y="704"/>
                  </a:cubicBezTo>
                  <a:cubicBezTo>
                    <a:pt x="1248" y="728"/>
                    <a:pt x="1200" y="584"/>
                    <a:pt x="1056" y="656"/>
                  </a:cubicBezTo>
                  <a:cubicBezTo>
                    <a:pt x="912" y="728"/>
                    <a:pt x="488" y="1016"/>
                    <a:pt x="528" y="1136"/>
                  </a:cubicBezTo>
                  <a:cubicBezTo>
                    <a:pt x="568" y="1256"/>
                    <a:pt x="1072" y="1400"/>
                    <a:pt x="1296" y="1376"/>
                  </a:cubicBezTo>
                  <a:cubicBezTo>
                    <a:pt x="1520" y="1352"/>
                    <a:pt x="1648" y="1064"/>
                    <a:pt x="1872" y="992"/>
                  </a:cubicBezTo>
                  <a:cubicBezTo>
                    <a:pt x="2096" y="920"/>
                    <a:pt x="2616" y="848"/>
                    <a:pt x="2640" y="944"/>
                  </a:cubicBezTo>
                  <a:cubicBezTo>
                    <a:pt x="2664" y="1040"/>
                    <a:pt x="2240" y="1480"/>
                    <a:pt x="2016" y="1568"/>
                  </a:cubicBezTo>
                  <a:cubicBezTo>
                    <a:pt x="1792" y="1656"/>
                    <a:pt x="1498" y="1507"/>
                    <a:pt x="1296" y="1472"/>
                  </a:cubicBezTo>
                  <a:cubicBezTo>
                    <a:pt x="1094" y="1437"/>
                    <a:pt x="939" y="1397"/>
                    <a:pt x="803" y="1357"/>
                  </a:cubicBezTo>
                  <a:cubicBezTo>
                    <a:pt x="667" y="1317"/>
                    <a:pt x="614" y="1261"/>
                    <a:pt x="480" y="1232"/>
                  </a:cubicBezTo>
                  <a:cubicBezTo>
                    <a:pt x="346" y="1203"/>
                    <a:pt x="80" y="1200"/>
                    <a:pt x="0" y="1184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ff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>
              <a:off x="2057400" y="3276720"/>
              <a:ext cx="7632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952520" y="1981080"/>
            <a:ext cx="2591280" cy="1219320"/>
            <a:chOff x="4952520" y="1981080"/>
            <a:chExt cx="2591280" cy="1219320"/>
          </a:xfrm>
        </p:grpSpPr>
        <p:sp>
          <p:nvSpPr>
            <p:cNvPr id="224" name="Text Box 7"/>
            <p:cNvSpPr/>
            <p:nvPr/>
          </p:nvSpPr>
          <p:spPr>
            <a:xfrm>
              <a:off x="6095880" y="198108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الغدد اللعاب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 flipV="1">
              <a:off x="4952520" y="2057400"/>
              <a:ext cx="114300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 flipH="1">
              <a:off x="5715000" y="2286000"/>
              <a:ext cx="53352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914400" y="2209680"/>
            <a:ext cx="2133720" cy="990720"/>
            <a:chOff x="914400" y="2209680"/>
            <a:chExt cx="2133720" cy="990720"/>
          </a:xfrm>
        </p:grpSpPr>
        <p:sp>
          <p:nvSpPr>
            <p:cNvPr id="228" name="Text Box 11"/>
            <p:cNvSpPr/>
            <p:nvPr/>
          </p:nvSpPr>
          <p:spPr>
            <a:xfrm>
              <a:off x="914400" y="220968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قناة لعابية رئيس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>
              <a:off x="2057400" y="2666880"/>
              <a:ext cx="30492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3"/>
          <p:cNvGrpSpPr/>
          <p:nvPr/>
        </p:nvGrpSpPr>
        <p:grpSpPr>
          <a:xfrm>
            <a:off x="2514600" y="3733920"/>
            <a:ext cx="1905120" cy="1511280"/>
            <a:chOff x="2514600" y="3733920"/>
            <a:chExt cx="1905120" cy="1511280"/>
          </a:xfrm>
        </p:grpSpPr>
        <p:sp>
          <p:nvSpPr>
            <p:cNvPr id="231" name="Text Box 14"/>
            <p:cNvSpPr/>
            <p:nvPr/>
          </p:nvSpPr>
          <p:spPr>
            <a:xfrm>
              <a:off x="2514600" y="44197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قناة لعابية فرع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 flipV="1">
              <a:off x="3429000" y="3733920"/>
              <a:ext cx="76320" cy="761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16"/>
          <p:cNvSpPr/>
          <p:nvPr/>
        </p:nvSpPr>
        <p:spPr>
          <a:xfrm>
            <a:off x="6553080" y="3886200"/>
            <a:ext cx="20574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ـفرز اللع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715000" y="4724280"/>
            <a:ext cx="1981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ـفرز الحر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724280" y="5486400"/>
            <a:ext cx="213372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منع تجلط ال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0" dur="1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3" dur="1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6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latory system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جهاز الدوري في الحشــر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 circulatory systems are said to be “open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 blood (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oly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lows relatively “freely” throughout the hemoco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vessel is present in the insect circulatory system: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rsal vess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ly, the dorsal vessel acts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umping hemolymph forward into the anterior region, where it acts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umps the hemolymph into the he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flows posteriorly and is returned to the heart v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are small slits in the heart region of the dorsal vessel designed for hemolymph 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label 2-2"/>
          <p:cNvPicPr/>
          <p:nvPr/>
        </p:nvPicPr>
        <p:blipFill>
          <a:blip r:embed="rId1"/>
          <a:stretch/>
        </p:blipFill>
        <p:spPr>
          <a:xfrm>
            <a:off x="1066680" y="76320"/>
            <a:ext cx="7526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"/>
          <p:cNvGrpSpPr/>
          <p:nvPr/>
        </p:nvGrpSpPr>
        <p:grpSpPr>
          <a:xfrm>
            <a:off x="2590920" y="3505320"/>
            <a:ext cx="4800600" cy="3166920"/>
            <a:chOff x="2590920" y="3505320"/>
            <a:chExt cx="4800600" cy="3166920"/>
          </a:xfrm>
        </p:grpSpPr>
        <p:pic>
          <p:nvPicPr>
            <p:cNvPr id="240" name="Picture 2" descr="Circulatory"/>
            <p:cNvPicPr/>
            <p:nvPr/>
          </p:nvPicPr>
          <p:blipFill>
            <a:blip r:embed="rId2">
              <a:lum contrast="36000"/>
            </a:blip>
            <a:stretch/>
          </p:blipFill>
          <p:spPr>
            <a:xfrm>
              <a:off x="2590920" y="3505320"/>
              <a:ext cx="48006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5095440" y="3817800"/>
              <a:ext cx="1408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وعاء الدموى الظهرى (القلب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 flipH="1">
              <a:off x="5668920" y="4028040"/>
              <a:ext cx="31284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590920" y="3872160"/>
              <a:ext cx="99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فتـحات لـدخـول الد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3008160" y="4028040"/>
              <a:ext cx="469440" cy="83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3216960" y="4028040"/>
              <a:ext cx="521640" cy="83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3790800" y="5909760"/>
              <a:ext cx="99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فتـحات لـخروج الد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"/>
            <p:cNvSpPr/>
            <p:nvPr/>
          </p:nvSpPr>
          <p:spPr>
            <a:xfrm flipV="1">
              <a:off x="4626000" y="5126040"/>
              <a:ext cx="67788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 flipH="1" flipV="1">
              <a:off x="4208400" y="5178240"/>
              <a:ext cx="15624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2360" y="299880"/>
            <a:ext cx="84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An open circulatory system, the only blood vessel usually be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bular structure dorsal to the alimentary canal with 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s in the abdomina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circulatory"/>
          <p:cNvPicPr/>
          <p:nvPr/>
        </p:nvPicPr>
        <p:blipFill>
          <a:blip r:embed="rId1"/>
          <a:srcRect l="0" t="14865" r="0" b="0"/>
          <a:stretch/>
        </p:blipFill>
        <p:spPr>
          <a:xfrm>
            <a:off x="4370400" y="1455840"/>
            <a:ext cx="4773600" cy="5402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507960" y="5162400"/>
            <a:ext cx="35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The body cavity a 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or hemocoel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lom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9"/>
          <p:cNvSpPr/>
          <p:nvPr/>
        </p:nvSpPr>
        <p:spPr>
          <a:xfrm>
            <a:off x="1371600" y="0"/>
            <a:ext cx="6858000" cy="4724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286000" y="2819520"/>
            <a:ext cx="555480" cy="647640"/>
            <a:chOff x="2286000" y="2819520"/>
            <a:chExt cx="555480" cy="647640"/>
          </a:xfrm>
        </p:grpSpPr>
        <p:sp>
          <p:nvSpPr>
            <p:cNvPr id="254" name="Freeform 4"/>
            <p:cNvSpPr/>
            <p:nvPr/>
          </p:nvSpPr>
          <p:spPr>
            <a:xfrm>
              <a:off x="2286000" y="2819520"/>
              <a:ext cx="555480" cy="6476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42" h="504">
                  <a:moveTo>
                    <a:pt x="40" y="140"/>
                  </a:moveTo>
                  <a:cubicBezTo>
                    <a:pt x="48" y="112"/>
                    <a:pt x="49" y="103"/>
                    <a:pt x="79" y="81"/>
                  </a:cubicBezTo>
                  <a:cubicBezTo>
                    <a:pt x="109" y="59"/>
                    <a:pt x="166" y="12"/>
                    <a:pt x="222" y="8"/>
                  </a:cubicBezTo>
                  <a:cubicBezTo>
                    <a:pt x="278" y="4"/>
                    <a:pt x="366" y="0"/>
                    <a:pt x="414" y="56"/>
                  </a:cubicBezTo>
                  <a:cubicBezTo>
                    <a:pt x="462" y="112"/>
                    <a:pt x="542" y="272"/>
                    <a:pt x="510" y="344"/>
                  </a:cubicBezTo>
                  <a:cubicBezTo>
                    <a:pt x="478" y="416"/>
                    <a:pt x="302" y="504"/>
                    <a:pt x="222" y="488"/>
                  </a:cubicBezTo>
                  <a:cubicBezTo>
                    <a:pt x="142" y="472"/>
                    <a:pt x="60" y="306"/>
                    <a:pt x="30" y="248"/>
                  </a:cubicBezTo>
                  <a:cubicBezTo>
                    <a:pt x="0" y="190"/>
                    <a:pt x="32" y="168"/>
                    <a:pt x="40" y="14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2537640" y="2994120"/>
              <a:ext cx="196560" cy="3081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6"/>
          <p:cNvSpPr/>
          <p:nvPr/>
        </p:nvSpPr>
        <p:spPr>
          <a:xfrm>
            <a:off x="1981080" y="35053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أول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5181480" y="3048120"/>
            <a:ext cx="1447920" cy="1143000"/>
            <a:chOff x="5181480" y="3048120"/>
            <a:chExt cx="1447920" cy="1143000"/>
          </a:xfrm>
        </p:grpSpPr>
        <p:sp>
          <p:nvSpPr>
            <p:cNvPr id="258" name="Freeform 8"/>
            <p:cNvSpPr/>
            <p:nvPr/>
          </p:nvSpPr>
          <p:spPr>
            <a:xfrm>
              <a:off x="5181480" y="3048120"/>
              <a:ext cx="1447920" cy="11430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916" h="898">
                  <a:moveTo>
                    <a:pt x="237" y="137"/>
                  </a:moveTo>
                  <a:cubicBezTo>
                    <a:pt x="263" y="124"/>
                    <a:pt x="289" y="111"/>
                    <a:pt x="315" y="98"/>
                  </a:cubicBezTo>
                  <a:cubicBezTo>
                    <a:pt x="328" y="91"/>
                    <a:pt x="354" y="78"/>
                    <a:pt x="354" y="78"/>
                  </a:cubicBezTo>
                  <a:cubicBezTo>
                    <a:pt x="361" y="65"/>
                    <a:pt x="363" y="48"/>
                    <a:pt x="374" y="39"/>
                  </a:cubicBezTo>
                  <a:cubicBezTo>
                    <a:pt x="397" y="21"/>
                    <a:pt x="452" y="0"/>
                    <a:pt x="452" y="0"/>
                  </a:cubicBezTo>
                  <a:cubicBezTo>
                    <a:pt x="575" y="13"/>
                    <a:pt x="645" y="8"/>
                    <a:pt x="745" y="59"/>
                  </a:cubicBezTo>
                  <a:cubicBezTo>
                    <a:pt x="751" y="72"/>
                    <a:pt x="754" y="88"/>
                    <a:pt x="764" y="98"/>
                  </a:cubicBezTo>
                  <a:cubicBezTo>
                    <a:pt x="774" y="108"/>
                    <a:pt x="794" y="106"/>
                    <a:pt x="803" y="117"/>
                  </a:cubicBezTo>
                  <a:cubicBezTo>
                    <a:pt x="821" y="140"/>
                    <a:pt x="829" y="170"/>
                    <a:pt x="842" y="196"/>
                  </a:cubicBezTo>
                  <a:cubicBezTo>
                    <a:pt x="849" y="209"/>
                    <a:pt x="862" y="235"/>
                    <a:pt x="862" y="235"/>
                  </a:cubicBezTo>
                  <a:cubicBezTo>
                    <a:pt x="855" y="352"/>
                    <a:pt x="916" y="561"/>
                    <a:pt x="784" y="625"/>
                  </a:cubicBezTo>
                  <a:cubicBezTo>
                    <a:pt x="771" y="651"/>
                    <a:pt x="758" y="677"/>
                    <a:pt x="745" y="703"/>
                  </a:cubicBezTo>
                  <a:cubicBezTo>
                    <a:pt x="738" y="716"/>
                    <a:pt x="738" y="735"/>
                    <a:pt x="725" y="742"/>
                  </a:cubicBezTo>
                  <a:cubicBezTo>
                    <a:pt x="699" y="755"/>
                    <a:pt x="647" y="781"/>
                    <a:pt x="647" y="781"/>
                  </a:cubicBezTo>
                  <a:cubicBezTo>
                    <a:pt x="587" y="898"/>
                    <a:pt x="352" y="826"/>
                    <a:pt x="276" y="820"/>
                  </a:cubicBezTo>
                  <a:cubicBezTo>
                    <a:pt x="250" y="807"/>
                    <a:pt x="224" y="794"/>
                    <a:pt x="198" y="781"/>
                  </a:cubicBezTo>
                  <a:cubicBezTo>
                    <a:pt x="185" y="775"/>
                    <a:pt x="159" y="762"/>
                    <a:pt x="159" y="762"/>
                  </a:cubicBezTo>
                  <a:cubicBezTo>
                    <a:pt x="117" y="720"/>
                    <a:pt x="113" y="691"/>
                    <a:pt x="61" y="664"/>
                  </a:cubicBezTo>
                  <a:cubicBezTo>
                    <a:pt x="24" y="550"/>
                    <a:pt x="0" y="371"/>
                    <a:pt x="120" y="313"/>
                  </a:cubicBezTo>
                  <a:cubicBezTo>
                    <a:pt x="169" y="212"/>
                    <a:pt x="102" y="330"/>
                    <a:pt x="178" y="254"/>
                  </a:cubicBezTo>
                  <a:cubicBezTo>
                    <a:pt x="254" y="178"/>
                    <a:pt x="136" y="245"/>
                    <a:pt x="237" y="196"/>
                  </a:cubicBezTo>
                  <a:cubicBezTo>
                    <a:pt x="280" y="109"/>
                    <a:pt x="255" y="138"/>
                    <a:pt x="295" y="98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5803920" y="3472200"/>
              <a:ext cx="434880" cy="31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5927760" y="3524040"/>
              <a:ext cx="247680" cy="212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11"/>
          <p:cNvSpPr/>
          <p:nvPr/>
        </p:nvSpPr>
        <p:spPr>
          <a:xfrm>
            <a:off x="525780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لعـمـ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7010280" y="1828800"/>
            <a:ext cx="1143000" cy="1241280"/>
            <a:chOff x="7010280" y="1828800"/>
            <a:chExt cx="1143000" cy="1241280"/>
          </a:xfrm>
        </p:grpSpPr>
        <p:sp>
          <p:nvSpPr>
            <p:cNvPr id="263" name="Freeform 13"/>
            <p:cNvSpPr/>
            <p:nvPr/>
          </p:nvSpPr>
          <p:spPr>
            <a:xfrm>
              <a:off x="7010280" y="1828800"/>
              <a:ext cx="1143000" cy="12412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011" h="957">
                  <a:moveTo>
                    <a:pt x="101" y="350"/>
                  </a:moveTo>
                  <a:cubicBezTo>
                    <a:pt x="98" y="331"/>
                    <a:pt x="89" y="312"/>
                    <a:pt x="93" y="293"/>
                  </a:cubicBezTo>
                  <a:cubicBezTo>
                    <a:pt x="103" y="251"/>
                    <a:pt x="132" y="215"/>
                    <a:pt x="151" y="176"/>
                  </a:cubicBezTo>
                  <a:cubicBezTo>
                    <a:pt x="158" y="163"/>
                    <a:pt x="158" y="144"/>
                    <a:pt x="171" y="137"/>
                  </a:cubicBezTo>
                  <a:cubicBezTo>
                    <a:pt x="184" y="130"/>
                    <a:pt x="197" y="124"/>
                    <a:pt x="210" y="117"/>
                  </a:cubicBezTo>
                  <a:cubicBezTo>
                    <a:pt x="249" y="40"/>
                    <a:pt x="346" y="20"/>
                    <a:pt x="425" y="0"/>
                  </a:cubicBezTo>
                  <a:cubicBezTo>
                    <a:pt x="516" y="7"/>
                    <a:pt x="607" y="9"/>
                    <a:pt x="698" y="20"/>
                  </a:cubicBezTo>
                  <a:cubicBezTo>
                    <a:pt x="767" y="29"/>
                    <a:pt x="713" y="43"/>
                    <a:pt x="757" y="78"/>
                  </a:cubicBezTo>
                  <a:cubicBezTo>
                    <a:pt x="780" y="96"/>
                    <a:pt x="835" y="117"/>
                    <a:pt x="835" y="117"/>
                  </a:cubicBezTo>
                  <a:cubicBezTo>
                    <a:pt x="841" y="130"/>
                    <a:pt x="844" y="146"/>
                    <a:pt x="854" y="156"/>
                  </a:cubicBezTo>
                  <a:cubicBezTo>
                    <a:pt x="864" y="166"/>
                    <a:pt x="884" y="165"/>
                    <a:pt x="893" y="176"/>
                  </a:cubicBezTo>
                  <a:cubicBezTo>
                    <a:pt x="911" y="199"/>
                    <a:pt x="919" y="228"/>
                    <a:pt x="932" y="254"/>
                  </a:cubicBezTo>
                  <a:cubicBezTo>
                    <a:pt x="962" y="313"/>
                    <a:pt x="990" y="368"/>
                    <a:pt x="1011" y="430"/>
                  </a:cubicBezTo>
                  <a:cubicBezTo>
                    <a:pt x="1004" y="488"/>
                    <a:pt x="1004" y="548"/>
                    <a:pt x="991" y="605"/>
                  </a:cubicBezTo>
                  <a:cubicBezTo>
                    <a:pt x="977" y="666"/>
                    <a:pt x="923" y="743"/>
                    <a:pt x="893" y="801"/>
                  </a:cubicBezTo>
                  <a:cubicBezTo>
                    <a:pt x="880" y="827"/>
                    <a:pt x="841" y="827"/>
                    <a:pt x="815" y="840"/>
                  </a:cubicBezTo>
                  <a:cubicBezTo>
                    <a:pt x="731" y="882"/>
                    <a:pt x="650" y="927"/>
                    <a:pt x="561" y="957"/>
                  </a:cubicBezTo>
                  <a:cubicBezTo>
                    <a:pt x="438" y="947"/>
                    <a:pt x="320" y="954"/>
                    <a:pt x="210" y="898"/>
                  </a:cubicBezTo>
                  <a:cubicBezTo>
                    <a:pt x="203" y="885"/>
                    <a:pt x="201" y="868"/>
                    <a:pt x="190" y="859"/>
                  </a:cubicBezTo>
                  <a:cubicBezTo>
                    <a:pt x="167" y="841"/>
                    <a:pt x="112" y="820"/>
                    <a:pt x="112" y="820"/>
                  </a:cubicBezTo>
                  <a:cubicBezTo>
                    <a:pt x="93" y="781"/>
                    <a:pt x="73" y="742"/>
                    <a:pt x="54" y="703"/>
                  </a:cubicBezTo>
                  <a:cubicBezTo>
                    <a:pt x="47" y="690"/>
                    <a:pt x="34" y="664"/>
                    <a:pt x="34" y="664"/>
                  </a:cubicBezTo>
                  <a:cubicBezTo>
                    <a:pt x="8" y="559"/>
                    <a:pt x="0" y="566"/>
                    <a:pt x="34" y="430"/>
                  </a:cubicBezTo>
                  <a:cubicBezTo>
                    <a:pt x="41" y="402"/>
                    <a:pt x="60" y="378"/>
                    <a:pt x="73" y="352"/>
                  </a:cubicBezTo>
                  <a:cubicBezTo>
                    <a:pt x="80" y="339"/>
                    <a:pt x="80" y="320"/>
                    <a:pt x="93" y="313"/>
                  </a:cubicBezTo>
                  <a:cubicBezTo>
                    <a:pt x="106" y="306"/>
                    <a:pt x="122" y="304"/>
                    <a:pt x="132" y="293"/>
                  </a:cubicBezTo>
                  <a:cubicBezTo>
                    <a:pt x="137" y="288"/>
                    <a:pt x="119" y="293"/>
                    <a:pt x="112" y="29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7389360" y="1970280"/>
              <a:ext cx="324720" cy="23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7497720" y="2017440"/>
              <a:ext cx="162360" cy="1414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16"/>
          <p:cNvSpPr/>
          <p:nvPr/>
        </p:nvSpPr>
        <p:spPr>
          <a:xfrm>
            <a:off x="7010280" y="31240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محب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7"/>
          <p:cNvGrpSpPr/>
          <p:nvPr/>
        </p:nvGrpSpPr>
        <p:grpSpPr>
          <a:xfrm>
            <a:off x="3352680" y="2819520"/>
            <a:ext cx="1295640" cy="1371600"/>
            <a:chOff x="3352680" y="2819520"/>
            <a:chExt cx="1295640" cy="1371600"/>
          </a:xfrm>
        </p:grpSpPr>
        <p:sp>
          <p:nvSpPr>
            <p:cNvPr id="268" name="Oval 18"/>
            <p:cNvSpPr/>
            <p:nvPr/>
          </p:nvSpPr>
          <p:spPr>
            <a:xfrm>
              <a:off x="3352680" y="2819520"/>
              <a:ext cx="1295640" cy="13716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9"/>
            <p:cNvSpPr/>
            <p:nvPr/>
          </p:nvSpPr>
          <p:spPr>
            <a:xfrm>
              <a:off x="3504600" y="3442680"/>
              <a:ext cx="495720" cy="468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20"/>
            <p:cNvSpPr/>
            <p:nvPr/>
          </p:nvSpPr>
          <p:spPr>
            <a:xfrm>
              <a:off x="3645720" y="3520800"/>
              <a:ext cx="280800" cy="312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3108240" y="304920"/>
            <a:ext cx="3140280" cy="2133360"/>
            <a:chOff x="3108240" y="304920"/>
            <a:chExt cx="3140280" cy="2133360"/>
          </a:xfrm>
        </p:grpSpPr>
        <p:pic>
          <p:nvPicPr>
            <p:cNvPr id="272" name="Picture 22" descr="Haemocytes"/>
            <p:cNvPicPr/>
            <p:nvPr/>
          </p:nvPicPr>
          <p:blipFill>
            <a:blip r:embed="rId4"/>
            <a:stretch/>
          </p:blipFill>
          <p:spPr>
            <a:xfrm>
              <a:off x="3108240" y="304920"/>
              <a:ext cx="3140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23"/>
            <p:cNvSpPr/>
            <p:nvPr/>
          </p:nvSpPr>
          <p:spPr>
            <a:xfrm>
              <a:off x="3205800" y="394920"/>
              <a:ext cx="2885760" cy="189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1472760" y="1388520"/>
            <a:ext cx="1013760" cy="1522080"/>
            <a:chOff x="1472760" y="1388520"/>
            <a:chExt cx="1013760" cy="1522080"/>
          </a:xfrm>
        </p:grpSpPr>
        <p:sp>
          <p:nvSpPr>
            <p:cNvPr id="275" name="Freeform 27"/>
            <p:cNvSpPr/>
            <p:nvPr/>
          </p:nvSpPr>
          <p:spPr>
            <a:xfrm rot="6490800">
              <a:off x="1277640" y="1846440"/>
              <a:ext cx="1403280" cy="60624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96" h="636">
                  <a:moveTo>
                    <a:pt x="644" y="65"/>
                  </a:moveTo>
                  <a:cubicBezTo>
                    <a:pt x="800" y="84"/>
                    <a:pt x="586" y="73"/>
                    <a:pt x="605" y="65"/>
                  </a:cubicBezTo>
                  <a:cubicBezTo>
                    <a:pt x="618" y="60"/>
                    <a:pt x="630" y="51"/>
                    <a:pt x="644" y="46"/>
                  </a:cubicBezTo>
                  <a:cubicBezTo>
                    <a:pt x="683" y="32"/>
                    <a:pt x="761" y="7"/>
                    <a:pt x="761" y="7"/>
                  </a:cubicBezTo>
                  <a:cubicBezTo>
                    <a:pt x="846" y="13"/>
                    <a:pt x="931" y="16"/>
                    <a:pt x="1015" y="26"/>
                  </a:cubicBezTo>
                  <a:cubicBezTo>
                    <a:pt x="1112" y="38"/>
                    <a:pt x="1198" y="95"/>
                    <a:pt x="1288" y="124"/>
                  </a:cubicBezTo>
                  <a:cubicBezTo>
                    <a:pt x="1350" y="144"/>
                    <a:pt x="1406" y="173"/>
                    <a:pt x="1464" y="202"/>
                  </a:cubicBezTo>
                  <a:cubicBezTo>
                    <a:pt x="1490" y="215"/>
                    <a:pt x="1542" y="241"/>
                    <a:pt x="1542" y="241"/>
                  </a:cubicBezTo>
                  <a:cubicBezTo>
                    <a:pt x="1549" y="254"/>
                    <a:pt x="1551" y="271"/>
                    <a:pt x="1562" y="280"/>
                  </a:cubicBezTo>
                  <a:cubicBezTo>
                    <a:pt x="1601" y="311"/>
                    <a:pt x="1671" y="335"/>
                    <a:pt x="1718" y="358"/>
                  </a:cubicBezTo>
                  <a:cubicBezTo>
                    <a:pt x="1731" y="365"/>
                    <a:pt x="1744" y="371"/>
                    <a:pt x="1757" y="378"/>
                  </a:cubicBezTo>
                  <a:cubicBezTo>
                    <a:pt x="1770" y="384"/>
                    <a:pt x="1796" y="397"/>
                    <a:pt x="1796" y="397"/>
                  </a:cubicBezTo>
                  <a:cubicBezTo>
                    <a:pt x="1675" y="458"/>
                    <a:pt x="1553" y="491"/>
                    <a:pt x="1425" y="534"/>
                  </a:cubicBezTo>
                  <a:cubicBezTo>
                    <a:pt x="1367" y="553"/>
                    <a:pt x="1309" y="577"/>
                    <a:pt x="1249" y="592"/>
                  </a:cubicBezTo>
                  <a:cubicBezTo>
                    <a:pt x="1074" y="636"/>
                    <a:pt x="1220" y="589"/>
                    <a:pt x="1093" y="632"/>
                  </a:cubicBezTo>
                  <a:cubicBezTo>
                    <a:pt x="909" y="618"/>
                    <a:pt x="681" y="621"/>
                    <a:pt x="507" y="534"/>
                  </a:cubicBezTo>
                  <a:cubicBezTo>
                    <a:pt x="494" y="527"/>
                    <a:pt x="416" y="488"/>
                    <a:pt x="390" y="475"/>
                  </a:cubicBezTo>
                  <a:cubicBezTo>
                    <a:pt x="364" y="462"/>
                    <a:pt x="312" y="436"/>
                    <a:pt x="312" y="436"/>
                  </a:cubicBezTo>
                  <a:cubicBezTo>
                    <a:pt x="281" y="371"/>
                    <a:pt x="305" y="402"/>
                    <a:pt x="215" y="358"/>
                  </a:cubicBezTo>
                  <a:cubicBezTo>
                    <a:pt x="202" y="351"/>
                    <a:pt x="188" y="346"/>
                    <a:pt x="175" y="339"/>
                  </a:cubicBezTo>
                  <a:cubicBezTo>
                    <a:pt x="162" y="333"/>
                    <a:pt x="136" y="319"/>
                    <a:pt x="136" y="319"/>
                  </a:cubicBezTo>
                  <a:cubicBezTo>
                    <a:pt x="104" y="254"/>
                    <a:pt x="130" y="287"/>
                    <a:pt x="39" y="241"/>
                  </a:cubicBezTo>
                  <a:cubicBezTo>
                    <a:pt x="26" y="234"/>
                    <a:pt x="0" y="221"/>
                    <a:pt x="0" y="221"/>
                  </a:cubicBezTo>
                  <a:cubicBezTo>
                    <a:pt x="156" y="215"/>
                    <a:pt x="235" y="140"/>
                    <a:pt x="390" y="124"/>
                  </a:cubicBezTo>
                  <a:cubicBezTo>
                    <a:pt x="419" y="121"/>
                    <a:pt x="481" y="98"/>
                    <a:pt x="507" y="85"/>
                  </a:cubicBezTo>
                  <a:cubicBezTo>
                    <a:pt x="520" y="78"/>
                    <a:pt x="566" y="65"/>
                    <a:pt x="566" y="65"/>
                  </a:cubicBezTo>
                  <a:cubicBezTo>
                    <a:pt x="598" y="0"/>
                    <a:pt x="592" y="110"/>
                    <a:pt x="683" y="65"/>
                  </a:cubicBezTo>
                  <a:cubicBezTo>
                    <a:pt x="696" y="59"/>
                    <a:pt x="722" y="46"/>
                    <a:pt x="722" y="46"/>
                  </a:cubicBezTo>
                  <a:cubicBezTo>
                    <a:pt x="729" y="33"/>
                    <a:pt x="742" y="7"/>
                    <a:pt x="742" y="7"/>
                  </a:cubicBezTo>
                </a:path>
              </a:pathLst>
            </a:custGeom>
            <a:solidFill>
              <a:srgbClr val="b2b2b2"/>
            </a:solid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26"/>
            <p:cNvSpPr/>
            <p:nvPr/>
          </p:nvSpPr>
          <p:spPr>
            <a:xfrm rot="6490800">
              <a:off x="1723680" y="2168640"/>
              <a:ext cx="366120" cy="334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Line 30"/>
          <p:cNvSpPr/>
          <p:nvPr/>
        </p:nvSpPr>
        <p:spPr>
          <a:xfrm flipH="1">
            <a:off x="2133360" y="1066680"/>
            <a:ext cx="144756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H="1">
            <a:off x="2743200" y="1752480"/>
            <a:ext cx="12952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 flipH="1">
            <a:off x="4191120" y="121932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5181480" y="838080"/>
            <a:ext cx="76212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5638680" y="990720"/>
            <a:ext cx="144792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19051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لازم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3276720" y="4191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ولية (الخمري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2158560" y="548532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نواع خلايا الدم فى الحشــرات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nsect Abdome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طن الحشر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LUBR2"/>
          <p:cNvPicPr/>
          <p:nvPr/>
        </p:nvPicPr>
        <p:blipFill>
          <a:blip r:embed="rId1"/>
          <a:stretch/>
        </p:blipFill>
        <p:spPr>
          <a:xfrm>
            <a:off x="152280" y="1893960"/>
            <a:ext cx="5781960" cy="38973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6019920" y="2895480"/>
            <a:ext cx="2971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توي على الأجهزة الحيوية مثل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هضم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عص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تناس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إخرا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abdomen"/>
          <p:cNvPicPr/>
          <p:nvPr/>
        </p:nvPicPr>
        <p:blipFill>
          <a:blip r:embed="rId2"/>
          <a:stretch/>
        </p:blipFill>
        <p:spPr>
          <a:xfrm>
            <a:off x="76320" y="152280"/>
            <a:ext cx="1511280" cy="11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bdomen"/>
          <p:cNvPicPr/>
          <p:nvPr/>
        </p:nvPicPr>
        <p:blipFill>
          <a:blip r:embed="rId3"/>
          <a:stretch/>
        </p:blipFill>
        <p:spPr>
          <a:xfrm>
            <a:off x="7480440" y="152280"/>
            <a:ext cx="15112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sect respiratory system is made up of a series of tubes that originate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rac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penings of the exoskeleton that allow for gas exchange) and extend throughout the bod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ly, the tubes,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h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ppear as thin white lines throughout the hemocoel and are particularly noticeable surrounding internal organ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hea deliver oxygen to internal organs and t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جهاز التنف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Respiratory.WMV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9" descr="Respiratory"/>
          <p:cNvPicPr/>
          <p:nvPr/>
        </p:nvPicPr>
        <p:blipFill>
          <a:blip r:embed="rId1"/>
          <a:stretch/>
        </p:blipFill>
        <p:spPr>
          <a:xfrm>
            <a:off x="1523880" y="457200"/>
            <a:ext cx="5562720" cy="3327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21"/>
          <p:cNvSpPr/>
          <p:nvPr/>
        </p:nvSpPr>
        <p:spPr>
          <a:xfrm>
            <a:off x="5334120" y="304812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زع القصبى البط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5562720" y="9907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قصـبات عمو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6"/>
          <p:cNvSpPr/>
          <p:nvPr/>
        </p:nvSpPr>
        <p:spPr>
          <a:xfrm flipH="1">
            <a:off x="5257800" y="13716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 flipH="1">
            <a:off x="5562360" y="1295280"/>
            <a:ext cx="6858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2666880" y="3124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كـياس هـوائـ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4114800" y="3276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فتحات تـنـفسـ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6"/>
          <p:cNvSpPr/>
          <p:nvPr/>
        </p:nvSpPr>
        <p:spPr>
          <a:xfrm flipH="1" flipV="1">
            <a:off x="5181480" y="2590920"/>
            <a:ext cx="6098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7"/>
          <p:cNvSpPr/>
          <p:nvPr/>
        </p:nvSpPr>
        <p:spPr>
          <a:xfrm flipV="1">
            <a:off x="4724280" y="2742840"/>
            <a:ext cx="763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8"/>
          <p:cNvSpPr/>
          <p:nvPr/>
        </p:nvSpPr>
        <p:spPr>
          <a:xfrm flipH="1" flipV="1">
            <a:off x="4419360" y="274284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9"/>
          <p:cNvSpPr/>
          <p:nvPr/>
        </p:nvSpPr>
        <p:spPr>
          <a:xfrm flipH="1" flipV="1">
            <a:off x="3276360" y="220968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3429000" y="228600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809880" y="1523880"/>
            <a:ext cx="1526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320040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زع القصبى االظهر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4"/>
          <p:cNvGraphicFramePr/>
          <p:nvPr/>
        </p:nvGraphicFramePr>
        <p:xfrm>
          <a:off x="1219320" y="4829040"/>
          <a:ext cx="2209680" cy="12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829040"/>
                    <a:ext cx="220968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45"/>
          <p:cNvSpPr/>
          <p:nvPr/>
        </p:nvSpPr>
        <p:spPr>
          <a:xfrm>
            <a:off x="2895480" y="57913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فتحة الثغ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46"/>
          <p:cNvSpPr/>
          <p:nvPr/>
        </p:nvSpPr>
        <p:spPr>
          <a:xfrm flipH="1" flipV="1">
            <a:off x="3352680" y="5562360"/>
            <a:ext cx="1526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1600200" y="4876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ة الغ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1447920" y="5791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صبة الهو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9"/>
          <p:cNvSpPr/>
          <p:nvPr/>
        </p:nvSpPr>
        <p:spPr>
          <a:xfrm>
            <a:off x="2666880" y="4800600"/>
            <a:ext cx="6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لي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133720" y="5105520"/>
            <a:ext cx="3808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51"/>
          <p:cNvSpPr/>
          <p:nvPr/>
        </p:nvSpPr>
        <p:spPr>
          <a:xfrm flipH="1" flipV="1">
            <a:off x="1447560" y="5486400"/>
            <a:ext cx="1522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52"/>
          <p:cNvGraphicFramePr/>
          <p:nvPr/>
        </p:nvGraphicFramePr>
        <p:xfrm>
          <a:off x="4952880" y="4267080"/>
          <a:ext cx="1675080" cy="20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267080"/>
                    <a:ext cx="167508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53"/>
          <p:cNvSpPr/>
          <p:nvPr/>
        </p:nvSpPr>
        <p:spPr>
          <a:xfrm>
            <a:off x="594360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طل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4"/>
          <p:cNvSpPr/>
          <p:nvPr/>
        </p:nvSpPr>
        <p:spPr>
          <a:xfrm>
            <a:off x="6248520" y="5562720"/>
            <a:ext cx="60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حلزون كيتي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55"/>
          <p:cNvSpPr/>
          <p:nvPr/>
        </p:nvSpPr>
        <p:spPr>
          <a:xfrm flipH="1">
            <a:off x="5562720" y="5334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56"/>
          <p:cNvSpPr/>
          <p:nvPr/>
        </p:nvSpPr>
        <p:spPr>
          <a:xfrm flipH="1">
            <a:off x="579132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41280" y="38268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) Respiration by means of gills, or tracheae and spir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5" descr="respiratory"/>
          <p:cNvPicPr/>
          <p:nvPr/>
        </p:nvPicPr>
        <p:blipFill>
          <a:blip r:embed="rId1"/>
          <a:srcRect l="19729" t="13681" r="14726" b="4059"/>
          <a:stretch/>
        </p:blipFill>
        <p:spPr>
          <a:xfrm>
            <a:off x="5268960" y="884160"/>
            <a:ext cx="3417840" cy="5702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EBELING FIG052"/>
          <p:cNvPicPr/>
          <p:nvPr/>
        </p:nvPicPr>
        <p:blipFill>
          <a:blip r:embed="rId2">
            <a:lum contrast="36000"/>
          </a:blip>
          <a:srcRect l="0" t="0" r="0" b="58408"/>
          <a:stretch/>
        </p:blipFill>
        <p:spPr>
          <a:xfrm>
            <a:off x="152280" y="1371600"/>
            <a:ext cx="546588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3"/>
          <p:cNvGrpSpPr/>
          <p:nvPr/>
        </p:nvGrpSpPr>
        <p:grpSpPr>
          <a:xfrm>
            <a:off x="1143000" y="838080"/>
            <a:ext cx="6248160" cy="4811760"/>
            <a:chOff x="1143000" y="838080"/>
            <a:chExt cx="6248160" cy="4811760"/>
          </a:xfrm>
        </p:grpSpPr>
        <p:sp>
          <p:nvSpPr>
            <p:cNvPr id="321" name="Text Box 19"/>
            <p:cNvSpPr/>
            <p:nvPr/>
          </p:nvSpPr>
          <p:spPr>
            <a:xfrm>
              <a:off x="6172200" y="243828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ثاني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2" name="Object 2"/>
            <p:cNvGraphicFramePr/>
            <p:nvPr/>
          </p:nvGraphicFramePr>
          <p:xfrm>
            <a:off x="2590560" y="838080"/>
            <a:ext cx="3797280" cy="481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560" y="838080"/>
                      <a:ext cx="3797280" cy="481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Text Box 3"/>
            <p:cNvSpPr/>
            <p:nvPr/>
          </p:nvSpPr>
          <p:spPr>
            <a:xfrm>
              <a:off x="1143000" y="30477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الجذو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 الجانب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4"/>
            <p:cNvSpPr/>
            <p:nvPr/>
          </p:nvSpPr>
          <p:spPr>
            <a:xfrm flipV="1">
              <a:off x="2438280" y="3047760"/>
              <a:ext cx="8380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2438280" y="3200400"/>
              <a:ext cx="2590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2666880" y="10666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تصال ظهر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>
              <a:off x="3276360" y="1295280"/>
              <a:ext cx="533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1371600" y="243828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تصال بطن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"/>
            <p:cNvSpPr/>
            <p:nvPr/>
          </p:nvSpPr>
          <p:spPr>
            <a:xfrm>
              <a:off x="2361960" y="2666880"/>
              <a:ext cx="1524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1"/>
            <p:cNvSpPr/>
            <p:nvPr/>
          </p:nvSpPr>
          <p:spPr>
            <a:xfrm>
              <a:off x="1295280" y="19810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ـغـ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>
              <a:off x="2286000" y="2133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4495680" y="10666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ـغـ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>
              <a:off x="525780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5"/>
            <p:cNvSpPr/>
            <p:nvPr/>
          </p:nvSpPr>
          <p:spPr>
            <a:xfrm>
              <a:off x="6172200" y="144756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أولى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 flipH="1">
              <a:off x="5638680" y="17524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H="1">
              <a:off x="6324480" y="41907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H="1">
              <a:off x="6171840" y="2743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6248160" y="388620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ثالث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6248160" y="494352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بطنية الأولى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2"/>
            <p:cNvSpPr/>
            <p:nvPr/>
          </p:nvSpPr>
          <p:spPr>
            <a:xfrm flipH="1">
              <a:off x="6324480" y="5181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73160" y="1203480"/>
          <a:ext cx="7162920" cy="55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203480"/>
                    <a:ext cx="716292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AutoShape 3"/>
          <p:cNvSpPr/>
          <p:nvPr/>
        </p:nvSpPr>
        <p:spPr>
          <a:xfrm rot="16200000">
            <a:off x="3244680" y="-571320"/>
            <a:ext cx="761760" cy="3429000"/>
          </a:xfrm>
          <a:custGeom>
            <a:avLst/>
            <a:gdLst>
              <a:gd name="textAreaLeft" fmla="*/ 0 w 761760"/>
              <a:gd name="textAreaRight" fmla="*/ 275040 w 7617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 rot="18895200">
            <a:off x="6758640" y="900360"/>
            <a:ext cx="762120" cy="2637000"/>
          </a:xfrm>
          <a:custGeom>
            <a:avLst/>
            <a:gdLst>
              <a:gd name="textAreaLeft" fmla="*/ 0 w 762120"/>
              <a:gd name="textAreaRight" fmla="*/ 275040 w 762120"/>
              <a:gd name="textAreaTop" fmla="*/ 68760 h 2637000"/>
              <a:gd name="textAreaBottom" fmla="*/ 2568240 h 26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063880" y="228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منطقـة الأمـامي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 rot="2869800">
            <a:off x="6104520" y="145584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منطقـة التـناسـلي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7621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ـظـه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334120" y="3962520"/>
            <a:ext cx="34290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</a:t>
            </a:r>
            <a:r>
              <a:rPr b="1" lang="ar-EG" sz="3600" spc="-1" strike="noStrike">
                <a:solidFill>
                  <a:srgbClr val="0000ff"/>
                </a:solidFill>
                <a:latin typeface="Times New Roman"/>
              </a:rPr>
              <a:t>منـط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ـقـة الخل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تـنـاسـلـي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5410080" y="4952880"/>
            <a:ext cx="838440" cy="381240"/>
          </a:xfrm>
          <a:prstGeom prst="leftArrow">
            <a:avLst>
              <a:gd name="adj1" fmla="val 50000"/>
              <a:gd name="adj2" fmla="val 54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 rot="1599000">
            <a:off x="761760" y="129492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28600" y="30780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بـطــ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2"/>
          <p:cNvSpPr/>
          <p:nvPr/>
        </p:nvSpPr>
        <p:spPr>
          <a:xfrm rot="19728600">
            <a:off x="1447920" y="274284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1219320" y="20574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52280" y="1905120"/>
            <a:ext cx="10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جـن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638680" y="3657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84440" y="2282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5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dominal Appendages –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oleg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لزوائد البطنية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– الأرجل الأو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228600" y="2000160"/>
            <a:ext cx="4676760" cy="3714840"/>
            <a:chOff x="228600" y="2000160"/>
            <a:chExt cx="4676760" cy="3714840"/>
          </a:xfrm>
        </p:grpSpPr>
        <p:pic>
          <p:nvPicPr>
            <p:cNvPr id="73" name="Picture 14" descr="prolegs"/>
            <p:cNvPicPr/>
            <p:nvPr/>
          </p:nvPicPr>
          <p:blipFill>
            <a:blip r:embed="rId1"/>
            <a:srcRect l="3275" t="0" r="0" b="0"/>
            <a:stretch/>
          </p:blipFill>
          <p:spPr>
            <a:xfrm>
              <a:off x="228600" y="2000160"/>
              <a:ext cx="467676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ine 15"/>
            <p:cNvSpPr/>
            <p:nvPr/>
          </p:nvSpPr>
          <p:spPr>
            <a:xfrm>
              <a:off x="1381680" y="2431080"/>
              <a:ext cx="388800" cy="14176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2"/>
          <p:cNvSpPr/>
          <p:nvPr/>
        </p:nvSpPr>
        <p:spPr>
          <a:xfrm>
            <a:off x="4952880" y="2286000"/>
            <a:ext cx="4038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موجودة ف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38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rpi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38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wf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غير مقسمة إلى حل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لا توجد في الحشرات البالغ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6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erc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2104920"/>
            <a:ext cx="5086080" cy="3914640"/>
            <a:chOff x="304920" y="2104920"/>
            <a:chExt cx="5086080" cy="3914640"/>
          </a:xfrm>
        </p:grpSpPr>
        <p:pic>
          <p:nvPicPr>
            <p:cNvPr id="78" name="Picture 7" descr="earwigs"/>
            <p:cNvPicPr/>
            <p:nvPr/>
          </p:nvPicPr>
          <p:blipFill>
            <a:blip r:embed="rId1"/>
            <a:stretch/>
          </p:blipFill>
          <p:spPr>
            <a:xfrm>
              <a:off x="304920" y="2104920"/>
              <a:ext cx="508608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4"/>
            <p:cNvSpPr/>
            <p:nvPr/>
          </p:nvSpPr>
          <p:spPr>
            <a:xfrm flipH="1" flipV="1">
              <a:off x="1407240" y="2201040"/>
              <a:ext cx="556920" cy="1054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3886200" y="4857120"/>
              <a:ext cx="1005120" cy="781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5130720" y="2286000"/>
            <a:ext cx="386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ضو حسي يوجد في نهاية الحلقة البطنية الأخ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جد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w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k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835520" y="1905120"/>
            <a:ext cx="392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وجد في إناث الحش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ستخدم لوضع البي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viposi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آلة وضع البي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3998880" cy="3013200"/>
          </a:xfrm>
          <a:prstGeom prst="rect">
            <a:avLst/>
          </a:prstGeom>
          <a:ln w="0">
            <a:noFill/>
          </a:ln>
        </p:spPr>
      </p:pic>
      <p:pic>
        <p:nvPicPr>
          <p:cNvPr id="85" name="Locusts.wmv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400360" y="2385720"/>
            <a:ext cx="35910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تحور عن آلة وضع ال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جد في الإناث فق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للدفاع أو القبض على الفريس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27" descr="ck-sting"/>
          <p:cNvPicPr/>
          <p:nvPr/>
        </p:nvPicPr>
        <p:blipFill>
          <a:blip r:embed="rId1"/>
          <a:srcRect l="15274" t="0" r="3674" b="0"/>
          <a:stretch/>
        </p:blipFill>
        <p:spPr>
          <a:xfrm>
            <a:off x="304920" y="1752480"/>
            <a:ext cx="4997160" cy="407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36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ting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آلة اللس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0.tqn.com/d/insects/1/0/F/3/-/-/intanatomy.jpg"/>
          <p:cNvPicPr/>
          <p:nvPr/>
        </p:nvPicPr>
        <p:blipFill>
          <a:blip r:embed="rId1"/>
          <a:stretch/>
        </p:blipFill>
        <p:spPr>
          <a:xfrm>
            <a:off x="685800" y="1295280"/>
            <a:ext cx="778356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شريح الداخلي لجسم الحش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9"/>
          <p:cNvGrpSpPr/>
          <p:nvPr/>
        </p:nvGrpSpPr>
        <p:grpSpPr>
          <a:xfrm>
            <a:off x="1447920" y="990720"/>
            <a:ext cx="6095880" cy="5092200"/>
            <a:chOff x="1447920" y="990720"/>
            <a:chExt cx="6095880" cy="5092200"/>
          </a:xfrm>
        </p:grpSpPr>
        <p:graphicFrame>
          <p:nvGraphicFramePr>
            <p:cNvPr id="92" name="Object 2"/>
            <p:cNvGraphicFramePr/>
            <p:nvPr/>
          </p:nvGraphicFramePr>
          <p:xfrm>
            <a:off x="2514600" y="1447920"/>
            <a:ext cx="3975120" cy="403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1447920"/>
                      <a:ext cx="397512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3"/>
            <p:cNvSpPr/>
            <p:nvPr/>
          </p:nvSpPr>
          <p:spPr>
            <a:xfrm>
              <a:off x="4114800" y="990720"/>
              <a:ext cx="60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ل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3657600" y="5562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حبل العصبى البطن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6477120" y="3657600"/>
              <a:ext cx="1066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جزع القصب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الجانب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6248520" y="2779560"/>
              <a:ext cx="11430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صبة الهو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ظهر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1447920" y="4456080"/>
              <a:ext cx="11430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صبة الهو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بط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1600200" y="3352680"/>
              <a:ext cx="8380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غ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114800" y="33526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</a:rPr>
                <a:t>المع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1676520" y="2209680"/>
              <a:ext cx="1066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تفرعات قصب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495680" y="12193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2666880" y="22096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2286000" y="2438280"/>
              <a:ext cx="12193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H="1">
              <a:off x="6019560" y="3200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943600" y="3962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V="1">
              <a:off x="4495680" y="502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2590920" y="480060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057400" y="3581280"/>
              <a:ext cx="4572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54:05Z</dcterms:created>
  <dc:creator>user</dc:creator>
  <dc:description/>
  <dc:language>en-US</dc:language>
  <cp:lastModifiedBy>المستخدم</cp:lastModifiedBy>
  <dcterms:modified xsi:type="dcterms:W3CDTF">2013-12-25T05:35:43Z</dcterms:modified>
  <cp:revision>150</cp:revision>
  <dc:subject/>
  <dc:title>PowerPoint Presentation</dc:title>
</cp:coreProperties>
</file>