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B613-4047-4699-BFC7-63713AC9F28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6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46F-D817-4CB7-A344-8623933E641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6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625A-AD60-4AF1-AB68-EF4FA189DBA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45FD-5BE3-4DFB-9FCA-41C882E15D0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665-5051-4E51-9401-61265E26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607-9EA0-4044-BCF4-FA6AC3F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97C-E50F-46AE-995A-478B561B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46D-381F-4EF3-B03E-9F2F3AEC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1F6E-6B34-4ADA-AA13-72BAB689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851-E70C-4944-9478-7DA53E9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EE64-B5D4-4CD2-A990-D33298B3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9E6C-CFF1-45FA-8A59-6A385161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2F25-5E59-4208-A328-4F363AC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E4A4-8961-4008-A52B-EDF21E67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CB46-3952-4939-9A04-282218A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D65-E94E-4953-8E2D-6F3CCE2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80E7-ACC8-404C-8F27-BFC08E2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BE07-DD8B-4AFB-9AFB-C012DFBD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3914-837B-441D-AD04-103298CE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8E4C-D818-47D9-8FAC-4A8EA85A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F4A6-F629-4D26-802B-ACFFCAEE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9B35-C463-4B6F-8A77-68313BAD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B113-F6E4-43C8-B8A5-90410F8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8061-EA36-4546-B686-E67400E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7B1E-E5E3-4602-8031-95978016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00CE-DADF-4BF3-9C20-5F0A636F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3BD-A85E-48D7-8542-5142EFA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1BED-F547-4719-94C3-DFE75C1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8CFC-30F0-4229-8B33-A9BEA9E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E0B8-8BFB-46E1-ADCE-166FDD9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15CF-7E35-44C0-AFDA-B114603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ADCE-A866-4601-9CDB-8A85575E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C9DA-33B3-4626-B678-22190555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A78F-76B2-4AF7-AC26-D73FA129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2C2E-0ED3-446E-8F3B-A7DF91BC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E1F7-A384-479A-A21A-FC543378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CD14-A230-4755-8589-D5F1E05D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455-EFF7-4EBF-A0DA-5B12BF3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9913-E5B1-4254-AAED-266D32B0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E51D-A428-4C81-BAFA-D8E6154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285D-15A1-4FAC-A0A2-604B6308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1EEB-F8D6-4EDF-878E-1A3AAA8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6902-8F57-4469-9702-60A1256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956C-9650-4B22-A16E-714CE75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0E78-30C5-4CDF-8B5C-14BA6D6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C393-54A6-433B-A3F9-E771ADB2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8C2C-851B-4137-A7D3-09B52752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A329-0D02-458C-8F16-7AEF434D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370-F8C7-4E2E-8D11-1963611B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A9E9-A1C8-4B9C-BE77-DDCB6392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830FE-09CC-4E6D-8C20-3E8BF3A5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D245-21F3-453F-B292-10803CA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ECAA-A7D2-44AA-B8FF-4EEC59B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0C6B-01A7-4A97-8A24-2BB9287E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C838-8A98-4866-8E75-4C4D821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A75A-E5E0-4185-A677-4E5C9417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77BB-8BE5-4E8C-8DFF-6B80EC9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97C84-22B1-4FAC-BD27-6F87CFE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0A96E-76E2-4AFE-8A69-9482B13E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3D9-CC9C-4CB4-97FE-F0DDAE50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BC74-6782-4852-A118-214E651A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A71-C5BC-496D-A075-182D2C6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DB4-1C0B-412E-B6BE-961BE5F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F42-0555-421C-BA9D-B4A4D49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FB6F-2AE7-4B00-BBCC-34E6172019F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6BCE-E502-4103-9708-ADF12822F8A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73F8-D9EE-4300-BF08-FF8C6318E29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5FD-E25B-42C5-90D8-4D8E21C89997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4916-790F-4EC1-AFCF-C79FFEDF5F1F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6B98-1E3F-468D-8DED-987934919E1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34160" cy="3827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R 31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and Development of Toddler Stage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5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motional Development 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DAF2-0366-4191-BA75-583A1C90332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Perpetua"/>
              </a:rPr>
              <a:t>1- Autonomy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– The developmental task of the toddler years according to Erikson is the development of a sense of autonomy vs. shame or doubt.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o develop sense of autonomy is to develop a sense of independence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- A healthy level of autonomy is achieved when parents are able to encourage independence while still maintaining consistently sound rules for safety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- Socializ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DB8-CA42-458E-8334-25C6F4852DB4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Fifteen-month old children are still enthusiastic about interacting with people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By 18 months, toddlers imitate the things they see a parent doing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By 2 or more years, children become aware of gender differences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lanning and Implementation for Health Promotion of a Toddler and Family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C1CE-A737-464F-9DCF-A21898B6805B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 tend to develop many upper respiratory and ear infections but otherwise come to health care facilities most often for health maintenance visits (recommende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ach 3 months during the 2nd &amp; 3rd year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 and immunizations important at these tim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9399-5157-418B-8C12-97800BAFB06F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cidents are the major cause of death in children of all ag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cidental ingestions (poisoning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tor vehicle accid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lls and playground inju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Promoting Toddler Safet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4F0-25ED-4AD5-A95B-91946256049E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moting Nutritional Health of a Toddl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s usually do not like food that is “mixed up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 Nutr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ldren ages 1 – 3 years should consume 1,300 kcal dail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omoting Toddler Development in Daily Activiti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329-D094-4AF0-A1EC-8B37548C5122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ress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the end of the toddler period, most children can put on their own socks, underpants and undershir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invariably put shoes in the wrong feet and shirt and pants on backwar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BB72-6FC8-4E79-8B0B-728B697E596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Perpetua"/>
              </a:rPr>
              <a:t>Sleep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hey may begin the toddler period napping twice a day and sleeping 12 hours each night,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End it with one nap a day and only 8 hours sleep at night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DE31-80B6-4AFF-BC04-2E7A946D2C02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Perpetua"/>
              </a:rPr>
              <a:t>Bathing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oddlers usually enjoy bath time and parents should make an effort to make it fun by providing a toy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Remind parents that although toddlers can sit well in a bathtub, it is not safe to leave them unsupervised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1A9-D35D-4672-8FAC-DB989C4BC38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Perpetua"/>
              </a:rPr>
              <a:t>Care of Teeth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oward the end of Toddler period, they can begin to do brushing themselves under supervision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fter brushing, parents can use dental floss to clean between the child’s teeth and remove plaque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Visit to a dentist skilled in pediatric dental care by 2.5 years of age for assessment of dentition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Parental Concerns Associated with the Toddler Peri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1AD5-6D44-4E0E-B130-306F5E831733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Perpetua"/>
              </a:rPr>
              <a:t>Toilet Training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Before children can begin to be toilet trained, they must have reached important developmental levels one physiologic and the other cognitive: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ey must have control of rectal and urethral sphincters, usually achieved at the time they walk well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ey must have cognitive understanding of what it means to hold urine and stools until they can release them at a certain place and time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86A-F2A6-421D-895F-8B43D143F58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hysical Growt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le toddlers are making great strides developmentally, their physical growth begins to slo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eight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A child gains only about 2.5 kg and 12cm a year during the toddler period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A toddler‘s appetite decreases accordingly, yet adequate intake of all nutrients is still essential to meet energy nee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Ritualistic Behavior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BABC-3688-4876-9695-2FEC436662E2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0880" y="8377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gativ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ir reply to every request is a definite “no.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7C90-1264-48AB-902A-322954AE30BF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Discipline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Remind parents that “discipline” and “punishment” are not interchangeable terms.  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● </a:t>
            </a:r>
            <a:r>
              <a:rPr b="1" lang="en-US" sz="2700" spc="-1" strike="noStrike">
                <a:solidFill>
                  <a:srgbClr val="000000"/>
                </a:solidFill>
                <a:latin typeface="Perpetua"/>
              </a:rPr>
              <a:t>Discipline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means setting rules or road signs so children know what is expected of them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● </a:t>
            </a:r>
            <a:r>
              <a:rPr b="1" lang="en-US" sz="2700" spc="-1" strike="noStrike">
                <a:solidFill>
                  <a:srgbClr val="000000"/>
                </a:solidFill>
                <a:latin typeface="Perpetua"/>
              </a:rPr>
              <a:t>Punishmen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 is a consequence that results from a breakdown in discipline, from the child’s disregard or the rules that were learned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wo general rules to follow: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 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Parents need to be consistent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    ● 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Rules are learned best if corrected behavior is praised rather than wrong behavior punish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BA88-69BB-4747-9469-238DE4ED587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Separation Anxiety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ear of being separated from parents begins at about 6 months of age and persists throughout the preschool period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DCDE-8828-4ABC-8ABE-380758DBC27C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mper Tantru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most every toddler has a temper tantrum at one time or anoth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ild may scream, shout “No,no,no” lie on the flo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ldren may hold their breath until they become cyanotic and slump to the flo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247-4C0B-4078-8602-23BF18EB1D87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d circumferenc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ncreases only about 2 cm during the second year compared to about 12 cm during the first yea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By 2 years, chest circumference has grown greater than that of the hea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087B-84A9-4F76-842C-E6BCC23B63BE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dy Conto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oddlers tend to have a prominent abdomen –because although they are walking well, their abdominal muscles are not yet strong enough to support abdominal cont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ey have a forward curve of the spine at the sacral area (lordosis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8" descr="3D708005"/>
          <p:cNvPicPr/>
          <p:nvPr/>
        </p:nvPicPr>
        <p:blipFill>
          <a:blip r:embed="rId1"/>
          <a:stretch/>
        </p:blipFill>
        <p:spPr>
          <a:xfrm>
            <a:off x="3124080" y="327672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ody systems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67A-9DD1-4C64-836C-3E0E329FD2A3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Body systems continue to mature during this time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 Respirations slow slightly but continue to be mainly abdominal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 The heart rate slows from 110 to 90 bpm; blood pressure increases to about 100/65 mm Hg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- The brain develops to about 90% of its adult size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39B-D189-4BA0-AD16-AB7871C87FB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Stomach secretions become more acids; therefore, gastrointestinal infections become less comm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Stomach capacity increases to the point a child can eat three meals a 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Control of the urinary and anal sphincters becomes possible with complete myelination of the spinal cor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gG and IgM antibody production becomes mature at 2 years of 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3E8A-7F4E-4A03-8ED8-6A82B920198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E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ight new teeth (the canines and first molars) erupt during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year. All 20 deciduous teeth are generally present by 2.5 – 3 years of 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evelopmental Mileston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82B-CA94-4A08-9EE5-BCA428BAEAA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►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nguage Develop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order to master language, children need practice ti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word that is used frequently by toddlers and that is a manifestation of their developing autonomy is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“no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dlers may use the word to mean they are refusing a task, or they do not understand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LECTUR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575-DB97-44EF-BDCC-6B818E434C89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 learn other words, children need exposure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onvers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rge parents to encourage language development b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naming objects as they play with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eir chi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ways answering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hild’s ques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another good way to do this. Be sure answers for toddlers are simple and brief because they have such a short attention sp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09:01Z</dcterms:created>
  <dc:creator>AL-ISSA</dc:creator>
  <dc:description/>
  <dc:language>en-US</dc:language>
  <cp:lastModifiedBy>User-PC</cp:lastModifiedBy>
  <dcterms:modified xsi:type="dcterms:W3CDTF">2017-03-12T06:20:01Z</dcterms:modified>
  <cp:revision>18</cp:revision>
  <dc:subject/>
  <dc:title>Growth and Development of Toddler</dc:title>
</cp:coreProperties>
</file>