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45E-44B6-4FE7-AA04-245DD4642BE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6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CC30-3F33-454C-B300-311479604DA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6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6847-F962-482E-B640-22796F20CAA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8EA1-4BC2-4E7F-B880-8AB0CA3ED37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ABD-C45C-4FB3-A3B0-5D4D6F56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E9D-2B7F-42BC-8C84-EC60E9F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181-4ED6-4484-A889-3195C7F6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AD8-CBEC-4CD2-B1EF-3286AD28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29B-2B00-46AD-BD6C-5C4C0F42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038-4BF8-4158-8C21-4473133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9B2C-0CD8-40F9-AEC1-232C1EC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232B-70F7-41CC-9E0A-A475CA3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AA7A-E5CC-4020-95B2-C5A50AE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3495-3C5F-491A-9D3C-F391FDE0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3CB1-E0AD-4653-A11D-E0FFE4E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079-58E0-4C97-8CF3-D4B34AB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9A9-F3AE-4054-968A-9D8BC3E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0A3B-9EF9-4A93-A1DD-0B559DC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61F-A241-47CA-AB7B-4F1E2AF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1F0-6E36-447A-ACED-8EA65B6D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2B0D-D6DA-488E-8850-99F814C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DFF8-5CBF-4C9A-A733-7CEBB632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E1B6-0BDC-4EA0-A9E5-2A662C0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8056-3882-4358-A12B-C8B7D0C8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1D28-ED13-4F65-BDD5-D597111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ACBB-4A56-480C-893D-550454F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C1F-06A6-45D1-BFA6-D2B3E59F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38D4-D07B-4978-A2FC-F6503972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35F5-91D8-48B9-9DC2-2AFDC6E4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679F-E102-42C3-944B-2BE38355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63AF-5C9B-43DC-817D-3CC41476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020B-146B-40CD-88DA-6A3FED5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C99F-2529-4E9C-A29B-B8D699D8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5201-9CF0-496E-B770-73540D4C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D02F-F698-4A25-A55C-4F0AD9EE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02509-CB68-493D-B259-316133B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D9D3-13BB-4DA7-90E9-BC037F5D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0E5-941A-47E0-82E3-06217B98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E59E-D877-4030-87A7-857CF7F4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FFA0-57AA-4241-A346-0FED313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90F9-3CD1-40C7-87F9-52C28C89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B6E6-B909-4396-8C33-EE46235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C51C-0BE6-4D21-A2C8-712ED5D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279A-0794-4843-8CAB-BC1DD44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EFDE-84E5-48A5-8E97-D03CFB7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3B90-6B2F-4871-A8D0-41F5C8C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5686-E595-44CC-9669-8EE61B48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A71D-8F84-4A7E-B960-23455D25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EDF-3DA1-409A-8626-0F0F13AF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0B4B-9CE3-46E1-82E9-10DA2B1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5829-02F5-4052-A0BA-C4DD5813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542B-8CE1-475F-A1EE-61EC9007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2A2B-AE6D-4AA9-B53B-44CBC1B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BC393-20F6-457A-A757-203C451B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CE18-A5A8-45A2-96AC-BFB6E961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0E18-1005-4A13-A9D4-5F05858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8B3F-DED2-42A7-AA1D-76F699D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B515-CF37-4C2F-8766-00F7B49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CAF6-1FFE-43AF-9DAB-60D8686C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E9D-78E9-49B6-B070-015CFAAA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B05D-5D65-453C-A3E3-9C6450C6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ED6-06BD-494A-8E23-3DA0B2A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9E3-7427-4143-B841-F39C49A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85D-38BB-4553-BF69-7B2716A8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E19-1341-4D69-A873-397AA4E161DB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D9DD-ED93-4916-BE0A-A9A74A7C9853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DD7A-489E-411C-8853-A6E54F2A6A2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7E8D-C3FD-4548-AD56-80F24AA16E2A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4659-FF64-4D46-A7FE-9D92917ED82B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2CA0-5E89-4975-96A4-01386B90F6D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34160" cy="3827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R 31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and Development of Toddler Stage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5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motional Development 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53A5-494C-4C9B-9D29-FB19EB619E7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Perpetua"/>
              </a:rPr>
              <a:t>1- Autonomy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– The developmental task of the toddler years according to Erikson is the development of a sense of autonomy vs. shame or doubt.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o develop sense of autonomy is to develop a sense of independence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- A healthy level of autonomy is achieved when parents are able to encourage independence while still maintaining consistently sound rules for safety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- Socializ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D321-B5EA-4324-9594-1F7EE1ACEAA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Fifteen-month old children are still enthusiastic about interacting with people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By 18 months, toddlers imitate the things they see a parent doing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By 2 or more years, children become aware of gender differences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lanning and Implementation for Health Promotion of a Toddler and Family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258-8C64-4A71-83C9-F9602A2032E4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 tend to develop many upper respiratory and ear infections but otherwise come to health care facilities most often for health maintenance visits (recommende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ach 3 months during the 2nd &amp; 3rd year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 and immunizations important at these tim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5DAD-F476-493A-810C-84BE211DD9D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cidents are the major cause of death in children of all ag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cidental ingestions (poisoning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tor vehicle accid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lls and playground inju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Promoting Toddler Safet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92B-3DF1-4BF3-BFE7-F65B8E6ED8BD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moting Nutritional Health of a Toddl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s usually do not like food that is “mixed up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 Nutr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ldren ages 1 – 3 years should consume 1,300 kcal dail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omoting Toddler Development in Daily Activiti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CF0-B6DE-43BB-9BC7-BE86EFE1904D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ress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the end of the toddler period, most children can put on their own socks, underpants and undershir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invariably put shoes in the wrong feet and shirt and pants on backwar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F0E7-15EF-457C-A8A6-EA255D1947D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Perpetua"/>
              </a:rPr>
              <a:t>Sleep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hey may begin the toddler period napping twice a day and sleeping 12 hours each night,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End it with one nap a day and only 8 hours sleep at night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2D69-2B78-4939-8FE7-C0D464562995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Perpetua"/>
              </a:rPr>
              <a:t>Bathing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oddlers usually enjoy bath time and parents should make an effort to make it fun by providing a toy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Remind parents that although toddlers can sit well in a bathtub, it is not safe to leave them unsupervised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6F96-7B2D-4D22-85C1-CCFD15A261D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Perpetua"/>
              </a:rPr>
              <a:t>Care of Teeth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oward the end of Toddler period, they can begin to do brushing themselves under supervision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fter brushing, parents can use dental floss to clean between the child’s teeth and remove plaque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Visit to a dentist skilled in pediatric dental care by 2.5 years of age for assessment of dentition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Parental Concerns Associated with the Toddler Peri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D8B-EAD0-4407-9A7E-91E0001E264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Perpetua"/>
              </a:rPr>
              <a:t>Toilet Training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Before children can begin to be toilet trained, they must have reached important developmental levels one physiologic and the other cognitive: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ey must have control of rectal and urethral sphincters, usually achieved at the time they walk well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ey must have cognitive understanding of what it means to hold urine and stools until they can release them at a certain place and time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BE30-C4AF-4FA3-9AB2-61FC2446C75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hysical Growt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le toddlers are making great strides developmentally, their physical growth begins to slo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eight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A child gains only about 2.5 kg and 12cm a year during the toddler period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A toddler‘s appetite decreases accordingly, yet adequate intake of all nutrients is still essential to meet energy nee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Ritualistic Behavior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AE9-F69D-459D-B645-955D4FF8FF25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0880" y="8377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gativ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ir reply to every request is a definite “no.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2DA8-0808-4057-A34C-5922F51B00DB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Discipline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Remind parents that “discipline” and “punishment” are not interchangeable terms.  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● </a:t>
            </a:r>
            <a:r>
              <a:rPr b="1" lang="en-US" sz="2700" spc="-1" strike="noStrike">
                <a:solidFill>
                  <a:srgbClr val="000000"/>
                </a:solidFill>
                <a:latin typeface="Perpetua"/>
              </a:rPr>
              <a:t>Discipline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means setting rules or road signs so children know what is expected of them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● </a:t>
            </a:r>
            <a:r>
              <a:rPr b="1" lang="en-US" sz="2700" spc="-1" strike="noStrike">
                <a:solidFill>
                  <a:srgbClr val="000000"/>
                </a:solidFill>
                <a:latin typeface="Perpetua"/>
              </a:rPr>
              <a:t>Punishmen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 is a consequence that results from a breakdown in discipline, from the child’s disregard or the rules that were learned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wo general rules to follow: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 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Parents need to be consistent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 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Rules are learned best if corrected behavior is praised rather than wrong behavior punish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35E-23F3-4DCD-85D7-510CC9024109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Separation Anxiety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ear of being separated from parents begins at about 6 months of age and persists throughout the preschool period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6920-7364-4259-B1CE-FE33E4A7D02F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mper Tantru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most every toddler has a temper tantrum at one time or anoth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ild may scream, shout “No,no,no” lie on the flo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ldren may hold their breath until they become cyanotic and slump to the flo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D10A-2353-416D-90BE-B64F03D74E1F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d circumferenc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ncreases only about 2 cm during the second year compared to about 12 cm during the first yea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By 2 years, chest circumference has grown greater than that of the hea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794-20A4-4AA2-BBD8-DD0E01201D5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dy Conto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oddlers tend to have a prominent abdomen –because although they are walking well, their abdominal muscles are not yet strong enough to support abdominal cont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ey have a forward curve of the spine at the sacral area (lordosis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8" descr="3D708005"/>
          <p:cNvPicPr/>
          <p:nvPr/>
        </p:nvPicPr>
        <p:blipFill>
          <a:blip r:embed="rId1"/>
          <a:stretch/>
        </p:blipFill>
        <p:spPr>
          <a:xfrm>
            <a:off x="3124080" y="327672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ody systems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2B3D-B384-41A0-A086-D1765CAB2635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Body systems continue to mature during this time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 Respirations slow slightly but continue to be mainly abdominal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 The heart rate slows from 110 to 90 bpm; blood pressure increases to about 100/65 mm Hg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 The brain develops to about 90% of its adult size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30D-5E08-49E7-A763-7F037803A14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Stomach secretions become more acids; therefore, gastrointestinal infections become less comm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Stomach capacity increases to the point a child can eat three meals a 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Control of the urinary and anal sphincters becomes possible with complete myelination of the spinal cor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gG and IgM antibody production becomes mature at 2 years of 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A3D-C01C-4237-B999-0290216559C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E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ight new teeth (the canines and first molars) erupt during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year. All 20 deciduous teeth are generally present by 2.5 – 3 years of 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evelopmental Mileston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EF38-F945-4F08-9007-DA045ABE203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nguage Develop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order to master language, children need practice ti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word that is used frequently by toddlers and that is a manifestation of their developing autonomy is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“no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s may use the word to mean they are refusing a task, or they do not understand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184-D615-4F8F-8366-3337228781B4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 learn other words, children need exposure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onvers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rge parents to encourage language development b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naming objects as they play with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eir chi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ways answering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hild’s ques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another good way to do this. Be sure answers for toddlers are simple and brief because they have such a short attention sp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09:01Z</dcterms:created>
  <dc:creator>AL-ISSA</dc:creator>
  <dc:description/>
  <dc:language>en-US</dc:language>
  <cp:lastModifiedBy>User-PC</cp:lastModifiedBy>
  <dcterms:modified xsi:type="dcterms:W3CDTF">2017-03-12T06:20:01Z</dcterms:modified>
  <cp:revision>18</cp:revision>
  <dc:subject/>
  <dc:title>Growth and Development of Toddler</dc:title>
</cp:coreProperties>
</file>