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Group 14"/>
          <p:cNvGrpSpPr/>
          <p:nvPr/>
        </p:nvGrpSpPr>
        <p:grpSpPr>
          <a:xfrm>
            <a:off x="4495680" y="838080"/>
            <a:ext cx="4648320" cy="2567160"/>
            <a:chOff x="4495680" y="838080"/>
            <a:chExt cx="4648320" cy="2567160"/>
          </a:xfrm>
        </p:grpSpPr>
        <p:pic>
          <p:nvPicPr>
            <p:cNvPr id="37" name="Picture 6" descr=""/>
            <p:cNvPicPr/>
            <p:nvPr/>
          </p:nvPicPr>
          <p:blipFill>
            <a:blip r:embed="rId1"/>
            <a:srcRect l="0" t="42557" r="0" b="3011"/>
            <a:stretch/>
          </p:blipFill>
          <p:spPr>
            <a:xfrm>
              <a:off x="4495680" y="838080"/>
              <a:ext cx="4648320" cy="25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Rectangle 7"/>
            <p:cNvSpPr/>
            <p:nvPr/>
          </p:nvSpPr>
          <p:spPr>
            <a:xfrm>
              <a:off x="6218280" y="2743200"/>
              <a:ext cx="78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Fig. 8.1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" name="Picture 12" descr=""/>
          <p:cNvPicPr/>
          <p:nvPr/>
        </p:nvPicPr>
        <p:blipFill>
          <a:blip r:embed="rId2"/>
          <a:srcRect l="45831" t="2015" r="0" b="13183"/>
          <a:stretch/>
        </p:blipFill>
        <p:spPr>
          <a:xfrm>
            <a:off x="4495680" y="3124080"/>
            <a:ext cx="4648320" cy="32004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61048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olecules in the bilay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طبقة مزدوج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arranged a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hydrophobic fatty acid 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re shelter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حم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water while th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hydrophilic phosphate grou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eract with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t the surface, the hydrophilic regions                                     would be in contact with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In this fluid mosaic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model, the hydrophilic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regions of proteins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and phospholipids are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in contact with water and                                                                               the hydrophobic regions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are in a nonaque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لا م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nvironment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2514600" y="81000"/>
            <a:ext cx="4191120" cy="5867280"/>
            <a:chOff x="2514600" y="81000"/>
            <a:chExt cx="4191120" cy="5867280"/>
          </a:xfrm>
        </p:grpSpPr>
        <p:sp>
          <p:nvSpPr>
            <p:cNvPr id="109" name="AutoShape 3"/>
            <p:cNvSpPr/>
            <p:nvPr/>
          </p:nvSpPr>
          <p:spPr>
            <a:xfrm rot="16200000">
              <a:off x="1905120" y="1757520"/>
              <a:ext cx="5333760" cy="3047760"/>
            </a:xfrm>
            <a:prstGeom prst="flowChartOnlineStorage">
              <a:avLst/>
            </a:prstGeom>
            <a:solidFill>
              <a:srgbClr val="00cc99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AutoShape 4"/>
            <p:cNvSpPr/>
            <p:nvPr/>
          </p:nvSpPr>
          <p:spPr>
            <a:xfrm rot="16200000">
              <a:off x="1866600" y="1794960"/>
              <a:ext cx="5334120" cy="2209680"/>
            </a:xfrm>
            <a:prstGeom prst="flowChartOnlineStorag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2514600" y="81000"/>
              <a:ext cx="419112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6"/>
          <p:cNvSpPr/>
          <p:nvPr/>
        </p:nvSpPr>
        <p:spPr>
          <a:xfrm>
            <a:off x="3086280" y="1604880"/>
            <a:ext cx="30456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5676840" y="1604880"/>
            <a:ext cx="39384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3086280" y="3052800"/>
            <a:ext cx="30456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4495680" y="5567400"/>
            <a:ext cx="1526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10"/>
          <p:cNvGrpSpPr/>
          <p:nvPr/>
        </p:nvGrpSpPr>
        <p:grpSpPr>
          <a:xfrm>
            <a:off x="609480" y="4667400"/>
            <a:ext cx="2667240" cy="368280"/>
            <a:chOff x="609480" y="4667400"/>
            <a:chExt cx="2667240" cy="368280"/>
          </a:xfrm>
        </p:grpSpPr>
        <p:sp>
          <p:nvSpPr>
            <p:cNvPr id="117" name="Text Box 11"/>
            <p:cNvSpPr/>
            <p:nvPr/>
          </p:nvSpPr>
          <p:spPr>
            <a:xfrm>
              <a:off x="609480" y="4667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Low conc. of sug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2666880" y="489564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3"/>
          <p:cNvGrpSpPr/>
          <p:nvPr/>
        </p:nvGrpSpPr>
        <p:grpSpPr>
          <a:xfrm>
            <a:off x="5866920" y="4729320"/>
            <a:ext cx="2972160" cy="368280"/>
            <a:chOff x="5866920" y="4729320"/>
            <a:chExt cx="2972160" cy="368280"/>
          </a:xfrm>
        </p:grpSpPr>
        <p:sp>
          <p:nvSpPr>
            <p:cNvPr id="120" name="Text Box 14"/>
            <p:cNvSpPr/>
            <p:nvPr/>
          </p:nvSpPr>
          <p:spPr>
            <a:xfrm>
              <a:off x="6477120" y="472932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igh conc. of sug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15"/>
            <p:cNvSpPr/>
            <p:nvPr/>
          </p:nvSpPr>
          <p:spPr>
            <a:xfrm flipH="1">
              <a:off x="5866920" y="495756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16"/>
          <p:cNvGrpSpPr/>
          <p:nvPr/>
        </p:nvGrpSpPr>
        <p:grpSpPr>
          <a:xfrm>
            <a:off x="3809880" y="3503520"/>
            <a:ext cx="1447920" cy="2059200"/>
            <a:chOff x="3809880" y="3503520"/>
            <a:chExt cx="1447920" cy="2059200"/>
          </a:xfrm>
        </p:grpSpPr>
        <p:sp>
          <p:nvSpPr>
            <p:cNvPr id="123" name="Text Box 17"/>
            <p:cNvSpPr/>
            <p:nvPr/>
          </p:nvSpPr>
          <p:spPr>
            <a:xfrm>
              <a:off x="3809880" y="35035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electively permeable membr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>
              <a:off x="4572000" y="4419720"/>
              <a:ext cx="0" cy="1143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19"/>
          <p:cNvSpPr/>
          <p:nvPr/>
        </p:nvSpPr>
        <p:spPr>
          <a:xfrm>
            <a:off x="1143000" y="25884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  <a:ea typeface="Arial"/>
              </a:rPr>
              <a:t>Principal of water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687240" y="49528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ypot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6782400" y="50292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ypert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3659040" y="164448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oton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25"/>
          <p:cNvGrpSpPr/>
          <p:nvPr/>
        </p:nvGrpSpPr>
        <p:grpSpPr>
          <a:xfrm>
            <a:off x="460080" y="1203480"/>
            <a:ext cx="8312760" cy="871560"/>
            <a:chOff x="460080" y="1203480"/>
            <a:chExt cx="8312760" cy="871560"/>
          </a:xfrm>
        </p:grpSpPr>
        <p:sp>
          <p:nvSpPr>
            <p:cNvPr id="130" name="Rectangle 23"/>
            <p:cNvSpPr/>
            <p:nvPr/>
          </p:nvSpPr>
          <p:spPr>
            <a:xfrm>
              <a:off x="460080" y="1203480"/>
              <a:ext cx="198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Osmosi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6784560" y="1371600"/>
              <a:ext cx="198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Osmosi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7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0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066680" y="277920"/>
            <a:ext cx="71629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Types of solutions and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8600" y="1371600"/>
            <a:ext cx="8686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650011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ypertonic solution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900" spc="-1" strike="noStrike">
                <a:solidFill>
                  <a:srgbClr val="000000"/>
                </a:solidFill>
                <a:latin typeface="Arial"/>
                <a:cs typeface="Arial"/>
              </a:rPr>
              <a:t>عال</a:t>
            </a:r>
            <a:r>
              <a:rPr b="0" lang="ar-SA" sz="19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0" lang="ar-EG" sz="1900" spc="-1" strike="noStrike">
                <a:solidFill>
                  <a:srgbClr val="000000"/>
                </a:solidFill>
                <a:latin typeface="Arial"/>
                <a:ea typeface="Arial"/>
              </a:rPr>
              <a:t> التركيز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contains high concentration of solute </a:t>
            </a:r>
            <a:r>
              <a:rPr b="0" lang="ar-EG" sz="1900" spc="-1" strike="noStrike">
                <a:solidFill>
                  <a:srgbClr val="000000"/>
                </a:solidFill>
                <a:latin typeface="Arial"/>
                <a:cs typeface="Arial"/>
              </a:rPr>
              <a:t>مُذاب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molecu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650011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ypotonic solution: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900" spc="-1" strike="noStrike">
                <a:solidFill>
                  <a:srgbClr val="000000"/>
                </a:solidFill>
                <a:latin typeface="Arial"/>
                <a:cs typeface="Arial"/>
              </a:rPr>
              <a:t>منخفض التركيز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contains low concentration of solute molecu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650011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Isotonic solution: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900" spc="-1" strike="noStrike">
                <a:solidFill>
                  <a:srgbClr val="000000"/>
                </a:solidFill>
                <a:latin typeface="Arial"/>
                <a:cs typeface="Arial"/>
              </a:rPr>
              <a:t>متعادل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contains equal concentrations of solute molecu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5257800" y="4267080"/>
            <a:ext cx="2362320" cy="1447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6200" y="3657600"/>
            <a:ext cx="1371600" cy="2666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Arial"/>
              </a:rPr>
              <a:t>Biolog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Arial"/>
              </a:rPr>
              <a:t>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8"/>
          <p:cNvGrpSpPr/>
          <p:nvPr/>
        </p:nvGrpSpPr>
        <p:grpSpPr>
          <a:xfrm>
            <a:off x="1828800" y="5715000"/>
            <a:ext cx="5867280" cy="459720"/>
            <a:chOff x="1828800" y="5715000"/>
            <a:chExt cx="5867280" cy="459720"/>
          </a:xfrm>
        </p:grpSpPr>
        <p:sp>
          <p:nvSpPr>
            <p:cNvPr id="139" name="Text Box 9"/>
            <p:cNvSpPr/>
            <p:nvPr/>
          </p:nvSpPr>
          <p:spPr>
            <a:xfrm>
              <a:off x="55627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ypoto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0"/>
            <p:cNvSpPr/>
            <p:nvPr/>
          </p:nvSpPr>
          <p:spPr>
            <a:xfrm>
              <a:off x="1828800" y="57150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yperto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Oval 11"/>
          <p:cNvSpPr/>
          <p:nvPr/>
        </p:nvSpPr>
        <p:spPr>
          <a:xfrm>
            <a:off x="1523880" y="4267080"/>
            <a:ext cx="2362320" cy="1447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2"/>
          <p:cNvGrpSpPr/>
          <p:nvPr/>
        </p:nvGrpSpPr>
        <p:grpSpPr>
          <a:xfrm>
            <a:off x="5715000" y="4483080"/>
            <a:ext cx="1295280" cy="1066680"/>
            <a:chOff x="5715000" y="4483080"/>
            <a:chExt cx="1295280" cy="1066680"/>
          </a:xfrm>
        </p:grpSpPr>
        <p:grpSp>
          <p:nvGrpSpPr>
            <p:cNvPr id="143" name="Group 13"/>
            <p:cNvGrpSpPr/>
            <p:nvPr/>
          </p:nvGrpSpPr>
          <p:grpSpPr>
            <a:xfrm>
              <a:off x="5715000" y="4483080"/>
              <a:ext cx="1295280" cy="1066680"/>
              <a:chOff x="5715000" y="4483080"/>
              <a:chExt cx="1295280" cy="1066680"/>
            </a:xfrm>
          </p:grpSpPr>
          <p:sp>
            <p:nvSpPr>
              <p:cNvPr id="144" name="AutoShape 14"/>
              <p:cNvSpPr/>
              <p:nvPr/>
            </p:nvSpPr>
            <p:spPr>
              <a:xfrm>
                <a:off x="5715000" y="4483080"/>
                <a:ext cx="1295280" cy="304920"/>
              </a:xfrm>
              <a:prstGeom prst="leftArrow">
                <a:avLst>
                  <a:gd name="adj1" fmla="val 50000"/>
                  <a:gd name="adj2" fmla="val 106198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AutoShape 15"/>
              <p:cNvSpPr/>
              <p:nvPr/>
            </p:nvSpPr>
            <p:spPr>
              <a:xfrm>
                <a:off x="5715000" y="5245200"/>
                <a:ext cx="1295280" cy="304560"/>
              </a:xfrm>
              <a:prstGeom prst="leftArrow">
                <a:avLst>
                  <a:gd name="adj1" fmla="val 50000"/>
                  <a:gd name="adj2" fmla="val 106324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Text Box 16"/>
            <p:cNvSpPr/>
            <p:nvPr/>
          </p:nvSpPr>
          <p:spPr>
            <a:xfrm>
              <a:off x="6019920" y="478764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  <a:ea typeface="Arial"/>
                </a:rPr>
                <a:t>H</a:t>
              </a:r>
              <a:r>
                <a:rPr b="1" lang="en-GB" sz="2800" spc="-1" strike="noStrike" baseline="-25000">
                  <a:solidFill>
                    <a:srgbClr val="00ff00"/>
                  </a:solidFill>
                  <a:latin typeface="Tahoma"/>
                  <a:ea typeface="Arial"/>
                </a:rPr>
                <a:t>2</a:t>
              </a:r>
              <a:r>
                <a:rPr b="1" lang="en-GB" sz="2400" spc="-1" strike="noStrike">
                  <a:solidFill>
                    <a:srgbClr val="00ff00"/>
                  </a:solidFill>
                  <a:latin typeface="Tahoma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-0.3875 -0.00926 E">
                                      <p:cBhvr>
                                        <p:cTn id="256" dur="3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20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havior of water when a living cell is plac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yper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ypo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so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olutions</a:t>
            </a:r>
            <a:endParaRPr b="0" lang="en-US" sz="2000" spc="-1" strike="noStrike">
              <a:solidFill>
                <a:srgbClr val="ffc247"/>
              </a:solidFill>
              <a:latin typeface="Times New Roman"/>
            </a:endParaRPr>
          </a:p>
        </p:txBody>
      </p:sp>
      <p:pic>
        <p:nvPicPr>
          <p:cNvPr id="150" name="Picture 5" descr="p46"/>
          <p:cNvPicPr/>
          <p:nvPr/>
        </p:nvPicPr>
        <p:blipFill>
          <a:blip r:embed="rId1"/>
          <a:stretch/>
        </p:blipFill>
        <p:spPr>
          <a:xfrm>
            <a:off x="225360" y="2362320"/>
            <a:ext cx="8690040" cy="2828880"/>
          </a:xfrm>
          <a:prstGeom prst="rect">
            <a:avLst/>
          </a:prstGeom>
          <a:ln w="28440">
            <a:solidFill>
              <a:srgbClr val="008080"/>
            </a:solidFill>
            <a:miter/>
          </a:ln>
        </p:spPr>
      </p:pic>
      <p:sp>
        <p:nvSpPr>
          <p:cNvPr id="151" name="Rectangle 6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9">
            <a:hlinkClick r:id="" action="ppaction://hlinkshowjump?jump=firstslide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)- Facilitated Diffus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Specific proteins facilitate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  <a:cs typeface="Arial"/>
              </a:rPr>
              <a:t>تـُسَهـِّل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passive transport</a:t>
            </a:r>
            <a:endParaRPr b="0" lang="en-US" sz="1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500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Helps diffusion of molecules across a membrane when they ar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not soluble in lip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ar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oo la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e.g. glucose) to pass through pores in 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500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s, a molecule binds to a carrier protein on one side of the cell membra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6500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arrier protein (specific for one type of molecule) then changes its shape and transports the molecul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wn its concentration grad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the other side of the membra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8600" y="1187280"/>
            <a:ext cx="8686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s the passive movement of molecules down its concentration gradient via a transport prot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304920" y="434340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transport protein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ransloc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ينق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lecules across the membrane as the protein changes its shap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2"/>
          <a:srcRect l="51661" t="0" r="0" b="4958"/>
          <a:stretch/>
        </p:blipFill>
        <p:spPr>
          <a:xfrm>
            <a:off x="4952880" y="3886200"/>
            <a:ext cx="3886200" cy="28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membrane is a collage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ـَجَمُّع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f different proteins embedded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مُـنْغَمِ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 the fluid matrix of the lipid bilay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embranes are mosaics of structure and function</a:t>
            </a:r>
            <a:endParaRPr b="0" lang="en-US" sz="2400" spc="-1" strike="noStrike">
              <a:solidFill>
                <a:srgbClr val="ffc247"/>
              </a:solidFill>
              <a:latin typeface="Times New Roman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rcRect l="0" t="0" r="0" b="4734"/>
          <a:stretch/>
        </p:blipFill>
        <p:spPr>
          <a:xfrm>
            <a:off x="3505320" y="2666880"/>
            <a:ext cx="5486400" cy="3672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0"/>
          <p:cNvSpPr/>
          <p:nvPr/>
        </p:nvSpPr>
        <p:spPr>
          <a:xfrm>
            <a:off x="152280" y="3032280"/>
            <a:ext cx="335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To work properly with permeability, membrane must be fluid about as fluid as o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2"/>
          <p:cNvSpPr/>
          <p:nvPr/>
        </p:nvSpPr>
        <p:spPr>
          <a:xfrm>
            <a:off x="457200" y="4098960"/>
            <a:ext cx="45720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re they contact the core,                                                                    they have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hydrophobi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regions                                                                    with nonpolar amino acids, often                                                              coiled into alpha hel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re they are in contact with the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queous environment, they have                                   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Arial"/>
              </a:rPr>
              <a:t>hydrophili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regions of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r amino aci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37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The plasma membrane has a unique colle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مع مميَـ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f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   prote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two populations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MBRANE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4903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eripheral prote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طر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not embedded in the lipid bilayer at all. Instead, they are loosely bounded to the surface of the protein, often connected to the other population of membrane prote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4903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Integral prote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ُندَمج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etrate the hydrophobic core of the lipid bilayer, often completely spanning the membran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ransmembran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prote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21"/>
          <p:cNvGrpSpPr/>
          <p:nvPr/>
        </p:nvGrpSpPr>
        <p:grpSpPr>
          <a:xfrm>
            <a:off x="4952880" y="3733920"/>
            <a:ext cx="3886200" cy="2857320"/>
            <a:chOff x="4952880" y="3733920"/>
            <a:chExt cx="3886200" cy="2857320"/>
          </a:xfrm>
        </p:grpSpPr>
        <p:pic>
          <p:nvPicPr>
            <p:cNvPr id="50" name="Picture 13" descr=""/>
            <p:cNvPicPr/>
            <p:nvPr/>
          </p:nvPicPr>
          <p:blipFill>
            <a:blip r:embed="rId1"/>
            <a:stretch/>
          </p:blipFill>
          <p:spPr>
            <a:xfrm>
              <a:off x="4952880" y="3733920"/>
              <a:ext cx="3838680" cy="28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11"/>
            <p:cNvSpPr/>
            <p:nvPr/>
          </p:nvSpPr>
          <p:spPr>
            <a:xfrm>
              <a:off x="4952880" y="3809880"/>
              <a:ext cx="838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tegral prote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5029200" y="60958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ripheral prote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4"/>
            <p:cNvSpPr/>
            <p:nvPr/>
          </p:nvSpPr>
          <p:spPr>
            <a:xfrm>
              <a:off x="5257800" y="4191120"/>
              <a:ext cx="762120" cy="9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5"/>
            <p:cNvSpPr/>
            <p:nvPr/>
          </p:nvSpPr>
          <p:spPr>
            <a:xfrm flipV="1">
              <a:off x="5867280" y="6019920"/>
              <a:ext cx="15264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7620120" y="5486400"/>
              <a:ext cx="1218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ydrophilic reg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6629400" y="6172200"/>
              <a:ext cx="12193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ydrophobic reg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8"/>
            <p:cNvSpPr/>
            <p:nvPr/>
          </p:nvSpPr>
          <p:spPr>
            <a:xfrm flipV="1">
              <a:off x="7086600" y="5257800"/>
              <a:ext cx="304920" cy="990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9"/>
            <p:cNvSpPr/>
            <p:nvPr/>
          </p:nvSpPr>
          <p:spPr>
            <a:xfrm flipH="1" flipV="1">
              <a:off x="7543800" y="4648320"/>
              <a:ext cx="838080" cy="838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20"/>
            <p:cNvSpPr/>
            <p:nvPr/>
          </p:nvSpPr>
          <p:spPr>
            <a:xfrm flipH="1">
              <a:off x="7696080" y="579132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68680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polar molecules and ions diffuse passively through the lipid bilayer with the help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ransport protein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gated channel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قنوات مُبَوب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assive movement of molecules down its concentration gradient via a transport protein is calle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acilitated diffu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pecific proteins facilit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ـُسَهـِّ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assive transport</a:t>
            </a:r>
            <a:endParaRPr b="0" lang="en-US" sz="28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0880" y="24192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transport proteins simply prov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hann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llowing a specific molecule or ion to cross the membra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51680" b="7097"/>
          <a:stretch/>
        </p:blipFill>
        <p:spPr>
          <a:xfrm>
            <a:off x="2209680" y="3043080"/>
            <a:ext cx="4942080" cy="369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1558800"/>
            <a:ext cx="868680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eady traffic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عبور المنتط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small molecules and ions moves across the plasma membrane in both dire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or example, sugars, amino acids, and other nutrients enter a muscle cell and metabolic waste products leave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e cell absorbs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and expels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t also regulates concentrations of inorganic ions, like N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, K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, 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2+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, and Cl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Arial"/>
              </a:rPr>
              <a:t>-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, by passing them across the membra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substances do not move across the barrier indiscriminate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شوائ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membrane is selectively permea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phobic molecules, like hydrocarbons,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d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can dissolve in the lipid bilayer and cross easily as described in the previous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ons and polar molecules like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and glucose pass through </a:t>
            </a:r>
            <a:r>
              <a:rPr b="0" i="1" lang="en-GB" sz="2100" spc="-1" strike="noStrike">
                <a:solidFill>
                  <a:srgbClr val="000000"/>
                </a:solidFill>
                <a:latin typeface="Times New Roman"/>
              </a:rPr>
              <a:t>channel protei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described in the previous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hus membrane proteins assist and regul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يساعد و ينظم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he transport of ions and polar molecu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9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Functions of cell membran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lasma membran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-11520" y="1143000"/>
            <a:ext cx="53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1- Selective permeabilit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Times New Roman"/>
              </a:rPr>
              <a:t>النفاذية الإختيا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>
            <a:off x="2438280" y="1339920"/>
            <a:ext cx="4724640" cy="3809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ffff"/>
            </a:solidFill>
            <a:miter/>
          </a:ln>
          <a:effectLst>
            <a:outerShdw dist="155100" dir="3301132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505320" y="1797120"/>
            <a:ext cx="1066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CO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219320" y="309240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  <a:ea typeface="Arial"/>
              </a:rPr>
              <a:t>O</a:t>
            </a:r>
            <a:r>
              <a:rPr b="1" lang="en-GB" sz="3600" spc="-1" strike="noStrike" baseline="-25000">
                <a:solidFill>
                  <a:srgbClr val="0000ff"/>
                </a:solidFill>
                <a:latin typeface="Tahoma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267080" y="393048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  <a:ea typeface="Arial"/>
              </a:rPr>
              <a:t>O</a:t>
            </a:r>
            <a:r>
              <a:rPr b="1" lang="en-GB" sz="3600" spc="-1" strike="noStrike" baseline="-25000">
                <a:solidFill>
                  <a:srgbClr val="0000ff"/>
                </a:solidFill>
                <a:latin typeface="Tahoma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066680" y="217800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CO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9"/>
          <p:cNvSpPr/>
          <p:nvPr/>
        </p:nvSpPr>
        <p:spPr>
          <a:xfrm>
            <a:off x="5410080" y="2482920"/>
            <a:ext cx="1600200" cy="12952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614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ff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438280" y="25884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  <a:ea typeface="Arial"/>
              </a:rPr>
              <a:t>Selective Perme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762120" y="5715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Ultra Bold Condensed"/>
                <a:ea typeface="Arial"/>
              </a:rPr>
              <a:t>The cell is able to </a:t>
            </a:r>
            <a:r>
              <a:rPr b="0" lang="en-GB" sz="2800" spc="-1" strike="noStrike">
                <a:solidFill>
                  <a:srgbClr val="ff0000"/>
                </a:solidFill>
                <a:latin typeface="Gill Sans Ultra Bold Condensed"/>
                <a:ea typeface="Arial"/>
              </a:rPr>
              <a:t>take up</a:t>
            </a:r>
            <a:r>
              <a:rPr b="0" lang="en-GB" sz="2800" spc="-1" strike="noStrike">
                <a:solidFill>
                  <a:srgbClr val="000000"/>
                </a:solidFill>
                <a:latin typeface="Gill Sans Ultra Bold Condensed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Gill Sans Ultra Bold Condensed"/>
                <a:cs typeface="Arial"/>
              </a:rPr>
              <a:t>تـنـتـق</a:t>
            </a:r>
            <a:r>
              <a:rPr b="0" lang="ar-SA" sz="2000" spc="-1" strike="noStrike">
                <a:solidFill>
                  <a:srgbClr val="000000"/>
                </a:solidFill>
                <a:latin typeface="Gill Sans Ultra Bold Condensed"/>
                <a:cs typeface="Arial"/>
              </a:rPr>
              <a:t>ي</a:t>
            </a:r>
            <a:r>
              <a:rPr b="0" lang="ar-EG" sz="2800" spc="-1" strike="noStrike">
                <a:solidFill>
                  <a:srgbClr val="000000"/>
                </a:solidFill>
                <a:latin typeface="Gill Sans Ultra Bold Condensed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 Ultra Bold Condensed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 Ultra Bold Condensed"/>
                <a:ea typeface="Arial"/>
              </a:rPr>
              <a:t>particular molecules and </a:t>
            </a:r>
            <a:r>
              <a:rPr b="0" lang="en-GB" sz="2800" spc="-1" strike="noStrike">
                <a:solidFill>
                  <a:srgbClr val="ff0000"/>
                </a:solidFill>
                <a:latin typeface="Gill Sans Ultra Bold Condensed"/>
                <a:ea typeface="Arial"/>
              </a:rPr>
              <a:t>exclude </a:t>
            </a:r>
            <a:r>
              <a:rPr b="0" lang="ar-EG" sz="2000" spc="-1" strike="noStrike">
                <a:solidFill>
                  <a:srgbClr val="000000"/>
                </a:solidFill>
                <a:latin typeface="Gill Sans Ultra Bold Condensed"/>
                <a:cs typeface="Arial"/>
              </a:rPr>
              <a:t>تـتجنب</a:t>
            </a:r>
            <a:r>
              <a:rPr b="0" lang="en-GB" sz="2000" spc="-1" strike="noStrike">
                <a:solidFill>
                  <a:srgbClr val="000000"/>
                </a:solidFill>
                <a:latin typeface="Gill Sans Ultra Bold Condensed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 Ultra Bold Condensed"/>
                <a:ea typeface="Arial"/>
              </a:rPr>
              <a:t>oth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82" name="Line 6"/>
          <p:cNvSpPr/>
          <p:nvPr/>
        </p:nvSpPr>
        <p:spPr>
          <a:xfrm>
            <a:off x="380880" y="55627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-0.275 -0.11991 E">
                                      <p:cBhvr>
                                        <p:cTn id="10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4.81481E-006 L 0.28333 -4.81481E-006 E">
                                      <p:cBhvr>
                                        <p:cTn id="109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No ENERGY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required to move substances across membrane (water, lipids, and other lipid soluble substanc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533520" y="4191120"/>
            <a:ext cx="5867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ypes of Passive transpor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1500"/>
              </a:spcBef>
              <a:buClr>
                <a:srgbClr val="650011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iffu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1500"/>
              </a:spcBef>
              <a:buClr>
                <a:srgbClr val="650011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sm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495360">
              <a:lnSpc>
                <a:spcPct val="100000"/>
              </a:lnSpc>
              <a:spcBef>
                <a:spcPts val="1500"/>
              </a:spcBef>
              <a:buClr>
                <a:srgbClr val="650011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acilitated Dif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678240" y="1371600"/>
            <a:ext cx="788292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s the movement of molecules across the cell membra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out an input of energy by the c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133720" y="22860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- Passive transpo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إنتقال السلب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endParaRPr b="0" lang="en-US" sz="18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533520" y="3184560"/>
            <a:ext cx="79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ther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CONCENTRATION GRADI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represents potential energy and drives 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32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)- Diffus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  <a:cs typeface="Arial"/>
              </a:rPr>
              <a:t>الإنتشا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tende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إستعدا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molecules of any substance to spread ou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للإنتشا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available space random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شوائ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a permeable membra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غشاء منف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arating a solution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ug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olecu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ure w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ugar molecules will cross the barrier random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ugar molecules will cross the membrane until both solutions have equal concentrations of the sugar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dynamic equilibr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تعادل الديناميك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20" y="6095520"/>
            <a:ext cx="899136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ubstance will diff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where it is more concentrated to where it is less concentrated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own its concentration gradien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مـُنحدر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ترك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7"/>
          <p:cNvGrpSpPr/>
          <p:nvPr/>
        </p:nvGrpSpPr>
        <p:grpSpPr>
          <a:xfrm>
            <a:off x="1143000" y="3048120"/>
            <a:ext cx="7339680" cy="3200400"/>
            <a:chOff x="1143000" y="3048120"/>
            <a:chExt cx="7339680" cy="3200400"/>
          </a:xfrm>
        </p:grpSpPr>
        <p:pic>
          <p:nvPicPr>
            <p:cNvPr id="93" name="Picture 8" descr="p44"/>
            <p:cNvPicPr/>
            <p:nvPr/>
          </p:nvPicPr>
          <p:blipFill>
            <a:blip r:embed="rId1"/>
            <a:srcRect l="0" t="0" r="0" b="22864"/>
            <a:stretch/>
          </p:blipFill>
          <p:spPr>
            <a:xfrm>
              <a:off x="1143000" y="3048120"/>
              <a:ext cx="7139160" cy="29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Line 9"/>
            <p:cNvSpPr/>
            <p:nvPr/>
          </p:nvSpPr>
          <p:spPr>
            <a:xfrm>
              <a:off x="1905120" y="3886200"/>
              <a:ext cx="0" cy="236232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3767040" y="3886200"/>
              <a:ext cx="0" cy="236232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5659560" y="3886200"/>
              <a:ext cx="0" cy="236232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7543800" y="3886200"/>
              <a:ext cx="0" cy="236232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3"/>
            <p:cNvSpPr/>
            <p:nvPr/>
          </p:nvSpPr>
          <p:spPr>
            <a:xfrm>
              <a:off x="6249240" y="3352680"/>
              <a:ext cx="22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ff"/>
                  </a:solidFill>
                  <a:uFillTx/>
                  <a:latin typeface="Times New Roman"/>
                </a:rPr>
                <a:t>dynamic equilibri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utoShape 14"/>
            <p:cNvSpPr/>
            <p:nvPr/>
          </p:nvSpPr>
          <p:spPr>
            <a:xfrm>
              <a:off x="7413480" y="3733920"/>
              <a:ext cx="228600" cy="457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6"/>
            <p:cNvSpPr/>
            <p:nvPr/>
          </p:nvSpPr>
          <p:spPr>
            <a:xfrm>
              <a:off x="2133720" y="3200400"/>
              <a:ext cx="1295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ump of sug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Line 6"/>
          <p:cNvSpPr/>
          <p:nvPr/>
        </p:nvSpPr>
        <p:spPr>
          <a:xfrm>
            <a:off x="380880" y="9907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4120" y="1404720"/>
            <a:ext cx="89154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s in concentration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solved materi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wo solu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lead to the movement of ions from one to the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olution with the higher concentration of solutes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yper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olution with the lower concentration of solutes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ypo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s with equal solute concentrations ar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iso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Osmo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a passive transport  in which water                                                diffuses across a selectively permeable                                            membrane from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ypo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olution                                                    to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yper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olution until the                                                      solutions becom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so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B). Osmosi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أسموز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ar-EG" sz="2800" spc="-1" strike="noStrike">
                <a:solidFill>
                  <a:srgbClr val="0000ff"/>
                </a:solidFill>
                <a:latin typeface="Arial"/>
                <a:ea typeface="Arial"/>
              </a:rPr>
              <a:t>: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he passive transport of water</a:t>
            </a:r>
            <a:endParaRPr b="0" lang="en-US" sz="2000" spc="-1" strike="noStrike">
              <a:solidFill>
                <a:srgbClr val="ffc247"/>
              </a:solidFill>
              <a:latin typeface="Times New Roman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562720" y="3809880"/>
            <a:ext cx="3429000" cy="24861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hossam ebaid</cp:lastModifiedBy>
  <cp:lastPrinted>2001-01-06T03:20:03Z</cp:lastPrinted>
  <dcterms:modified xsi:type="dcterms:W3CDTF">2016-10-09T17:16:33Z</dcterms:modified>
  <cp:revision>340</cp:revision>
  <dc:subject/>
  <dc:title>Nerve activates contra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F494803-F647-4A10-9C12-9DBB727B6D95</vt:lpwstr>
  </property>
  <property fmtid="{D5CDD505-2E9C-101B-9397-08002B2CF9AE}" pid="3" name="ArticulatePath">
    <vt:lpwstr>Lecture 9</vt:lpwstr>
  </property>
</Properties>
</file>