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D4FF-D978-4731-9342-55BF0E59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D4B-A5AB-4C6E-A3DC-2C2D6C7E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97F8-D77C-4E22-BBE5-6C14C1E1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C6BF-0DB7-4734-9D12-CAF9EB81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C7A6-AB1D-40AD-BCE3-DD76E693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C450-43D5-4A93-B952-868B6BE4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0847-7951-495D-B82B-1690898C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1C41-8EBA-4197-BFF3-114A522B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A3A9-9CAA-4BCF-99E5-0B3302A6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0815-F0D4-4239-B47C-9249010B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DB26-49AA-496B-A23F-E0298C1B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8CBD-31E5-46C7-A309-F6DAD3E4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8027-463B-4545-8EF1-D902500E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F782-F82D-48F8-B60A-6043586D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4AD3-C842-4566-9EEF-7A54D939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089A-6449-4ACA-99BB-C75F0882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AB8C-08E8-4487-91FC-8CD8AFDD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054-F8EF-4174-B14F-4B2D00A2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B951-2904-420F-B535-3E0B0E72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8B3C-6D55-4BDB-9A03-4C9ADFDB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C3B3-4E0C-4F1F-81A9-0C43372E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D6F7-BAC0-42F2-994C-4B2393D6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4CFB-C501-4082-B322-3D8C3E98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FBC-C92B-4E9B-B419-979582B8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E851-CF76-4E91-AECE-3C649642DC0A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0548-E40E-422C-82E7-3779C191C09A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76800"/>
          </a:xfrm>
          <a:prstGeom prst="rect">
            <a:avLst/>
          </a:prstGeom>
          <a:ln w="0">
            <a:noFill/>
          </a:ln>
        </p:spPr>
      </p:pic>
      <p:sp>
        <p:nvSpPr>
          <p:cNvPr id="150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438280" y="3808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pperplate Gothic Bold"/>
              </a:rPr>
              <a:t>A)- 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rcRect l="18582" t="8063" r="4043" b="0"/>
          <a:stretch/>
        </p:blipFill>
        <p:spPr>
          <a:xfrm>
            <a:off x="76320" y="76320"/>
            <a:ext cx="12618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5257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ff"/>
                </a:solidFill>
                <a:latin typeface="Arial"/>
              </a:rPr>
              <a:t>Gram Staining of Bacteria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1752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+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Large amount of peptidoglycan that stained 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viol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–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small amount or no peptidoglycan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stain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228600" y="3941640"/>
            <a:ext cx="8458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am-negative species are pathogenic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ore threaten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أكثر خطو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n gram-positive spe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bacteria are commonly more resistant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كثر ممانع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han gram-positive species to antibio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لمضادات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يو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10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prokaryotes (bacteria)                                                   secrete a sticky                                              protective layer called                                           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utside                                                           the cell w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has the                                                        following functio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ظائ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here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ثبي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s to their substratu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طح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e bacterial resi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وم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host defens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اعة العائ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tick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لصق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ogether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en live i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lo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م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5029200" y="2090880"/>
            <a:ext cx="4038480" cy="2709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6" name="Text Box 6"/>
          <p:cNvSpPr/>
          <p:nvPr/>
        </p:nvSpPr>
        <p:spPr>
          <a:xfrm>
            <a:off x="2057400" y="457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I - the bacterial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229600" cy="57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ll prokaryotes, the functions of the cell wall are as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intai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افظ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shape of the cell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affords physical protection </a:t>
            </a:r>
            <a:r>
              <a:rPr b="1" lang="ar-EG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حماية الطبيعية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وف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prevents the cell from bursting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نفجا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 a hypotonic environment 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البيئة ذات </a:t>
            </a:r>
            <a:r>
              <a:rPr b="1" lang="ar-SA" sz="1700" spc="-1" strike="noStrike">
                <a:solidFill>
                  <a:srgbClr val="000000"/>
                </a:solidFill>
                <a:latin typeface="Arial"/>
              </a:rPr>
              <a:t>التركيز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 الأسموزى المنخفض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bacterial cell walls contain </a:t>
            </a:r>
            <a:r>
              <a:rPr b="1" lang="en-US" sz="3000" spc="-1" strike="noStrike" u="sng">
                <a:solidFill>
                  <a:srgbClr val="800080"/>
                </a:solidFill>
                <a:uFillTx/>
                <a:latin typeface="Copperplate Gothic Bold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lymer of modified sugars cross-linked by short polypeptid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walls of Archaea lac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فـتـقـ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ptidogly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981080" y="41112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pperplate Gothic Bold"/>
              </a:rPr>
              <a:t>II - The bacterial cell w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al Characteristics of a Bacterial Ce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p5"/>
          <p:cNvPicPr/>
          <p:nvPr/>
        </p:nvPicPr>
        <p:blipFill>
          <a:blip r:embed="rId2"/>
          <a:stretch/>
        </p:blipFill>
        <p:spPr>
          <a:xfrm>
            <a:off x="152280" y="1380960"/>
            <a:ext cx="8839440" cy="4984920"/>
          </a:xfrm>
          <a:prstGeom prst="rect">
            <a:avLst/>
          </a:prstGeom>
          <a:ln w="0">
            <a:noFill/>
          </a:ln>
        </p:spPr>
      </p:pic>
      <p:sp>
        <p:nvSpPr>
          <p:cNvPr id="259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152280" y="2108160"/>
            <a:ext cx="822960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reprodu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ـتـكاث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sexuall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جنسي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inary fiss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قسـام الثـنائ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الب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ingle cell produc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a colony of offsp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4211640" y="3352680"/>
            <a:ext cx="4856040" cy="3338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9"/>
          <p:cNvSpPr/>
          <p:nvPr/>
        </p:nvSpPr>
        <p:spPr>
          <a:xfrm>
            <a:off x="2514600" y="152280"/>
            <a:ext cx="4191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Reproduction of Bacteria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التكاثر ف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ي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 البكت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2590920" y="228600"/>
            <a:ext cx="5105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utrition of Prokaryotes 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ي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ea typeface="Al-Mothnna"/>
              </a:rPr>
              <a:t> بدائيات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04920" y="4208400"/>
            <a:ext cx="77724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are grouped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صُنٍفـَت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o four categories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ording to how they obtain energy and carb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304920" y="2527200"/>
            <a:ext cx="8534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trition refers to how an organism obtains energy and a carbon source from the environment to build the organic molecules of its ce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457200" y="1343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"/>
          <p:cNvPicPr/>
          <p:nvPr/>
        </p:nvPicPr>
        <p:blipFill>
          <a:blip r:embed="rId1"/>
          <a:srcRect l="18598" t="8074" r="4036" b="0"/>
          <a:stretch/>
        </p:blipFill>
        <p:spPr>
          <a:xfrm>
            <a:off x="76320" y="76320"/>
            <a:ext cx="117936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76320" y="2158920"/>
            <a:ext cx="8991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Pho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ضو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obtain energy from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Chem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كيميا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obtain energy from chemicals in their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Au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ذات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use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Heterotrophs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عدد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use organic nutrients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590920" y="76320"/>
            <a:ext cx="4343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utrition of Prokaryot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ar-EG" sz="24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ى 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9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autotroph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 energ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 carbon sour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ynthesiz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تخلق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 organic compound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aut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كيميائية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hemical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in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heter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carbon sourc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60000"/>
              </a:lnSpc>
              <a:spcBef>
                <a:spcPts val="876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heterotroph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كيميا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source for both energy and carbo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133720" y="304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four major modes of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1676520" y="9036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okaryotic modes of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4920" y="60948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Carbon source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Energy sour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can be used       by a prokaryotic organism to synthesize organic compou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5"/>
          <p:cNvGrpSpPr/>
          <p:nvPr/>
        </p:nvGrpSpPr>
        <p:grpSpPr>
          <a:xfrm>
            <a:off x="2666880" y="1676520"/>
            <a:ext cx="3657600" cy="1066680"/>
            <a:chOff x="2666880" y="1676520"/>
            <a:chExt cx="3657600" cy="1066680"/>
          </a:xfrm>
        </p:grpSpPr>
        <p:sp>
          <p:nvSpPr>
            <p:cNvPr id="282" name="Line 6"/>
            <p:cNvSpPr/>
            <p:nvPr/>
          </p:nvSpPr>
          <p:spPr>
            <a:xfrm>
              <a:off x="4648320" y="1676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7"/>
            <p:cNvSpPr/>
            <p:nvPr/>
          </p:nvSpPr>
          <p:spPr>
            <a:xfrm>
              <a:off x="2666880" y="236232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8"/>
            <p:cNvSpPr/>
            <p:nvPr/>
          </p:nvSpPr>
          <p:spPr>
            <a:xfrm>
              <a:off x="26668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9"/>
            <p:cNvSpPr/>
            <p:nvPr/>
          </p:nvSpPr>
          <p:spPr>
            <a:xfrm>
              <a:off x="63244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0"/>
          <p:cNvGrpSpPr/>
          <p:nvPr/>
        </p:nvGrpSpPr>
        <p:grpSpPr>
          <a:xfrm>
            <a:off x="1143000" y="3733920"/>
            <a:ext cx="2362320" cy="685800"/>
            <a:chOff x="1143000" y="3733920"/>
            <a:chExt cx="2362320" cy="685800"/>
          </a:xfrm>
        </p:grpSpPr>
        <p:sp>
          <p:nvSpPr>
            <p:cNvPr id="287" name="Line 11"/>
            <p:cNvSpPr/>
            <p:nvPr/>
          </p:nvSpPr>
          <p:spPr>
            <a:xfrm>
              <a:off x="243828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2"/>
            <p:cNvSpPr/>
            <p:nvPr/>
          </p:nvSpPr>
          <p:spPr>
            <a:xfrm>
              <a:off x="1143000" y="403848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3"/>
            <p:cNvSpPr/>
            <p:nvPr/>
          </p:nvSpPr>
          <p:spPr>
            <a:xfrm>
              <a:off x="11430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4"/>
            <p:cNvSpPr/>
            <p:nvPr/>
          </p:nvSpPr>
          <p:spPr>
            <a:xfrm>
              <a:off x="350532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5"/>
          <p:cNvGrpSpPr/>
          <p:nvPr/>
        </p:nvGrpSpPr>
        <p:grpSpPr>
          <a:xfrm>
            <a:off x="5486400" y="3733920"/>
            <a:ext cx="2438280" cy="685800"/>
            <a:chOff x="5486400" y="3733920"/>
            <a:chExt cx="2438280" cy="685800"/>
          </a:xfrm>
        </p:grpSpPr>
        <p:sp>
          <p:nvSpPr>
            <p:cNvPr id="292" name="Line 16"/>
            <p:cNvSpPr/>
            <p:nvPr/>
          </p:nvSpPr>
          <p:spPr>
            <a:xfrm>
              <a:off x="662940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7"/>
            <p:cNvSpPr/>
            <p:nvPr/>
          </p:nvSpPr>
          <p:spPr>
            <a:xfrm>
              <a:off x="5486400" y="403848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>
              <a:off x="54864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9"/>
            <p:cNvSpPr/>
            <p:nvPr/>
          </p:nvSpPr>
          <p:spPr>
            <a:xfrm>
              <a:off x="792468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20"/>
          <p:cNvSpPr/>
          <p:nvPr/>
        </p:nvSpPr>
        <p:spPr>
          <a:xfrm>
            <a:off x="1600200" y="2666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525780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5112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2797200" y="4419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7162920" y="4444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4778280" y="44197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6"/>
          <p:cNvGrpSpPr/>
          <p:nvPr/>
        </p:nvGrpSpPr>
        <p:grpSpPr>
          <a:xfrm>
            <a:off x="1143000" y="3092400"/>
            <a:ext cx="6705360" cy="642600"/>
            <a:chOff x="1143000" y="3092400"/>
            <a:chExt cx="6705360" cy="642600"/>
          </a:xfrm>
        </p:grpSpPr>
        <p:sp>
          <p:nvSpPr>
            <p:cNvPr id="303" name="Text Box 27"/>
            <p:cNvSpPr/>
            <p:nvPr/>
          </p:nvSpPr>
          <p:spPr>
            <a:xfrm>
              <a:off x="1143000" y="3214800"/>
              <a:ext cx="276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CO</a:t>
              </a:r>
              <a:r>
                <a:rPr b="1" lang="en-GB" sz="2000" spc="-1" strike="noStrike" baseline="-25000">
                  <a:solidFill>
                    <a:srgbClr val="cc0099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28"/>
            <p:cNvSpPr/>
            <p:nvPr/>
          </p:nvSpPr>
          <p:spPr>
            <a:xfrm>
              <a:off x="5087160" y="3092400"/>
              <a:ext cx="276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Organic compounds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29"/>
          <p:cNvSpPr/>
          <p:nvPr/>
        </p:nvSpPr>
        <p:spPr>
          <a:xfrm>
            <a:off x="22860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 energy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266688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4876920" y="5257800"/>
            <a:ext cx="175248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2"/>
          <p:cNvSpPr/>
          <p:nvPr/>
        </p:nvSpPr>
        <p:spPr>
          <a:xfrm>
            <a:off x="7010280" y="5257800"/>
            <a:ext cx="190512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3"/>
          <p:cNvSpPr/>
          <p:nvPr/>
        </p:nvSpPr>
        <p:spPr>
          <a:xfrm>
            <a:off x="33526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What are Prokaryotes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ncludes two Major Domains: Archaea and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karyotes are single-celled organisms that do not have a membrane-bound nucleus, and can live in nearly every environment on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tiny, prokaryotes differ greatly in their genetic traits, their modes of nutri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however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ir habitats are simi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genetic differences, prokaryotes are grouped in two domains: Domain Archaea and Domain Bac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6880" y="152280"/>
            <a:ext cx="3810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. Domain: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Archaea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496880"/>
            <a:ext cx="482436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chaea are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extremophile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ظروف القاسية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f extreme environments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and can be classified int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hal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ملوحة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ive in such saline places as the Great Salt Lake and the Dead Se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me species require an extremely salty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شديدة الملوح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vironment to gro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b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therm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حرار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live in hot environmen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The optimum temperatures for most thermophiles are 60 - 8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5"/>
          <p:cNvGrpSpPr/>
          <p:nvPr/>
        </p:nvGrpSpPr>
        <p:grpSpPr>
          <a:xfrm>
            <a:off x="838080" y="1905120"/>
            <a:ext cx="7696440" cy="4416480"/>
            <a:chOff x="838080" y="1905120"/>
            <a:chExt cx="7696440" cy="441648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rcRect l="0" t="0" r="0" b="3787"/>
            <a:stretch/>
          </p:blipFill>
          <p:spPr>
            <a:xfrm>
              <a:off x="838080" y="1905120"/>
              <a:ext cx="7696440" cy="44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6"/>
            <p:cNvSpPr/>
            <p:nvPr/>
          </p:nvSpPr>
          <p:spPr>
            <a:xfrm>
              <a:off x="4191120" y="3749760"/>
              <a:ext cx="14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غشاء بلازم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67080" y="41911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جدار الخلو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3981600" y="290700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شبه نوا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038480" y="3318120"/>
              <a:ext cx="14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ريبوزوم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5006880" y="464832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بسو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1479600" y="496728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أسوا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4"/>
          <p:cNvSpPr/>
          <p:nvPr/>
        </p:nvSpPr>
        <p:spPr>
          <a:xfrm>
            <a:off x="620640" y="11872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ria occur in many shapes and sizes. Bacteria of four shapes: rod-shaped, sphere-shaped, spiral-shaped, or filamentous-sha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3276720" y="152280"/>
            <a:ext cx="40384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2. Domain: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3048120" y="2023920"/>
            <a:ext cx="83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هدا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Line 6"/>
          <p:cNvSpPr/>
          <p:nvPr/>
        </p:nvSpPr>
        <p:spPr>
          <a:xfrm>
            <a:off x="295200" y="11224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8"/>
          <p:cNvGrpSpPr/>
          <p:nvPr/>
        </p:nvGrpSpPr>
        <p:grpSpPr>
          <a:xfrm>
            <a:off x="1523880" y="2711520"/>
            <a:ext cx="5943600" cy="2133360"/>
            <a:chOff x="1523880" y="2711520"/>
            <a:chExt cx="5943600" cy="2133360"/>
          </a:xfrm>
        </p:grpSpPr>
        <p:sp>
          <p:nvSpPr>
            <p:cNvPr id="178" name="AutoShape 7"/>
            <p:cNvSpPr/>
            <p:nvPr/>
          </p:nvSpPr>
          <p:spPr>
            <a:xfrm>
              <a:off x="1600200" y="27115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5"/>
            <p:cNvSpPr/>
            <p:nvPr/>
          </p:nvSpPr>
          <p:spPr>
            <a:xfrm>
              <a:off x="1523880" y="29401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4"/>
          <p:cNvSpPr/>
          <p:nvPr/>
        </p:nvSpPr>
        <p:spPr>
          <a:xfrm>
            <a:off x="3124080" y="152280"/>
            <a:ext cx="38102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1638360" y="30416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1739880" y="31305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2806560" y="34448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7"/>
          <p:cNvGrpSpPr/>
          <p:nvPr/>
        </p:nvGrpSpPr>
        <p:grpSpPr>
          <a:xfrm>
            <a:off x="6934320" y="1339920"/>
            <a:ext cx="1752480" cy="1523880"/>
            <a:chOff x="6934320" y="1339920"/>
            <a:chExt cx="1752480" cy="1523880"/>
          </a:xfrm>
        </p:grpSpPr>
        <p:sp>
          <p:nvSpPr>
            <p:cNvPr id="186" name="Line 15"/>
            <p:cNvSpPr/>
            <p:nvPr/>
          </p:nvSpPr>
          <p:spPr>
            <a:xfrm flipV="1">
              <a:off x="6934320" y="19494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70102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22"/>
          <p:cNvGrpSpPr/>
          <p:nvPr/>
        </p:nvGrpSpPr>
        <p:grpSpPr>
          <a:xfrm>
            <a:off x="4952880" y="1339920"/>
            <a:ext cx="1676520" cy="1675800"/>
            <a:chOff x="4952880" y="1339920"/>
            <a:chExt cx="1676520" cy="1675800"/>
          </a:xfrm>
        </p:grpSpPr>
        <p:sp>
          <p:nvSpPr>
            <p:cNvPr id="189" name="Line 20"/>
            <p:cNvSpPr/>
            <p:nvPr/>
          </p:nvSpPr>
          <p:spPr>
            <a:xfrm flipV="1">
              <a:off x="4952880" y="19490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1"/>
            <p:cNvSpPr/>
            <p:nvPr/>
          </p:nvSpPr>
          <p:spPr>
            <a:xfrm>
              <a:off x="49528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5"/>
          <p:cNvGrpSpPr/>
          <p:nvPr/>
        </p:nvGrpSpPr>
        <p:grpSpPr>
          <a:xfrm>
            <a:off x="2438280" y="1339920"/>
            <a:ext cx="2057400" cy="1790280"/>
            <a:chOff x="2438280" y="1339920"/>
            <a:chExt cx="2057400" cy="1790280"/>
          </a:xfrm>
        </p:grpSpPr>
        <p:sp>
          <p:nvSpPr>
            <p:cNvPr id="192" name="Line 23"/>
            <p:cNvSpPr/>
            <p:nvPr/>
          </p:nvSpPr>
          <p:spPr>
            <a:xfrm flipV="1">
              <a:off x="2819520" y="19872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2438280" y="13399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28"/>
          <p:cNvGrpSpPr/>
          <p:nvPr/>
        </p:nvGrpSpPr>
        <p:grpSpPr>
          <a:xfrm>
            <a:off x="4876920" y="4311720"/>
            <a:ext cx="2057400" cy="2013840"/>
            <a:chOff x="4876920" y="4311720"/>
            <a:chExt cx="2057400" cy="2013840"/>
          </a:xfrm>
        </p:grpSpPr>
        <p:sp>
          <p:nvSpPr>
            <p:cNvPr id="195" name="Line 26"/>
            <p:cNvSpPr/>
            <p:nvPr/>
          </p:nvSpPr>
          <p:spPr>
            <a:xfrm flipH="1">
              <a:off x="5791320" y="43117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4876920" y="5378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32"/>
          <p:cNvGrpSpPr/>
          <p:nvPr/>
        </p:nvGrpSpPr>
        <p:grpSpPr>
          <a:xfrm>
            <a:off x="2895480" y="3854520"/>
            <a:ext cx="2057400" cy="2044440"/>
            <a:chOff x="2895480" y="3854520"/>
            <a:chExt cx="2057400" cy="2044440"/>
          </a:xfrm>
        </p:grpSpPr>
        <p:sp>
          <p:nvSpPr>
            <p:cNvPr id="198" name="Line 30"/>
            <p:cNvSpPr/>
            <p:nvPr/>
          </p:nvSpPr>
          <p:spPr>
            <a:xfrm flipH="1">
              <a:off x="3809520" y="38545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1"/>
            <p:cNvSpPr/>
            <p:nvPr/>
          </p:nvSpPr>
          <p:spPr>
            <a:xfrm>
              <a:off x="2895480" y="53784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53"/>
          <p:cNvGrpSpPr/>
          <p:nvPr/>
        </p:nvGrpSpPr>
        <p:grpSpPr>
          <a:xfrm>
            <a:off x="2133720" y="3306600"/>
            <a:ext cx="4495320" cy="1219320"/>
            <a:chOff x="2133720" y="3306600"/>
            <a:chExt cx="4495320" cy="1219320"/>
          </a:xfrm>
        </p:grpSpPr>
        <p:sp>
          <p:nvSpPr>
            <p:cNvPr id="201" name="Oval 39"/>
            <p:cNvSpPr/>
            <p:nvPr/>
          </p:nvSpPr>
          <p:spPr>
            <a:xfrm>
              <a:off x="2133720" y="3458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0"/>
            <p:cNvSpPr/>
            <p:nvPr/>
          </p:nvSpPr>
          <p:spPr>
            <a:xfrm>
              <a:off x="2438280" y="41446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41"/>
            <p:cNvSpPr/>
            <p:nvPr/>
          </p:nvSpPr>
          <p:spPr>
            <a:xfrm>
              <a:off x="2209680" y="38401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2"/>
            <p:cNvSpPr/>
            <p:nvPr/>
          </p:nvSpPr>
          <p:spPr>
            <a:xfrm>
              <a:off x="4952880" y="4449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3"/>
            <p:cNvSpPr/>
            <p:nvPr/>
          </p:nvSpPr>
          <p:spPr>
            <a:xfrm>
              <a:off x="3657600" y="42973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4"/>
            <p:cNvSpPr/>
            <p:nvPr/>
          </p:nvSpPr>
          <p:spPr>
            <a:xfrm>
              <a:off x="3047760" y="43732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5"/>
            <p:cNvSpPr/>
            <p:nvPr/>
          </p:nvSpPr>
          <p:spPr>
            <a:xfrm>
              <a:off x="274320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6"/>
            <p:cNvSpPr/>
            <p:nvPr/>
          </p:nvSpPr>
          <p:spPr>
            <a:xfrm>
              <a:off x="51814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7"/>
            <p:cNvSpPr/>
            <p:nvPr/>
          </p:nvSpPr>
          <p:spPr>
            <a:xfrm>
              <a:off x="44193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8"/>
            <p:cNvSpPr/>
            <p:nvPr/>
          </p:nvSpPr>
          <p:spPr>
            <a:xfrm>
              <a:off x="35812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9"/>
            <p:cNvSpPr/>
            <p:nvPr/>
          </p:nvSpPr>
          <p:spPr>
            <a:xfrm>
              <a:off x="6476760" y="39924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0"/>
            <p:cNvSpPr/>
            <p:nvPr/>
          </p:nvSpPr>
          <p:spPr>
            <a:xfrm>
              <a:off x="6476760" y="36115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51"/>
            <p:cNvSpPr/>
            <p:nvPr/>
          </p:nvSpPr>
          <p:spPr>
            <a:xfrm>
              <a:off x="5562360" y="42973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2"/>
            <p:cNvSpPr/>
            <p:nvPr/>
          </p:nvSpPr>
          <p:spPr>
            <a:xfrm>
              <a:off x="60195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58"/>
          <p:cNvGrpSpPr/>
          <p:nvPr/>
        </p:nvGrpSpPr>
        <p:grpSpPr>
          <a:xfrm>
            <a:off x="304920" y="3916080"/>
            <a:ext cx="2146320" cy="1816200"/>
            <a:chOff x="304920" y="3916080"/>
            <a:chExt cx="2146320" cy="1816200"/>
          </a:xfrm>
        </p:grpSpPr>
        <p:sp>
          <p:nvSpPr>
            <p:cNvPr id="216" name="Text Box 54"/>
            <p:cNvSpPr/>
            <p:nvPr/>
          </p:nvSpPr>
          <p:spPr>
            <a:xfrm>
              <a:off x="304920" y="52117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5"/>
            <p:cNvSpPr/>
            <p:nvPr/>
          </p:nvSpPr>
          <p:spPr>
            <a:xfrm flipV="1">
              <a:off x="1384560" y="42084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57"/>
            <p:cNvSpPr/>
            <p:nvPr/>
          </p:nvSpPr>
          <p:spPr>
            <a:xfrm flipV="1">
              <a:off x="1371960" y="39160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46" descr=""/>
          <p:cNvPicPr/>
          <p:nvPr/>
        </p:nvPicPr>
        <p:blipFill>
          <a:blip r:embed="rId2"/>
          <a:srcRect l="18603" t="8072" r="4056" b="0"/>
          <a:stretch/>
        </p:blipFill>
        <p:spPr>
          <a:xfrm>
            <a:off x="76320" y="76320"/>
            <a:ext cx="9144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 occur in many shapes and sizes. Most bacteria have one of three basic shapes: rod-shaped, sphere-shaped, or spiral-sha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iral 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in the form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irill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spirillum) or vibrio (comma lik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here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cc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coccus). An example of cocc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crococcus lute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ingle or aggregate cells in different sha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d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cill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bacillus). An example of bacill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cill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ingle or aggregate cells in different shapes 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apes of Bacteri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2" name="Picture 9" descr="p2"/>
          <p:cNvPicPr/>
          <p:nvPr/>
        </p:nvPicPr>
        <p:blipFill>
          <a:blip r:embed="rId1"/>
          <a:stretch/>
        </p:blipFill>
        <p:spPr>
          <a:xfrm>
            <a:off x="228600" y="4178160"/>
            <a:ext cx="8610480" cy="2557440"/>
          </a:xfrm>
          <a:prstGeom prst="rect">
            <a:avLst/>
          </a:prstGeom>
          <a:ln w="0">
            <a:noFill/>
          </a:ln>
        </p:spPr>
      </p:pic>
      <p:sp>
        <p:nvSpPr>
          <p:cNvPr id="223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tool for identifying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عري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, based on differences in their cell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Gram-positiv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ram +v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 bacter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rge amounts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كمية كبيرة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f peptidoglyca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react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violet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ـُصبغ بنفس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rcRect l="0" t="0" r="0" b="51004"/>
          <a:stretch/>
        </p:blipFill>
        <p:spPr>
          <a:xfrm>
            <a:off x="1523880" y="4014720"/>
            <a:ext cx="6858000" cy="2691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981080" y="-166680"/>
            <a:ext cx="5943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6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171612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)- Gram-negativ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m -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teri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mall amoun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, do not react or very weakly react wi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تصبغ بالأحم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0" t="48410" r="0" b="3184"/>
          <a:stretch/>
        </p:blipFill>
        <p:spPr>
          <a:xfrm>
            <a:off x="609480" y="3693960"/>
            <a:ext cx="7772400" cy="30117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2209680" y="-136440"/>
            <a:ext cx="594360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Gram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pecies of bacteria are classified into two categories based on the structure of their cell walls as determined by a technique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m st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posi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ck layer of peptidoglycan in their cell wall,  and they appea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io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der a microscope after the Gram-staining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nega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n layer of peptidoglycan in their cell wall, and they appear reddish-pink under a microscope after the Gram-staining proced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1"/>
          <p:cNvSpPr/>
          <p:nvPr/>
        </p:nvSpPr>
        <p:spPr>
          <a:xfrm>
            <a:off x="2057400" y="-383040"/>
            <a:ext cx="5943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40:28Z</dcterms:modified>
  <cp:revision>4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C03D313-4C65-4F53-AF3D-EFEC985F8540</vt:lpwstr>
  </property>
  <property fmtid="{D5CDD505-2E9C-101B-9397-08002B2CF9AE}" pid="3" name="ArticulatePath">
    <vt:lpwstr>Lecture 5</vt:lpwstr>
  </property>
</Properties>
</file>