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78A5-CB14-4FB2-BEAB-FFDABC38B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76E1-8F5D-4D7F-BC1C-05CA811D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75F8-7DCD-4D3A-ABEB-546F6CC9B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9ABE-FF9F-4F26-8516-829A1FE98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1FD65-8C7F-4ED8-93F4-F28C2B9DA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95F4-ECF6-4B52-9401-7EBEE4DB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8CF9-45FA-405B-9B9F-1707DC53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CAFA2-7272-4C55-95DE-FE447465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68A9-F556-479E-854A-52A4B189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4A6E-B659-46DD-98CF-7375B269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7EEB-0FC3-4A84-A1F4-641F5AE7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1E9A-1262-4889-8CAD-C073597D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5691-E86E-42E1-9B40-02DC9B0C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31952-D355-4C1C-811B-C6E3349D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1E18-FF95-4976-BC0D-1050E13C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A3ED-617F-4C98-BEE3-AE149E226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3C69-391D-4214-B8E0-BD3314F15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BCC4-332B-4D3E-BC96-FE8E3D4E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3BB8-FF1F-490B-AE47-01098DFF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4780-3425-4BF2-A6DC-5300A394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09FF-277A-4630-A4EC-6A20D092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0CEC-9E8B-4B7E-BCC4-F49EC38E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60E5-CDF5-4326-AAC7-4F325E11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64B2-9493-4D12-8D9B-65E4C736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8BEB-2CB7-4793-8BF9-9FC8225FA5CA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FE51-B748-4587-8063-ED0372BD23E4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8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76800"/>
          </a:xfrm>
          <a:prstGeom prst="rect">
            <a:avLst/>
          </a:prstGeom>
          <a:ln w="0">
            <a:noFill/>
          </a:ln>
        </p:spPr>
      </p:pic>
      <p:sp>
        <p:nvSpPr>
          <p:cNvPr id="150" name="Line 4"/>
          <p:cNvSpPr/>
          <p:nvPr/>
        </p:nvSpPr>
        <p:spPr>
          <a:xfrm>
            <a:off x="1087560" y="1674720"/>
            <a:ext cx="7751520" cy="180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2438280" y="380880"/>
            <a:ext cx="49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pperplate Gothic Bold"/>
              </a:rPr>
              <a:t>A)- Prokary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"/>
          <p:cNvPicPr/>
          <p:nvPr/>
        </p:nvPicPr>
        <p:blipFill>
          <a:blip r:embed="rId2"/>
          <a:srcRect l="18582" t="8063" r="4043" b="0"/>
          <a:stretch/>
        </p:blipFill>
        <p:spPr>
          <a:xfrm>
            <a:off x="76320" y="76320"/>
            <a:ext cx="126180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361960" y="228240"/>
            <a:ext cx="525780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ff"/>
                </a:solidFill>
                <a:latin typeface="Arial"/>
              </a:rPr>
              <a:t>Gram Staining of Bacteria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458200" cy="17524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Arial"/>
              </a:rPr>
              <a:t>Gram +ve bacteria: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have Large amount of peptidoglycan that stained </a:t>
            </a:r>
            <a:r>
              <a:rPr b="1" lang="en-GB" sz="2200" spc="-1" strike="noStrike">
                <a:solidFill>
                  <a:srgbClr val="990099"/>
                </a:solidFill>
                <a:latin typeface="Arial"/>
              </a:rPr>
              <a:t>viol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Arial"/>
              </a:rPr>
              <a:t>Gram –ve bacteria: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Have small amount or no peptidoglycan 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stained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228600" y="3941640"/>
            <a:ext cx="8458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am-negative species are pathogenic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مرض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more threaten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أكثر خطور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n gram-positive spec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m-negative bacteria are commonly more resistant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أكثر ممانع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han gram-positive species to antibiotic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للمضادات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حيو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52280" y="1599840"/>
            <a:ext cx="8839440" cy="510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ny prokaryotes (bacteria)                                                   secrete a sticky                                              protective layer called                                                                 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apsu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utside                                                           the cell wa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apsu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has the                                                        following function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وظائف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dhere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ثبيت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terial cells to their substratum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سطح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crease bacterial resistanc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مقاومة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host defens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ناعة العائ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Stick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لصق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ar-EG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terial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s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together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hen live i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lon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حمى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terial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5029200" y="2090880"/>
            <a:ext cx="4038480" cy="2709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46" name="Text Box 6"/>
          <p:cNvSpPr/>
          <p:nvPr/>
        </p:nvSpPr>
        <p:spPr>
          <a:xfrm>
            <a:off x="2057400" y="4572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pperplate Gothic Bold"/>
              </a:rPr>
              <a:t>I - the bacterial caps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8229600" cy="575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95640" indent="-395640">
              <a:lnSpc>
                <a:spcPct val="130000"/>
              </a:lnSpc>
              <a:spcBef>
                <a:spcPts val="550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all prokaryotes, the functions of the cell wall are as follow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maintain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حافظ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the shape of the cell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affords physical protection </a:t>
            </a:r>
            <a:r>
              <a:rPr b="1" lang="ar-EG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حماية الطبيعية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توفر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prevents the cell from bursting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إنفجار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 a hypotonic environment </a:t>
            </a:r>
            <a:r>
              <a:rPr b="1" lang="ar-EG" sz="1700" spc="-1" strike="noStrike">
                <a:solidFill>
                  <a:srgbClr val="000000"/>
                </a:solidFill>
                <a:latin typeface="Arial"/>
              </a:rPr>
              <a:t>البيئة ذات </a:t>
            </a:r>
            <a:r>
              <a:rPr b="1" lang="ar-SA" sz="1700" spc="-1" strike="noStrike">
                <a:solidFill>
                  <a:srgbClr val="000000"/>
                </a:solidFill>
                <a:latin typeface="Arial"/>
              </a:rPr>
              <a:t>التركيز</a:t>
            </a:r>
            <a:r>
              <a:rPr b="1" lang="ar-EG" sz="1700" spc="-1" strike="noStrike">
                <a:solidFill>
                  <a:srgbClr val="000000"/>
                </a:solidFill>
                <a:latin typeface="Arial"/>
              </a:rPr>
              <a:t> الأسموزى المنخفض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95640" indent="0">
              <a:lnSpc>
                <a:spcPct val="13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130000"/>
              </a:lnSpc>
              <a:spcBef>
                <a:spcPts val="550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st bacterial cell walls contain </a:t>
            </a:r>
            <a:r>
              <a:rPr b="1" lang="en-US" sz="3000" spc="-1" strike="noStrike" u="sng">
                <a:solidFill>
                  <a:srgbClr val="800080"/>
                </a:solidFill>
                <a:uFillTx/>
                <a:latin typeface="Copperplate Gothic Bold"/>
              </a:rPr>
              <a:t>peptidoglyc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             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lymer of modified sugars cross-linked by short polypeptide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walls of Archaea lack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ـفـتـقـد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eptidoglyc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981080" y="411120"/>
            <a:ext cx="64008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pperplate Gothic Bold"/>
              </a:rPr>
              <a:t>II - The bacterial cell wall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tructural Characteristics of a Bacterial Cell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Rectangle 3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7" descr="p5"/>
          <p:cNvPicPr/>
          <p:nvPr/>
        </p:nvPicPr>
        <p:blipFill>
          <a:blip r:embed="rId2"/>
          <a:stretch/>
        </p:blipFill>
        <p:spPr>
          <a:xfrm>
            <a:off x="152280" y="1380960"/>
            <a:ext cx="8839440" cy="4984920"/>
          </a:xfrm>
          <a:prstGeom prst="rect">
            <a:avLst/>
          </a:prstGeom>
          <a:ln w="0">
            <a:noFill/>
          </a:ln>
        </p:spPr>
      </p:pic>
      <p:sp>
        <p:nvSpPr>
          <p:cNvPr id="259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9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"/>
          <p:cNvSpPr/>
          <p:nvPr/>
        </p:nvSpPr>
        <p:spPr>
          <a:xfrm>
            <a:off x="152280" y="2108160"/>
            <a:ext cx="8229600" cy="22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karyotes reproduc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ـتـكاث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sexuall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لا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جنسي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binary fissio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إنقسـام الثـنائ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البسي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ingle cell produc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                                       a colony of offspr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1"/>
          <a:stretch/>
        </p:blipFill>
        <p:spPr>
          <a:xfrm>
            <a:off x="4211640" y="3352680"/>
            <a:ext cx="4856040" cy="33386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9"/>
          <p:cNvSpPr/>
          <p:nvPr/>
        </p:nvSpPr>
        <p:spPr>
          <a:xfrm>
            <a:off x="2514600" y="152280"/>
            <a:ext cx="4191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Reproduction of Bacteria </a:t>
            </a:r>
            <a:r>
              <a:rPr b="1" lang="ar-EG" sz="2400" spc="-1" strike="noStrike">
                <a:solidFill>
                  <a:srgbClr val="ff0000"/>
                </a:solidFill>
                <a:latin typeface="Arial"/>
              </a:rPr>
              <a:t>التكاثر ف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ي</a:t>
            </a:r>
            <a:r>
              <a:rPr b="1" lang="ar-EG" sz="2400" spc="-1" strike="noStrike">
                <a:solidFill>
                  <a:srgbClr val="ff0000"/>
                </a:solidFill>
                <a:latin typeface="Arial"/>
              </a:rPr>
              <a:t> البكتري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4"/>
          <p:cNvSpPr/>
          <p:nvPr/>
        </p:nvSpPr>
        <p:spPr>
          <a:xfrm>
            <a:off x="2590920" y="228600"/>
            <a:ext cx="5105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utrition of Prokaryotes </a:t>
            </a:r>
            <a:r>
              <a:rPr b="0" lang="ar-EG" sz="2800" spc="-1" strike="noStrike">
                <a:solidFill>
                  <a:srgbClr val="0000ff"/>
                </a:solidFill>
                <a:latin typeface="Times New Roman"/>
                <a:cs typeface="Al-Mothnna"/>
              </a:rPr>
              <a:t>التغذية ف</a:t>
            </a:r>
            <a:r>
              <a:rPr b="0" lang="ar-SA" sz="2800" spc="-1" strike="noStrike">
                <a:solidFill>
                  <a:srgbClr val="0000ff"/>
                </a:solidFill>
                <a:latin typeface="Times New Roman"/>
                <a:cs typeface="Al-Mothnna"/>
              </a:rPr>
              <a:t>ي</a:t>
            </a:r>
            <a:r>
              <a:rPr b="0" lang="ar-EG" sz="2800" spc="-1" strike="noStrike">
                <a:solidFill>
                  <a:srgbClr val="0000ff"/>
                </a:solidFill>
                <a:latin typeface="Times New Roman"/>
                <a:ea typeface="Al-Mothnna"/>
              </a:rPr>
              <a:t> بدائيات النوا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304920" y="4208400"/>
            <a:ext cx="7772400" cy="15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karyotes are grouped (</a:t>
            </a:r>
            <a:r>
              <a:rPr b="0" lang="ar-EG" sz="2600" spc="-1" strike="noStrike">
                <a:solidFill>
                  <a:srgbClr val="000000"/>
                </a:solidFill>
                <a:latin typeface="Arial"/>
              </a:rPr>
              <a:t>صُنٍفـَت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o four categories (</a:t>
            </a:r>
            <a:r>
              <a:rPr b="0" lang="ar-EG" sz="2600" spc="-1" strike="noStrike">
                <a:solidFill>
                  <a:srgbClr val="000000"/>
                </a:solidFill>
                <a:latin typeface="Arial"/>
              </a:rPr>
              <a:t>أنواع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ccording to how they obtain energy and carb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304920" y="2527200"/>
            <a:ext cx="85341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trition refers to how an organism obtains energy and a carbon source from the environment to build the organic molecules of its cel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457200" y="13431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9" descr=""/>
          <p:cNvPicPr/>
          <p:nvPr/>
        </p:nvPicPr>
        <p:blipFill>
          <a:blip r:embed="rId1"/>
          <a:srcRect l="18598" t="8074" r="4036" b="0"/>
          <a:stretch/>
        </p:blipFill>
        <p:spPr>
          <a:xfrm>
            <a:off x="76320" y="76320"/>
            <a:ext cx="117936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4"/>
          <p:cNvSpPr/>
          <p:nvPr/>
        </p:nvSpPr>
        <p:spPr>
          <a:xfrm>
            <a:off x="76320" y="2158920"/>
            <a:ext cx="8991360" cy="46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</a:rPr>
              <a:t>Phototrophs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ضوئية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ms that obtain energy from l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</a:rPr>
              <a:t>Chemotrophs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كيميائية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ms that obtain energy from chemicals in their enviro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</a:rPr>
              <a:t>Autotrophs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ذاتية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ms that use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a carbon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</a:rPr>
              <a:t>Heterotrophs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تعدد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ms that use organic nutrients as a carbon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2590920" y="76320"/>
            <a:ext cx="4343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utrition of Prokaryote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ar-EG" sz="2400" spc="-1" strike="noStrike">
                <a:solidFill>
                  <a:srgbClr val="0000ff"/>
                </a:solidFill>
                <a:latin typeface="Times New Roman"/>
                <a:cs typeface="Al-Mothnna"/>
              </a:rPr>
              <a:t>التغذية فى بدائيات النوا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152280" y="1828440"/>
            <a:ext cx="8839440" cy="495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425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Photoautotroph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ذاتية التغذية الضوئية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light energy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an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nergy source, and 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1700" spc="-1" strike="noStrike" baseline="-25000">
                <a:solidFill>
                  <a:srgbClr val="ff0000"/>
                </a:solidFill>
                <a:latin typeface="Arial"/>
              </a:rPr>
              <a:t>2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s a carbon sourc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ynthesiz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ar-EG" sz="1700" spc="-1" strike="noStrike">
                <a:solidFill>
                  <a:srgbClr val="000000"/>
                </a:solidFill>
                <a:latin typeface="Arial"/>
              </a:rPr>
              <a:t>تخلق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) organic compound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50000"/>
              </a:lnSpc>
              <a:spcBef>
                <a:spcPts val="4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25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Chemoautotrophs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ذاتية التغذية الكيميائية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hemical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inorganic substanc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nergy source, and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 CO</a:t>
            </a:r>
            <a:r>
              <a:rPr b="1" lang="en-US" sz="17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a carbon sourc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50000"/>
              </a:lnSpc>
              <a:spcBef>
                <a:spcPts val="4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25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Photoheterotrophs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متعدد التغذية الضوئية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light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s an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nergy source, and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organic substanc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carbon sourc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50000"/>
              </a:lnSpc>
              <a:spcBef>
                <a:spcPts val="4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60000"/>
              </a:lnSpc>
              <a:spcBef>
                <a:spcPts val="876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Chemoheterotrophs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متعدد التغذية الكيميائية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organic substanc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a source for both energy and carbon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2133720" y="3049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re are four major modes of nutr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1676520" y="9036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Prokaryotic modes of 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304920" y="609480"/>
            <a:ext cx="7924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sed on 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Carbon source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Energy sourc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at can be used       by a prokaryotic organism to synthesize organic compou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5"/>
          <p:cNvGrpSpPr/>
          <p:nvPr/>
        </p:nvGrpSpPr>
        <p:grpSpPr>
          <a:xfrm>
            <a:off x="2666880" y="1676520"/>
            <a:ext cx="3657600" cy="1066680"/>
            <a:chOff x="2666880" y="1676520"/>
            <a:chExt cx="3657600" cy="1066680"/>
          </a:xfrm>
        </p:grpSpPr>
        <p:sp>
          <p:nvSpPr>
            <p:cNvPr id="282" name="Line 6"/>
            <p:cNvSpPr/>
            <p:nvPr/>
          </p:nvSpPr>
          <p:spPr>
            <a:xfrm>
              <a:off x="4648320" y="16765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7"/>
            <p:cNvSpPr/>
            <p:nvPr/>
          </p:nvSpPr>
          <p:spPr>
            <a:xfrm>
              <a:off x="2666880" y="236232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8"/>
            <p:cNvSpPr/>
            <p:nvPr/>
          </p:nvSpPr>
          <p:spPr>
            <a:xfrm>
              <a:off x="26668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9"/>
            <p:cNvSpPr/>
            <p:nvPr/>
          </p:nvSpPr>
          <p:spPr>
            <a:xfrm>
              <a:off x="63244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10"/>
          <p:cNvGrpSpPr/>
          <p:nvPr/>
        </p:nvGrpSpPr>
        <p:grpSpPr>
          <a:xfrm>
            <a:off x="1143000" y="3733920"/>
            <a:ext cx="2362320" cy="685800"/>
            <a:chOff x="1143000" y="3733920"/>
            <a:chExt cx="2362320" cy="685800"/>
          </a:xfrm>
        </p:grpSpPr>
        <p:sp>
          <p:nvSpPr>
            <p:cNvPr id="287" name="Line 11"/>
            <p:cNvSpPr/>
            <p:nvPr/>
          </p:nvSpPr>
          <p:spPr>
            <a:xfrm>
              <a:off x="2438280" y="37339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2"/>
            <p:cNvSpPr/>
            <p:nvPr/>
          </p:nvSpPr>
          <p:spPr>
            <a:xfrm>
              <a:off x="1143000" y="4038480"/>
              <a:ext cx="23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3"/>
            <p:cNvSpPr/>
            <p:nvPr/>
          </p:nvSpPr>
          <p:spPr>
            <a:xfrm>
              <a:off x="114300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4"/>
            <p:cNvSpPr/>
            <p:nvPr/>
          </p:nvSpPr>
          <p:spPr>
            <a:xfrm>
              <a:off x="350532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15"/>
          <p:cNvGrpSpPr/>
          <p:nvPr/>
        </p:nvGrpSpPr>
        <p:grpSpPr>
          <a:xfrm>
            <a:off x="5486400" y="3733920"/>
            <a:ext cx="2438280" cy="685800"/>
            <a:chOff x="5486400" y="3733920"/>
            <a:chExt cx="2438280" cy="685800"/>
          </a:xfrm>
        </p:grpSpPr>
        <p:sp>
          <p:nvSpPr>
            <p:cNvPr id="292" name="Line 16"/>
            <p:cNvSpPr/>
            <p:nvPr/>
          </p:nvSpPr>
          <p:spPr>
            <a:xfrm>
              <a:off x="6629400" y="37339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7"/>
            <p:cNvSpPr/>
            <p:nvPr/>
          </p:nvSpPr>
          <p:spPr>
            <a:xfrm>
              <a:off x="5486400" y="4038480"/>
              <a:ext cx="243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8"/>
            <p:cNvSpPr/>
            <p:nvPr/>
          </p:nvSpPr>
          <p:spPr>
            <a:xfrm>
              <a:off x="548640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9"/>
            <p:cNvSpPr/>
            <p:nvPr/>
          </p:nvSpPr>
          <p:spPr>
            <a:xfrm>
              <a:off x="792468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Text Box 20"/>
          <p:cNvSpPr/>
          <p:nvPr/>
        </p:nvSpPr>
        <p:spPr>
          <a:xfrm>
            <a:off x="1600200" y="26668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utotro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1"/>
          <p:cNvSpPr/>
          <p:nvPr/>
        </p:nvSpPr>
        <p:spPr>
          <a:xfrm>
            <a:off x="5257800" y="26668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Heterotro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2"/>
          <p:cNvSpPr/>
          <p:nvPr/>
        </p:nvSpPr>
        <p:spPr>
          <a:xfrm>
            <a:off x="511200" y="4419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to-aut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3"/>
          <p:cNvSpPr/>
          <p:nvPr/>
        </p:nvSpPr>
        <p:spPr>
          <a:xfrm>
            <a:off x="2797200" y="4419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emo-aut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4"/>
          <p:cNvSpPr/>
          <p:nvPr/>
        </p:nvSpPr>
        <p:spPr>
          <a:xfrm>
            <a:off x="7162920" y="44449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emo-Heter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5"/>
          <p:cNvSpPr/>
          <p:nvPr/>
        </p:nvSpPr>
        <p:spPr>
          <a:xfrm>
            <a:off x="4778280" y="44197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to-Heter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26"/>
          <p:cNvGrpSpPr/>
          <p:nvPr/>
        </p:nvGrpSpPr>
        <p:grpSpPr>
          <a:xfrm>
            <a:off x="1143000" y="3092400"/>
            <a:ext cx="6705360" cy="642600"/>
            <a:chOff x="1143000" y="3092400"/>
            <a:chExt cx="6705360" cy="642600"/>
          </a:xfrm>
        </p:grpSpPr>
        <p:sp>
          <p:nvSpPr>
            <p:cNvPr id="303" name="Text Box 27"/>
            <p:cNvSpPr/>
            <p:nvPr/>
          </p:nvSpPr>
          <p:spPr>
            <a:xfrm>
              <a:off x="1143000" y="3214800"/>
              <a:ext cx="2760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99"/>
                  </a:solidFill>
                  <a:latin typeface="Arial"/>
                </a:rPr>
                <a:t>CO</a:t>
              </a:r>
              <a:r>
                <a:rPr b="1" lang="en-GB" sz="2000" spc="-1" strike="noStrike" baseline="-25000">
                  <a:solidFill>
                    <a:srgbClr val="cc0099"/>
                  </a:solidFill>
                  <a:latin typeface="Arial"/>
                </a:rPr>
                <a:t>2</a:t>
              </a:r>
              <a:r>
                <a:rPr b="1" lang="en-GB" sz="1800" spc="-1" strike="noStrike">
                  <a:solidFill>
                    <a:srgbClr val="cc0099"/>
                  </a:solidFill>
                  <a:latin typeface="Arial"/>
                </a:rPr>
                <a:t> as Carbon Sou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28"/>
            <p:cNvSpPr/>
            <p:nvPr/>
          </p:nvSpPr>
          <p:spPr>
            <a:xfrm>
              <a:off x="5087160" y="3092400"/>
              <a:ext cx="276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99"/>
                  </a:solidFill>
                  <a:latin typeface="Arial"/>
                </a:rPr>
                <a:t>Organic compounds as Carbon Sou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Text Box 29"/>
          <p:cNvSpPr/>
          <p:nvPr/>
        </p:nvSpPr>
        <p:spPr>
          <a:xfrm>
            <a:off x="228600" y="5181480"/>
            <a:ext cx="1905120" cy="984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Light as energy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CO</a:t>
            </a:r>
            <a:r>
              <a:rPr b="1" lang="en-GB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0"/>
          <p:cNvSpPr/>
          <p:nvPr/>
        </p:nvSpPr>
        <p:spPr>
          <a:xfrm>
            <a:off x="2666880" y="5181480"/>
            <a:ext cx="1905120" cy="984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Chemicals a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energy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CO</a:t>
            </a:r>
            <a:r>
              <a:rPr b="1" lang="en-GB" sz="1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1"/>
          <p:cNvSpPr/>
          <p:nvPr/>
        </p:nvSpPr>
        <p:spPr>
          <a:xfrm>
            <a:off x="4876920" y="5257800"/>
            <a:ext cx="1752480" cy="1437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Light a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energy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Organic compounds 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2"/>
          <p:cNvSpPr/>
          <p:nvPr/>
        </p:nvSpPr>
        <p:spPr>
          <a:xfrm>
            <a:off x="7010280" y="5257800"/>
            <a:ext cx="1905120" cy="14378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Chemicals as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energy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- Organic compounds 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3"/>
          <p:cNvSpPr/>
          <p:nvPr/>
        </p:nvSpPr>
        <p:spPr>
          <a:xfrm>
            <a:off x="3352680" y="1143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Pro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4647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What are Prokaryotes?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ncludes two Major Domains: Archaea and 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karyotes are single-celled organisms that do not have a membrane-bound nucleus, and can live in nearly every environment on Ear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hough tiny, prokaryotes differ greatly in their genetic traits, their modes of nutritio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however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ir habitats are simi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genetic differences, prokaryotes are grouped in two domains: Domain Archaea and Domain Bac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>
            <a:off x="304920" y="106668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66880" y="152280"/>
            <a:ext cx="38102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1. Domain: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Archaea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496880"/>
            <a:ext cx="482436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rchaea are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extremophile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, “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مُحب للظروف القاسية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f extreme environments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and can be classified into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GB" sz="1900" spc="-1" strike="noStrike" u="sng">
                <a:solidFill>
                  <a:srgbClr val="ff0000"/>
                </a:solidFill>
                <a:uFillTx/>
                <a:latin typeface="Arial"/>
              </a:rPr>
              <a:t>Extreme halophiles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مُحب للملوحة</a:t>
            </a: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live in such saline places as the Great Salt Lake and the Dead Se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me species require an extremely salty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شديدة الملوحة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nvironment to grow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b)- </a:t>
            </a:r>
            <a:r>
              <a:rPr b="1" lang="en-GB" sz="1900" spc="-1" strike="noStrike" u="sng">
                <a:solidFill>
                  <a:srgbClr val="ff0000"/>
                </a:solidFill>
                <a:uFillTx/>
                <a:latin typeface="Arial"/>
              </a:rPr>
              <a:t>Extreme thermophiles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مُحب للحرارة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live in hot environment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The optimum temperatures for most thermophiles are 60 - 80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5243400" y="1341360"/>
            <a:ext cx="3900600" cy="4680000"/>
          </a:xfrm>
          <a:prstGeom prst="rect">
            <a:avLst/>
          </a:prstGeom>
          <a:ln w="0">
            <a:noFill/>
          </a:ln>
        </p:spPr>
      </p:pic>
      <p:sp>
        <p:nvSpPr>
          <p:cNvPr id="160" name="Line 6"/>
          <p:cNvSpPr/>
          <p:nvPr/>
        </p:nvSpPr>
        <p:spPr>
          <a:xfrm>
            <a:off x="304920" y="106668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2"/>
          <a:srcRect l="18610" t="8060" r="4064" b="0"/>
          <a:stretch/>
        </p:blipFill>
        <p:spPr>
          <a:xfrm>
            <a:off x="76320" y="76320"/>
            <a:ext cx="780840" cy="99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15"/>
          <p:cNvGrpSpPr/>
          <p:nvPr/>
        </p:nvGrpSpPr>
        <p:grpSpPr>
          <a:xfrm>
            <a:off x="838080" y="1905120"/>
            <a:ext cx="7696440" cy="4416480"/>
            <a:chOff x="838080" y="1905120"/>
            <a:chExt cx="7696440" cy="4416480"/>
          </a:xfrm>
        </p:grpSpPr>
        <p:pic>
          <p:nvPicPr>
            <p:cNvPr id="163" name="Picture 3" descr=""/>
            <p:cNvPicPr/>
            <p:nvPr/>
          </p:nvPicPr>
          <p:blipFill>
            <a:blip r:embed="rId1"/>
            <a:srcRect l="0" t="0" r="0" b="3787"/>
            <a:stretch/>
          </p:blipFill>
          <p:spPr>
            <a:xfrm>
              <a:off x="838080" y="1905120"/>
              <a:ext cx="7696440" cy="441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6"/>
            <p:cNvSpPr/>
            <p:nvPr/>
          </p:nvSpPr>
          <p:spPr>
            <a:xfrm>
              <a:off x="4191120" y="3749760"/>
              <a:ext cx="144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غشاء بلازم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4267080" y="4191120"/>
              <a:ext cx="152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جدار الخلو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3981600" y="2907000"/>
              <a:ext cx="83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شبه نوا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4038480" y="3318120"/>
              <a:ext cx="141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ريبوزوما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5006880" y="4648320"/>
              <a:ext cx="83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كبسول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3"/>
            <p:cNvSpPr/>
            <p:nvPr/>
          </p:nvSpPr>
          <p:spPr>
            <a:xfrm>
              <a:off x="1479600" y="4967280"/>
              <a:ext cx="83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أسوا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14"/>
          <p:cNvSpPr/>
          <p:nvPr/>
        </p:nvSpPr>
        <p:spPr>
          <a:xfrm>
            <a:off x="620640" y="118728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teria occur in many shapes and sizes. Bacteria of four shapes: rod-shaped, sphere-shaped, spiral-shaped, or filamentous-shap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6"/>
          <p:cNvSpPr/>
          <p:nvPr/>
        </p:nvSpPr>
        <p:spPr>
          <a:xfrm>
            <a:off x="3276720" y="152280"/>
            <a:ext cx="403848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2. Domain: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8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8"/>
          <p:cNvSpPr/>
          <p:nvPr/>
        </p:nvSpPr>
        <p:spPr>
          <a:xfrm>
            <a:off x="3048120" y="2023920"/>
            <a:ext cx="83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أهدا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Line 6"/>
          <p:cNvSpPr/>
          <p:nvPr/>
        </p:nvSpPr>
        <p:spPr>
          <a:xfrm>
            <a:off x="295200" y="112248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3"/>
          <p:cNvSpPr/>
          <p:nvPr/>
        </p:nvSpPr>
        <p:spPr>
          <a:xfrm>
            <a:off x="1574640" y="2774880"/>
            <a:ext cx="5867640" cy="2057400"/>
          </a:xfrm>
          <a:prstGeom prst="flowChartTerminator">
            <a:avLst/>
          </a:prstGeom>
          <a:gradFill rotWithShape="0">
            <a:gsLst>
              <a:gs pos="0">
                <a:srgbClr val="150015"/>
              </a:gs>
              <a:gs pos="50000">
                <a:srgbClr val="cc00cc"/>
              </a:gs>
              <a:gs pos="100000">
                <a:srgbClr val="150015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8"/>
          <p:cNvGrpSpPr/>
          <p:nvPr/>
        </p:nvGrpSpPr>
        <p:grpSpPr>
          <a:xfrm>
            <a:off x="1523880" y="2711520"/>
            <a:ext cx="5943600" cy="2133360"/>
            <a:chOff x="1523880" y="2711520"/>
            <a:chExt cx="5943600" cy="2133360"/>
          </a:xfrm>
        </p:grpSpPr>
        <p:sp>
          <p:nvSpPr>
            <p:cNvPr id="178" name="AutoShape 7"/>
            <p:cNvSpPr/>
            <p:nvPr/>
          </p:nvSpPr>
          <p:spPr>
            <a:xfrm>
              <a:off x="1600200" y="2711520"/>
              <a:ext cx="5867280" cy="2057400"/>
            </a:xfrm>
            <a:prstGeom prst="flowChartTerminator">
              <a:avLst/>
            </a:prstGeom>
            <a:solidFill>
              <a:srgbClr val="cc00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5"/>
            <p:cNvSpPr/>
            <p:nvPr/>
          </p:nvSpPr>
          <p:spPr>
            <a:xfrm>
              <a:off x="1523880" y="2940120"/>
              <a:ext cx="5791320" cy="190476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4"/>
          <p:cNvSpPr/>
          <p:nvPr/>
        </p:nvSpPr>
        <p:spPr>
          <a:xfrm>
            <a:off x="3124080" y="152280"/>
            <a:ext cx="381024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o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1638360" y="3041640"/>
            <a:ext cx="5562720" cy="1676520"/>
          </a:xfrm>
          <a:prstGeom prst="flowChartTerminator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9"/>
          <p:cNvSpPr/>
          <p:nvPr/>
        </p:nvSpPr>
        <p:spPr>
          <a:xfrm>
            <a:off x="1739880" y="3130560"/>
            <a:ext cx="5359320" cy="149868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0"/>
          <p:cNvSpPr/>
          <p:nvPr/>
        </p:nvSpPr>
        <p:spPr>
          <a:xfrm>
            <a:off x="1816200" y="3206880"/>
            <a:ext cx="5207040" cy="1346040"/>
          </a:xfrm>
          <a:prstGeom prst="flowChartTerminator">
            <a:avLst/>
          </a:prstGeom>
          <a:solidFill>
            <a:srgbClr val="66ff33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1"/>
          <p:cNvSpPr/>
          <p:nvPr/>
        </p:nvSpPr>
        <p:spPr>
          <a:xfrm>
            <a:off x="2806560" y="3444840"/>
            <a:ext cx="3517920" cy="776160"/>
          </a:xfrm>
          <a:prstGeom prst="cloudCallout">
            <a:avLst>
              <a:gd name="adj1" fmla="val -34564"/>
              <a:gd name="adj2" fmla="val -868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7"/>
          <p:cNvGrpSpPr/>
          <p:nvPr/>
        </p:nvGrpSpPr>
        <p:grpSpPr>
          <a:xfrm>
            <a:off x="6934320" y="1339920"/>
            <a:ext cx="1752480" cy="1523880"/>
            <a:chOff x="6934320" y="1339920"/>
            <a:chExt cx="1752480" cy="1523880"/>
          </a:xfrm>
        </p:grpSpPr>
        <p:sp>
          <p:nvSpPr>
            <p:cNvPr id="186" name="Line 15"/>
            <p:cNvSpPr/>
            <p:nvPr/>
          </p:nvSpPr>
          <p:spPr>
            <a:xfrm flipV="1">
              <a:off x="6934320" y="1949400"/>
              <a:ext cx="761760" cy="91440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6"/>
            <p:cNvSpPr/>
            <p:nvPr/>
          </p:nvSpPr>
          <p:spPr>
            <a:xfrm>
              <a:off x="7010280" y="13399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cc"/>
                  </a:solidFill>
                  <a:latin typeface="Arial"/>
                </a:rPr>
                <a:t>Capsu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22"/>
          <p:cNvGrpSpPr/>
          <p:nvPr/>
        </p:nvGrpSpPr>
        <p:grpSpPr>
          <a:xfrm>
            <a:off x="4952880" y="1339920"/>
            <a:ext cx="1676520" cy="1675800"/>
            <a:chOff x="4952880" y="1339920"/>
            <a:chExt cx="1676520" cy="1675800"/>
          </a:xfrm>
        </p:grpSpPr>
        <p:sp>
          <p:nvSpPr>
            <p:cNvPr id="189" name="Line 20"/>
            <p:cNvSpPr/>
            <p:nvPr/>
          </p:nvSpPr>
          <p:spPr>
            <a:xfrm flipV="1">
              <a:off x="4952880" y="1949040"/>
              <a:ext cx="685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1"/>
            <p:cNvSpPr/>
            <p:nvPr/>
          </p:nvSpPr>
          <p:spPr>
            <a:xfrm>
              <a:off x="4952880" y="13399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3300"/>
                  </a:solidFill>
                  <a:latin typeface="Arial"/>
                </a:rPr>
                <a:t>Cell W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25"/>
          <p:cNvGrpSpPr/>
          <p:nvPr/>
        </p:nvGrpSpPr>
        <p:grpSpPr>
          <a:xfrm>
            <a:off x="2438280" y="1339920"/>
            <a:ext cx="2057400" cy="1790280"/>
            <a:chOff x="2438280" y="1339920"/>
            <a:chExt cx="2057400" cy="1790280"/>
          </a:xfrm>
        </p:grpSpPr>
        <p:sp>
          <p:nvSpPr>
            <p:cNvPr id="192" name="Line 23"/>
            <p:cNvSpPr/>
            <p:nvPr/>
          </p:nvSpPr>
          <p:spPr>
            <a:xfrm flipV="1">
              <a:off x="2819520" y="1987200"/>
              <a:ext cx="457200" cy="1143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24"/>
            <p:cNvSpPr/>
            <p:nvPr/>
          </p:nvSpPr>
          <p:spPr>
            <a:xfrm>
              <a:off x="2438280" y="1339920"/>
              <a:ext cx="205740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Plasma membra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28"/>
          <p:cNvGrpSpPr/>
          <p:nvPr/>
        </p:nvGrpSpPr>
        <p:grpSpPr>
          <a:xfrm>
            <a:off x="4876920" y="4311720"/>
            <a:ext cx="2057400" cy="2013840"/>
            <a:chOff x="4876920" y="4311720"/>
            <a:chExt cx="2057400" cy="2013840"/>
          </a:xfrm>
        </p:grpSpPr>
        <p:sp>
          <p:nvSpPr>
            <p:cNvPr id="195" name="Line 26"/>
            <p:cNvSpPr/>
            <p:nvPr/>
          </p:nvSpPr>
          <p:spPr>
            <a:xfrm flipH="1">
              <a:off x="5791320" y="4311720"/>
              <a:ext cx="304560" cy="11430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7"/>
            <p:cNvSpPr/>
            <p:nvPr/>
          </p:nvSpPr>
          <p:spPr>
            <a:xfrm>
              <a:off x="4876920" y="537840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Cytoplasm (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ytosol</a:t>
              </a: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32"/>
          <p:cNvGrpSpPr/>
          <p:nvPr/>
        </p:nvGrpSpPr>
        <p:grpSpPr>
          <a:xfrm>
            <a:off x="2895480" y="3854520"/>
            <a:ext cx="2057400" cy="2044440"/>
            <a:chOff x="2895480" y="3854520"/>
            <a:chExt cx="2057400" cy="2044440"/>
          </a:xfrm>
        </p:grpSpPr>
        <p:sp>
          <p:nvSpPr>
            <p:cNvPr id="198" name="Line 30"/>
            <p:cNvSpPr/>
            <p:nvPr/>
          </p:nvSpPr>
          <p:spPr>
            <a:xfrm flipH="1">
              <a:off x="3809520" y="3854520"/>
              <a:ext cx="68580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31"/>
            <p:cNvSpPr/>
            <p:nvPr/>
          </p:nvSpPr>
          <p:spPr>
            <a:xfrm>
              <a:off x="2895480" y="53784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Nucleo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53"/>
          <p:cNvGrpSpPr/>
          <p:nvPr/>
        </p:nvGrpSpPr>
        <p:grpSpPr>
          <a:xfrm>
            <a:off x="2133720" y="3306600"/>
            <a:ext cx="4495320" cy="1219320"/>
            <a:chOff x="2133720" y="3306600"/>
            <a:chExt cx="4495320" cy="1219320"/>
          </a:xfrm>
        </p:grpSpPr>
        <p:sp>
          <p:nvSpPr>
            <p:cNvPr id="201" name="Oval 39"/>
            <p:cNvSpPr/>
            <p:nvPr/>
          </p:nvSpPr>
          <p:spPr>
            <a:xfrm>
              <a:off x="2133720" y="34588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40"/>
            <p:cNvSpPr/>
            <p:nvPr/>
          </p:nvSpPr>
          <p:spPr>
            <a:xfrm>
              <a:off x="2438280" y="414468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41"/>
            <p:cNvSpPr/>
            <p:nvPr/>
          </p:nvSpPr>
          <p:spPr>
            <a:xfrm>
              <a:off x="2209680" y="38401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42"/>
            <p:cNvSpPr/>
            <p:nvPr/>
          </p:nvSpPr>
          <p:spPr>
            <a:xfrm>
              <a:off x="4952880" y="4449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43"/>
            <p:cNvSpPr/>
            <p:nvPr/>
          </p:nvSpPr>
          <p:spPr>
            <a:xfrm>
              <a:off x="3657600" y="42973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44"/>
            <p:cNvSpPr/>
            <p:nvPr/>
          </p:nvSpPr>
          <p:spPr>
            <a:xfrm>
              <a:off x="3047760" y="43732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45"/>
            <p:cNvSpPr/>
            <p:nvPr/>
          </p:nvSpPr>
          <p:spPr>
            <a:xfrm>
              <a:off x="274320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46"/>
            <p:cNvSpPr/>
            <p:nvPr/>
          </p:nvSpPr>
          <p:spPr>
            <a:xfrm>
              <a:off x="518148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47"/>
            <p:cNvSpPr/>
            <p:nvPr/>
          </p:nvSpPr>
          <p:spPr>
            <a:xfrm>
              <a:off x="4419360" y="33066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48"/>
            <p:cNvSpPr/>
            <p:nvPr/>
          </p:nvSpPr>
          <p:spPr>
            <a:xfrm>
              <a:off x="358128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49"/>
            <p:cNvSpPr/>
            <p:nvPr/>
          </p:nvSpPr>
          <p:spPr>
            <a:xfrm>
              <a:off x="6476760" y="39924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50"/>
            <p:cNvSpPr/>
            <p:nvPr/>
          </p:nvSpPr>
          <p:spPr>
            <a:xfrm>
              <a:off x="6476760" y="36115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51"/>
            <p:cNvSpPr/>
            <p:nvPr/>
          </p:nvSpPr>
          <p:spPr>
            <a:xfrm>
              <a:off x="5562360" y="42973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52"/>
            <p:cNvSpPr/>
            <p:nvPr/>
          </p:nvSpPr>
          <p:spPr>
            <a:xfrm>
              <a:off x="6019560" y="33066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58"/>
          <p:cNvGrpSpPr/>
          <p:nvPr/>
        </p:nvGrpSpPr>
        <p:grpSpPr>
          <a:xfrm>
            <a:off x="304920" y="3916080"/>
            <a:ext cx="2146320" cy="1816200"/>
            <a:chOff x="304920" y="3916080"/>
            <a:chExt cx="2146320" cy="1816200"/>
          </a:xfrm>
        </p:grpSpPr>
        <p:sp>
          <p:nvSpPr>
            <p:cNvPr id="216" name="Text Box 54"/>
            <p:cNvSpPr/>
            <p:nvPr/>
          </p:nvSpPr>
          <p:spPr>
            <a:xfrm>
              <a:off x="304920" y="52117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Ribosom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55"/>
            <p:cNvSpPr/>
            <p:nvPr/>
          </p:nvSpPr>
          <p:spPr>
            <a:xfrm flipV="1">
              <a:off x="1384560" y="4208400"/>
              <a:ext cx="1066680" cy="11426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57"/>
            <p:cNvSpPr/>
            <p:nvPr/>
          </p:nvSpPr>
          <p:spPr>
            <a:xfrm flipV="1">
              <a:off x="1371960" y="3916080"/>
              <a:ext cx="838080" cy="1447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9" name="Picture 46" descr=""/>
          <p:cNvPicPr/>
          <p:nvPr/>
        </p:nvPicPr>
        <p:blipFill>
          <a:blip r:embed="rId2"/>
          <a:srcRect l="18603" t="8072" r="4056" b="0"/>
          <a:stretch/>
        </p:blipFill>
        <p:spPr>
          <a:xfrm>
            <a:off x="76320" y="76320"/>
            <a:ext cx="91440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7631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lnSpc>
                <a:spcPct val="8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teria occur in many shapes and sizes. Most bacteria have one of three basic shapes: rod-shaped, sphere-shaped, or spiral-shap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iral shap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cteria in the form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pirill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ingular, spirillum) or vibrio (comma lik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here-shap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cteria are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cci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ingular, coccus). An example of cocci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icrococcus lute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c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single or aggregate cells in different sha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od-shap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cteria are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acilli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ingular, bacillus). An example of bacilli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scherichia col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cill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single or aggregate cells in different shapes al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hapes of Bacteria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2" name="Picture 9" descr="p2"/>
          <p:cNvPicPr/>
          <p:nvPr/>
        </p:nvPicPr>
        <p:blipFill>
          <a:blip r:embed="rId1"/>
          <a:stretch/>
        </p:blipFill>
        <p:spPr>
          <a:xfrm>
            <a:off x="228600" y="4178160"/>
            <a:ext cx="8610480" cy="2557440"/>
          </a:xfrm>
          <a:prstGeom prst="rect">
            <a:avLst/>
          </a:prstGeom>
          <a:ln w="0">
            <a:noFill/>
          </a:ln>
        </p:spPr>
      </p:pic>
      <p:sp>
        <p:nvSpPr>
          <p:cNvPr id="223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2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04920" y="1676520"/>
            <a:ext cx="8229600" cy="21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tool for identifying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عري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a, based on differences in their cell wa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)- Gram-positiv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ram +v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) bacteri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ir cell walls hav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arge amounts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ar-EG" sz="1600" spc="-1" strike="noStrike" u="sng">
                <a:solidFill>
                  <a:srgbClr val="000000"/>
                </a:solidFill>
                <a:uFillTx/>
                <a:latin typeface="Arial"/>
              </a:rPr>
              <a:t>كمية كبيرة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of peptidoglyca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react wit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m’s stain (appear </a:t>
            </a:r>
            <a:r>
              <a:rPr b="1" lang="en-GB" sz="2000" spc="-1" strike="noStrike">
                <a:solidFill>
                  <a:srgbClr val="990099"/>
                </a:solidFill>
                <a:latin typeface="Arial"/>
              </a:rPr>
              <a:t>violet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ined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ـُصبغ بنفسج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rcRect l="0" t="0" r="0" b="51004"/>
          <a:stretch/>
        </p:blipFill>
        <p:spPr>
          <a:xfrm>
            <a:off x="1523880" y="4014720"/>
            <a:ext cx="6858000" cy="26910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981080" y="-166680"/>
            <a:ext cx="5943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Gram’s stain: </a:t>
            </a:r>
            <a:r>
              <a:rPr b="1" lang="ar-EG" sz="3600" spc="-1" strike="noStrike">
                <a:solidFill>
                  <a:srgbClr val="0000ff"/>
                </a:solidFill>
                <a:latin typeface="Arial"/>
              </a:rPr>
              <a:t>صبغة جرام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7200" y="171612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B)- Gram-negativ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m -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cteri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ir cell walls hav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mall amount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  </a:t>
            </a:r>
            <a:r>
              <a:rPr b="1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peptidoglyc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, do not react or very weakly react with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m’s stain (appea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d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ined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تصبغ بالأحم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rcRect l="0" t="48410" r="0" b="3184"/>
          <a:stretch/>
        </p:blipFill>
        <p:spPr>
          <a:xfrm>
            <a:off x="609480" y="3693960"/>
            <a:ext cx="7772400" cy="301176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2209680" y="-136440"/>
            <a:ext cx="5943600" cy="115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Arial"/>
              </a:rPr>
              <a:t>The Gram’s stain: </a:t>
            </a:r>
            <a:r>
              <a:rPr b="1" lang="ar-EG" sz="3500" spc="-1" strike="noStrike">
                <a:solidFill>
                  <a:srgbClr val="0000ff"/>
                </a:solidFill>
                <a:latin typeface="Arial"/>
              </a:rPr>
              <a:t>صبغة جرام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Line 6"/>
          <p:cNvSpPr/>
          <p:nvPr/>
        </p:nvSpPr>
        <p:spPr>
          <a:xfrm>
            <a:off x="380880" y="111456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76320" y="7632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Gram S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species of bacteria are classified into two categories based on the structure of their cell walls as determined by a technique called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ram st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ram-positive bacte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a thick layer of peptidoglycan in their cell wall,  and they appea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iol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der a microscope after the Gram-staining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ram-negative bacte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a thin layer of peptidoglycan in their cell wall, and they appear reddish-pink under a microscope after the Gram-staining proced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6"/>
          <p:cNvSpPr/>
          <p:nvPr/>
        </p:nvSpPr>
        <p:spPr>
          <a:xfrm>
            <a:off x="295200" y="105732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9360" y="28440"/>
            <a:ext cx="971640" cy="106704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1"/>
          <p:cNvSpPr/>
          <p:nvPr/>
        </p:nvSpPr>
        <p:spPr>
          <a:xfrm>
            <a:off x="2057400" y="-383040"/>
            <a:ext cx="59436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Arial"/>
              </a:rPr>
              <a:t>The Gram’s stain: </a:t>
            </a:r>
            <a:r>
              <a:rPr b="1" lang="ar-EG" sz="3500" spc="-1" strike="noStrike">
                <a:solidFill>
                  <a:srgbClr val="0000ff"/>
                </a:solidFill>
                <a:latin typeface="Arial"/>
              </a:rPr>
              <a:t>صبغة جرام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HP</cp:lastModifiedBy>
  <dcterms:modified xsi:type="dcterms:W3CDTF">2014-01-07T15:40:28Z</dcterms:modified>
  <cp:revision>4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5C03D313-4C65-4F53-AF3D-EFEC985F8540</vt:lpwstr>
  </property>
  <property fmtid="{D5CDD505-2E9C-101B-9397-08002B2CF9AE}" pid="3" name="ArticulatePath">
    <vt:lpwstr>Lecture 5</vt:lpwstr>
  </property>
</Properties>
</file>