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874-4AF2-4673-9CBA-F11C05DD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5B98-0BD9-4A73-90F0-ABC5A226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1D9-477D-405A-B8C8-B1EA3AB7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708-C984-405F-A8AD-1518C26E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EC43-4CEE-4870-ABCE-C331BDCE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B5BF-DB91-4268-A0FF-3884ED11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1EC9-526F-4FB6-91AF-00BE4C4A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F423-099F-407D-9ACA-D02C6230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F9E8-6427-46EE-850F-B28DE25D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8466-72A1-4225-916C-EB61040B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4A5A-080F-40BE-B968-876C0A33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0FD-DCD8-43E4-8217-F35CACE3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29EA-5DF6-4880-98BA-CBF27165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2AAC-1353-4648-B1A2-EC6FA3AE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63B8-78E6-4EAF-8C73-1C19013E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6CD8-CCD9-47F7-BA86-A7BCA606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F196-E7DA-40CC-8B01-C5EAC251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47F-BBE1-4EAD-8DE9-07E2844F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B12-DE46-4E83-AF04-B334EF8E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91FF-38A5-42ED-AFEF-54BE5CCC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BB1-A12B-4E42-9C05-15D55F0D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EB2-83F5-43DA-BDDB-79C76D08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C91-15F9-4EC3-AA60-4542D642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9A6-EF1D-4149-AAF7-FE9B5F26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58C5-46A1-4964-9555-AF9D08340570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9D79-9F1F-4B80-9D20-6E3CCF5F3B1A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ي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9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211640" y="3352680"/>
            <a:ext cx="4856040" cy="3338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بدائيات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9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nthesiz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676520" y="90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ic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511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2797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778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What are Prokaryotes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20640" y="1187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occur in many shapes and sizes. Bacteria of four shapes: rod-shaped, sphere-shaped, spiral-shaped, or filamentous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048120" y="202392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هد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8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6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9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2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5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8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1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6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ingle or aggregate cells in different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il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ingle or aggregate cells in different shape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3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صبغ بالأح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40:28Z</dcterms:modified>
  <cp:revision>4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C03D313-4C65-4F53-AF3D-EFEC985F8540</vt:lpwstr>
  </property>
  <property fmtid="{D5CDD505-2E9C-101B-9397-08002B2CF9AE}" pid="3" name="ArticulatePath">
    <vt:lpwstr>Lecture 5</vt:lpwstr>
  </property>
</Properties>
</file>