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9589-7859-4FA9-9437-4919A166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CDA-EBC5-4FAD-BA1E-5872D686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A03F-456C-4F58-B168-D10B3574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D00D-7CD1-45D5-AFC0-B6CCA426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35E0-78AE-4F1F-83CF-0D1E22B5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D648-E7B4-42DE-B7BD-B84F66C4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7320-F64D-4682-916A-B7F35FB6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4974-3047-44FE-B2E1-35C10D34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49A4-04F3-4CCE-BD26-82E840F9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FD7D-AAA3-4B5D-AA23-4EE455CF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9C50-4C9D-44F9-B373-E5956018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DE48-1F29-4C4C-9E5D-DF7BB847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54C6-03EA-4E81-9BC1-EA7FEB2C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62A2-E808-422E-AACB-00EE0D92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527F-F37D-4E67-9C84-725A7024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9D38-13A4-432C-B906-F809F08C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9D89-4C64-4287-AE86-001377FD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214-EEFF-4EED-9E51-5DF83025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CBD-6065-4384-8952-D75027E2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CDA3-FF7E-43B8-933E-F4BC044D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4B5-8CC3-4C3C-B1A8-20AE1696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1C0-FC57-4E52-AE7E-C93C2835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E2F7-3BD8-4652-836F-C36C42EF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ACC3-AD57-4E35-96CB-AE609257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E2E7-59DB-41B2-A5D2-E359621A1E32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1B3F-D559-4705-92F9-30AA419E76D6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76800"/>
          </a:xfrm>
          <a:prstGeom prst="rect">
            <a:avLst/>
          </a:prstGeom>
          <a:ln w="0">
            <a:noFill/>
          </a:ln>
        </p:spPr>
      </p:pic>
      <p:sp>
        <p:nvSpPr>
          <p:cNvPr id="150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43828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A)-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rcRect l="18582" t="8063" r="4043" b="0"/>
          <a:stretch/>
        </p:blipFill>
        <p:spPr>
          <a:xfrm>
            <a:off x="76320" y="76320"/>
            <a:ext cx="12618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257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ff"/>
                </a:solidFill>
                <a:latin typeface="Arial"/>
              </a:rPr>
              <a:t>Gram Staining of Bacteria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+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viol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–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small amount or no peptidoglycan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stain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m-negative species are pathogenic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ore threate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أكثر خطو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gram-positiv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bacteria are commonly more resistant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كثر ممان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 to antibio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لمضادات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يو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10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prokaryotes (bacteria)                                                   secrete a sticky                                              protective layer called                                 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tside                                                           the cell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has the                                                        following func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ظائ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here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ثبي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s to their substratu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طح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bacterial resi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وم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host defens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اعة العائ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tick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لصق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en live i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lo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م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029200" y="2090880"/>
            <a:ext cx="4038480" cy="27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6" name="Text Box 6"/>
          <p:cNvSpPr/>
          <p:nvPr/>
        </p:nvSpPr>
        <p:spPr>
          <a:xfrm>
            <a:off x="20574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I - the bacterial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22960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intai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افظ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shape of the cell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ffords physical protection </a:t>
            </a:r>
            <a:r>
              <a:rPr b="1" lang="ar-EG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حماية الطبيعية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وف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events the cell from burst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فجا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 a hypotonic environment 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البيئة ذات 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</a:rPr>
              <a:t>التركيز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 الأسموزى المنخفض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bacterial cell walls contain </a:t>
            </a:r>
            <a:r>
              <a:rPr b="1" lang="en-US" sz="30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walls of Archaea lac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فـتـقـ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ptidogly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981080" y="41112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pperplate Gothic Bold"/>
              </a:rPr>
              <a:t>II - The bacterial cell w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al Characteristics of a Bacterial Ce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p5"/>
          <p:cNvPicPr/>
          <p:nvPr/>
        </p:nvPicPr>
        <p:blipFill>
          <a:blip r:embed="rId2"/>
          <a:stretch/>
        </p:blipFill>
        <p:spPr>
          <a:xfrm>
            <a:off x="152280" y="1380960"/>
            <a:ext cx="8839440" cy="4984920"/>
          </a:xfrm>
          <a:prstGeom prst="rect">
            <a:avLst/>
          </a:prstGeom>
          <a:ln w="0">
            <a:noFill/>
          </a:ln>
        </p:spPr>
      </p:pic>
      <p:sp>
        <p:nvSpPr>
          <p:cNvPr id="259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152280" y="2108160"/>
            <a:ext cx="822960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reprodu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ـتـكاث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sexuall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جنس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inary fiss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قسـام الثـنائ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الب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ingle cell produc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a colony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4211640" y="3352680"/>
            <a:ext cx="4856040" cy="3338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9"/>
          <p:cNvSpPr/>
          <p:nvPr/>
        </p:nvSpPr>
        <p:spPr>
          <a:xfrm>
            <a:off x="2514600" y="152280"/>
            <a:ext cx="4191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Reproduction of Bacteria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التكاثر ف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ي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البكت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2590920" y="228600"/>
            <a:ext cx="510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ي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ea typeface="Al-Mothnna"/>
              </a:rPr>
              <a:t> بدائيات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04920" y="4208400"/>
            <a:ext cx="7772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are grouped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صُنٍفـَ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o four categories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ording to how they obtain energy and carb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04920" y="25272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trition refers to how an organism obtains energy and a carbon source from the environment to build the organic molecules of its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457200" y="1343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"/>
          <p:cNvPicPr/>
          <p:nvPr/>
        </p:nvPicPr>
        <p:blipFill>
          <a:blip r:embed="rId1"/>
          <a:srcRect l="18598" t="8074" r="4036" b="0"/>
          <a:stretch/>
        </p:blipFill>
        <p:spPr>
          <a:xfrm>
            <a:off x="76320" y="76320"/>
            <a:ext cx="117936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76320" y="2158920"/>
            <a:ext cx="8991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Pho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ضو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Chem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كيميا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chemicals in thei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Au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ذات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Heterotroph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عدد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organic nutrients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590920" y="76320"/>
            <a:ext cx="43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utrition of Prokaryot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EG" sz="24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ى 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9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autotroph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 energ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 carbon sour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ynthesiz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تخل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organic compound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aut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emical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in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heter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carbon sourc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876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heterotroph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كيميا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source for both energy and carbo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133720" y="304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four major modes of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676520" y="903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karyotic modes of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60948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Carbon source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Energy sour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an be used       by a prokaryotic organism to synthesize organic comp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5"/>
          <p:cNvGrpSpPr/>
          <p:nvPr/>
        </p:nvGrpSpPr>
        <p:grpSpPr>
          <a:xfrm>
            <a:off x="2666880" y="1676520"/>
            <a:ext cx="3657600" cy="1066680"/>
            <a:chOff x="2666880" y="1676520"/>
            <a:chExt cx="3657600" cy="1066680"/>
          </a:xfrm>
        </p:grpSpPr>
        <p:sp>
          <p:nvSpPr>
            <p:cNvPr id="282" name="Line 6"/>
            <p:cNvSpPr/>
            <p:nvPr/>
          </p:nvSpPr>
          <p:spPr>
            <a:xfrm>
              <a:off x="4648320" y="1676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7"/>
            <p:cNvSpPr/>
            <p:nvPr/>
          </p:nvSpPr>
          <p:spPr>
            <a:xfrm>
              <a:off x="2666880" y="2362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8"/>
            <p:cNvSpPr/>
            <p:nvPr/>
          </p:nvSpPr>
          <p:spPr>
            <a:xfrm>
              <a:off x="26668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9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1143000" y="3733920"/>
            <a:ext cx="2362320" cy="685800"/>
            <a:chOff x="1143000" y="3733920"/>
            <a:chExt cx="2362320" cy="685800"/>
          </a:xfrm>
        </p:grpSpPr>
        <p:sp>
          <p:nvSpPr>
            <p:cNvPr id="287" name="Line 11"/>
            <p:cNvSpPr/>
            <p:nvPr/>
          </p:nvSpPr>
          <p:spPr>
            <a:xfrm>
              <a:off x="243828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2"/>
            <p:cNvSpPr/>
            <p:nvPr/>
          </p:nvSpPr>
          <p:spPr>
            <a:xfrm>
              <a:off x="1143000" y="4038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3"/>
            <p:cNvSpPr/>
            <p:nvPr/>
          </p:nvSpPr>
          <p:spPr>
            <a:xfrm>
              <a:off x="11430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"/>
            <p:cNvSpPr/>
            <p:nvPr/>
          </p:nvSpPr>
          <p:spPr>
            <a:xfrm>
              <a:off x="3505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5"/>
          <p:cNvGrpSpPr/>
          <p:nvPr/>
        </p:nvGrpSpPr>
        <p:grpSpPr>
          <a:xfrm>
            <a:off x="5486400" y="3733920"/>
            <a:ext cx="2438280" cy="685800"/>
            <a:chOff x="5486400" y="3733920"/>
            <a:chExt cx="2438280" cy="685800"/>
          </a:xfrm>
        </p:grpSpPr>
        <p:sp>
          <p:nvSpPr>
            <p:cNvPr id="292" name="Line 16"/>
            <p:cNvSpPr/>
            <p:nvPr/>
          </p:nvSpPr>
          <p:spPr>
            <a:xfrm>
              <a:off x="662940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7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>
              <a:off x="5486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9"/>
            <p:cNvSpPr/>
            <p:nvPr/>
          </p:nvSpPr>
          <p:spPr>
            <a:xfrm>
              <a:off x="79246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20"/>
          <p:cNvSpPr/>
          <p:nvPr/>
        </p:nvSpPr>
        <p:spPr>
          <a:xfrm>
            <a:off x="1600200" y="2666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5112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279720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7162920" y="444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47782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6"/>
          <p:cNvGrpSpPr/>
          <p:nvPr/>
        </p:nvGrpSpPr>
        <p:grpSpPr>
          <a:xfrm>
            <a:off x="1143000" y="3092400"/>
            <a:ext cx="6705360" cy="642600"/>
            <a:chOff x="1143000" y="3092400"/>
            <a:chExt cx="6705360" cy="642600"/>
          </a:xfrm>
        </p:grpSpPr>
        <p:sp>
          <p:nvSpPr>
            <p:cNvPr id="303" name="Text Box 27"/>
            <p:cNvSpPr/>
            <p:nvPr/>
          </p:nvSpPr>
          <p:spPr>
            <a:xfrm>
              <a:off x="1143000" y="3214800"/>
              <a:ext cx="276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CO</a:t>
              </a:r>
              <a:r>
                <a:rPr b="1" lang="en-GB" sz="2000" spc="-1" strike="noStrike" baseline="-25000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8"/>
            <p:cNvSpPr/>
            <p:nvPr/>
          </p:nvSpPr>
          <p:spPr>
            <a:xfrm>
              <a:off x="5087160" y="3092400"/>
              <a:ext cx="27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Organic compounds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29"/>
          <p:cNvSpPr/>
          <p:nvPr/>
        </p:nvSpPr>
        <p:spPr>
          <a:xfrm>
            <a:off x="22860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 energy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266688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4876920" y="5257800"/>
            <a:ext cx="175248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2"/>
          <p:cNvSpPr/>
          <p:nvPr/>
        </p:nvSpPr>
        <p:spPr>
          <a:xfrm>
            <a:off x="7010280" y="5257800"/>
            <a:ext cx="190512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3"/>
          <p:cNvSpPr/>
          <p:nvPr/>
        </p:nvSpPr>
        <p:spPr>
          <a:xfrm>
            <a:off x="33526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What are Prokaryotes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ncludes two Major Domains: Archaea and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karyotes are single-celled organisms that do not have a membrane-bound nucleus, and can live in nearly every environment on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tiny, prokaryotes differ greatly in their genetic traits, their modes of nutri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however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ir habitats are 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genetic differences, prokaryotes are grouped in two domains: Domain Archaea and Domain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3810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. Domain: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Archaea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496880"/>
            <a:ext cx="4824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aea are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xtremophil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ظروف القاسي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extreme environments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and can be classified in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hal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ملوحة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ve in such saline places as the Great Salt Lake and the Dead S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 species require an extremely salty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شديدة الملوح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vironment to gro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therm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حرار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ve in hot environ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optimum temperatures for most thermophiles are 60 - 8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5"/>
          <p:cNvGrpSpPr/>
          <p:nvPr/>
        </p:nvGrpSpPr>
        <p:grpSpPr>
          <a:xfrm>
            <a:off x="838080" y="1905120"/>
            <a:ext cx="7696440" cy="4416480"/>
            <a:chOff x="838080" y="1905120"/>
            <a:chExt cx="7696440" cy="441648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rcRect l="0" t="0" r="0" b="3787"/>
            <a:stretch/>
          </p:blipFill>
          <p:spPr>
            <a:xfrm>
              <a:off x="838080" y="1905120"/>
              <a:ext cx="7696440" cy="44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6"/>
            <p:cNvSpPr/>
            <p:nvPr/>
          </p:nvSpPr>
          <p:spPr>
            <a:xfrm>
              <a:off x="4191120" y="3749760"/>
              <a:ext cx="14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غشاء بلازم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67080" y="41911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جدار الخل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3981600" y="290700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شبه نوا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038480" y="331812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ريبوز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5006880" y="464832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بسو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1479600" y="496728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سوا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4"/>
          <p:cNvSpPr/>
          <p:nvPr/>
        </p:nvSpPr>
        <p:spPr>
          <a:xfrm>
            <a:off x="620640" y="11872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occur in many shapes and sizes. Bacteria of four shapes: rod-shaped, sphere-shaped, spiral-shaped, or filamentous-sh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3276720" y="152280"/>
            <a:ext cx="403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2. Domain: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3048120" y="2023920"/>
            <a:ext cx="8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هد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6"/>
          <p:cNvSpPr/>
          <p:nvPr/>
        </p:nvSpPr>
        <p:spPr>
          <a:xfrm>
            <a:off x="295200" y="11224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178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"/>
          <p:cNvSpPr/>
          <p:nvPr/>
        </p:nvSpPr>
        <p:spPr>
          <a:xfrm>
            <a:off x="3124080" y="152280"/>
            <a:ext cx="38102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186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189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192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195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198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201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216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46" descr=""/>
          <p:cNvPicPr/>
          <p:nvPr/>
        </p:nvPicPr>
        <p:blipFill>
          <a:blip r:embed="rId2"/>
          <a:srcRect l="18603" t="8072" r="4056" b="0"/>
          <a:stretch/>
        </p:blipFill>
        <p:spPr>
          <a:xfrm>
            <a:off x="76320" y="763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 occur in many shapes and sizes. Most bacteria have one of three basic shapes: rod-shaped, sphere-shaped, or spiral-sha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iral 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in the form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rill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spirillum) or vibrio (comma lik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here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cc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coccus). An example of cocc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rococcus lute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ingle or aggregate cells in different sh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d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cill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bacillus). An example of bacill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cil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ingle or aggregate cells in different shapes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apes of Bacteri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2" name="Picture 9" descr="p2"/>
          <p:cNvPicPr/>
          <p:nvPr/>
        </p:nvPicPr>
        <p:blipFill>
          <a:blip r:embed="rId1"/>
          <a:stretch/>
        </p:blipFill>
        <p:spPr>
          <a:xfrm>
            <a:off x="228600" y="4178160"/>
            <a:ext cx="8610480" cy="2557440"/>
          </a:xfrm>
          <a:prstGeom prst="rect">
            <a:avLst/>
          </a:prstGeom>
          <a:ln w="0">
            <a:noFill/>
          </a:ln>
        </p:spPr>
      </p:pic>
      <p:sp>
        <p:nvSpPr>
          <p:cNvPr id="223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tool for identifying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عري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كمية كبيرة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ـُصبغ بنفس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52388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981080" y="-166680"/>
            <a:ext cx="5943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6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7161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 amou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تصبغ بالأحم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609480" y="3693960"/>
            <a:ext cx="7772400" cy="3011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209680" y="-136440"/>
            <a:ext cx="59436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Gram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pecies of bacteria are classified into two categories based on the structure of their cell walls as determined by a technique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m st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posi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ck layer of peptidoglycan in their cell wall,  and they appea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io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der a microscope after the Gram-staining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nega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n layer of peptidoglycan in their cell wall, and they appear reddish-pink under a microscope after the Gram-staining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1"/>
          <p:cNvSpPr/>
          <p:nvPr/>
        </p:nvSpPr>
        <p:spPr>
          <a:xfrm>
            <a:off x="2057400" y="-383040"/>
            <a:ext cx="594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40:28Z</dcterms:modified>
  <cp:revision>4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C03D313-4C65-4F53-AF3D-EFEC985F8540</vt:lpwstr>
  </property>
  <property fmtid="{D5CDD505-2E9C-101B-9397-08002B2CF9AE}" pid="3" name="ArticulatePath">
    <vt:lpwstr>Lecture 5</vt:lpwstr>
  </property>
</Properties>
</file>