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37DE-A1AB-4030-8047-D24E8F70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53F-EB3A-4EE8-AB5F-97DFE272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FB7A-D7B0-4DAD-B038-B2866433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FEBB-D465-46E2-965A-2622F319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1267-763C-43AB-9BB4-3D9406BF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944E-9936-45A1-A3E8-49F67B27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914C-67A5-4AD0-8838-9ED148F0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5367-896C-4EA8-B92C-170EBE1F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798F-90A1-464A-B981-5978657F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B56D-8AFF-4FBF-BFFF-F6C2FDA8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53D8-735B-4A98-9269-532600DB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A58-1CD2-4B69-ACF9-B93ECC96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3D54-620A-49CB-B1E9-CC7F022F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844B-278C-4A7D-AB8C-FBF8EF13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2BF6-C34A-4B2E-AF09-00C1F5D3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9A4F-0219-4958-BD60-DD0E9653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F0DF-F81A-4CCC-AF6C-8E327157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819-A8B6-43AC-B326-B7FCF5E7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5E7-C30F-4D41-919E-501DE076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FB2-DA30-48AB-8E0D-1ED89CEE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B67-D78D-4871-BB75-640EF267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D28-9E0A-4FCA-A8FD-045380D7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26D-7E8F-458F-AF75-63A137FF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C4A-35A4-4C51-97C9-E9ADD7D1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6D80-3632-4D30-89F2-C38F414A20BC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E5C0-69E2-43A3-B3C0-43D6ED398450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of them are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non-pathogen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ير ممرضة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(no staining)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of them are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pathogen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الحيات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acterial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as 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5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ط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8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152280" y="1143000"/>
            <a:ext cx="84582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1981080" y="3271680"/>
            <a:ext cx="5105520" cy="3510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الأحياء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الأحياء الدقي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72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synthesis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676520" y="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e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1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6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1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2"/>
          <p:cNvSpPr/>
          <p:nvPr/>
        </p:nvSpPr>
        <p:spPr>
          <a:xfrm>
            <a:off x="457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2743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4724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2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A)- Prokaryot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includes two Major Domains: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Archae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Bac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Domain Archaea and Domain Bacteri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6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85800" y="1187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cteria occur in many shapes and sizes. Most bacteria have one of three basic shapes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od-shaped, sphere-shaped, or spiral-shape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7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5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8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1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4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7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0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5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-548640"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od-shaped, sphere-shaped, or spiral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pira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ngular, spirill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pher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form chains similar to a string of bead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epto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o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mall amount of  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do not appear stained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لا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ظهر الصبغ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purple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buClr>
                <a:srgbClr val="0000ff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User</cp:lastModifiedBy>
  <dcterms:modified xsi:type="dcterms:W3CDTF">2014-01-03T14:03:05Z</dcterms:modified>
  <cp:revision>471</cp:revision>
  <dc:subject/>
  <dc:title>Slide 1</dc:title>
</cp:coreProperties>
</file>