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3219-A0FB-411B-962F-C7105A0E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6EF-67A3-46C0-9DE5-C9628C48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F494-A071-47D1-B746-06864473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F6D7-15AE-4E58-8776-EEE90F1D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BB66-1E14-41F0-BE4D-A399AE2F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1ECF-D190-4227-BECE-C7D44891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F07E-D2E3-440D-89F1-CA2E5568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294E-E3AC-419E-B16D-96E9F0CF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A9BC-DF12-45AC-B32A-9B705A2B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B73F-C071-4B40-8231-CAAD65C8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28C1-EBA5-479F-A4DA-19B329B5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185-B487-492F-BBC6-0C4A7C04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3477-926A-4A53-BC1B-63B61BCF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610F-112D-459B-B879-6AE4D46D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BC69-D74A-4CAB-96AC-A6DFCED9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9E70-9D71-4DF7-87AC-610E3E66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6109-2D59-4442-809B-EBBB7048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F3C-3C25-4770-8408-C5A76B7C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50B-9242-42E4-86BD-C81CF916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91ED-9DE2-4256-B1A7-624071BD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57ED-2FD9-40AC-B34F-9EF22EC3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540-387F-4997-8F7F-37E8BF99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FC96-9C3A-4606-B176-0D26ECE7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7A6-E7AF-40BE-8232-93CF6644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A155-AEF9-4613-8ACC-E8C73327775F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DFA2-64F0-4EEA-8CD8-85B945FE002A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76800"/>
          </a:xfrm>
          <a:prstGeom prst="rect">
            <a:avLst/>
          </a:prstGeom>
          <a:ln w="0">
            <a:noFill/>
          </a:ln>
        </p:spPr>
      </p:pic>
      <p:sp>
        <p:nvSpPr>
          <p:cNvPr id="150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438280" y="3808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A)-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rcRect l="18582" t="8063" r="4043" b="0"/>
          <a:stretch/>
        </p:blipFill>
        <p:spPr>
          <a:xfrm>
            <a:off x="76320" y="76320"/>
            <a:ext cx="12618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257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ff"/>
                </a:solidFill>
                <a:latin typeface="Arial"/>
              </a:rPr>
              <a:t>Gram Staining of Bacteria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+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violet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of them are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non-pathogen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ير ممرضة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–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small amount or no peptidoglycan (no staining)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of them are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pathogen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species are pathogenic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ore threate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أكثر خطو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gram-positiv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bacteria are commonly more resistant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كثر ممان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 to antibio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لمضادات الحيات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10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prokaryotes (bacteria)                                                   secrete a sticky                                              protective layer called                                         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tside                                                           the cell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has the                                                        following func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ظائ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here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ثبي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 cells to their substratu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طح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bacterial resi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وم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host defens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اعة العائ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tick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لصق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acterial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en live as colo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م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5029200" y="2090880"/>
            <a:ext cx="4038480" cy="270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5" name="Text Box 6"/>
          <p:cNvSpPr/>
          <p:nvPr/>
        </p:nvSpPr>
        <p:spPr>
          <a:xfrm>
            <a:off x="2057400" y="457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I - the bacterial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22960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intai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افط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shape of the cell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ffords physical protection </a:t>
            </a:r>
            <a:r>
              <a:rPr b="1" lang="ar-EG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حماية الطبيعية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وف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events the cell from bursting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فجا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 a hypotonic environment 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البيئة ذات </a:t>
            </a:r>
            <a:r>
              <a:rPr b="1" lang="ar-SA" sz="1700" spc="-1" strike="noStrike">
                <a:solidFill>
                  <a:srgbClr val="000000"/>
                </a:solidFill>
                <a:latin typeface="Arial"/>
              </a:rPr>
              <a:t>التركيز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 الأسموز</a:t>
            </a:r>
            <a:r>
              <a:rPr b="1" lang="ar-SA" sz="17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 المنخفض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bacterial cell walls contain </a:t>
            </a:r>
            <a:r>
              <a:rPr b="1" lang="en-US" sz="30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walls of Archaea lac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فـتـقـ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ptidogly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981080" y="41112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pperplate Gothic Bold"/>
              </a:rPr>
              <a:t>II - The bacterial cell w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al Characteristics of a Bacterial Ce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p5"/>
          <p:cNvPicPr/>
          <p:nvPr/>
        </p:nvPicPr>
        <p:blipFill>
          <a:blip r:embed="rId2"/>
          <a:stretch/>
        </p:blipFill>
        <p:spPr>
          <a:xfrm>
            <a:off x="152280" y="1380960"/>
            <a:ext cx="8839440" cy="4984920"/>
          </a:xfrm>
          <a:prstGeom prst="rect">
            <a:avLst/>
          </a:prstGeom>
          <a:ln w="0">
            <a:noFill/>
          </a:ln>
        </p:spPr>
      </p:pic>
      <p:sp>
        <p:nvSpPr>
          <p:cNvPr id="258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9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152280" y="1143000"/>
            <a:ext cx="84582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reprodu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ـتـكاث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exuall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جنس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inary fiss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قسـام الثـنائ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الب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ingle cell produce a colony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1981080" y="3271680"/>
            <a:ext cx="5105520" cy="3510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9"/>
          <p:cNvSpPr/>
          <p:nvPr/>
        </p:nvSpPr>
        <p:spPr>
          <a:xfrm>
            <a:off x="2514600" y="152280"/>
            <a:ext cx="4191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Reproduction of Bacteria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التكاثر ف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ي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البكت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2590920" y="228600"/>
            <a:ext cx="510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ي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ea typeface="Al-Mothnna"/>
              </a:rPr>
              <a:t> الأحياء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04920" y="4208400"/>
            <a:ext cx="7772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are groupe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صُنٍفـَت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o four categori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ording to how they obtain energy and carb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304920" y="25272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trition refers to how an organism obtains energy and a carbon source from the environment to build the organic molecules of its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6"/>
          <p:cNvSpPr/>
          <p:nvPr/>
        </p:nvSpPr>
        <p:spPr>
          <a:xfrm>
            <a:off x="457200" y="1343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"/>
          <p:cNvPicPr/>
          <p:nvPr/>
        </p:nvPicPr>
        <p:blipFill>
          <a:blip r:embed="rId1"/>
          <a:srcRect l="18598" t="8074" r="4036" b="0"/>
          <a:stretch/>
        </p:blipFill>
        <p:spPr>
          <a:xfrm>
            <a:off x="76320" y="76320"/>
            <a:ext cx="117936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76320" y="2158920"/>
            <a:ext cx="8991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ho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و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obtain energy from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Chem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كيميا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obtain energy from chemicals in thei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Au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ذات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Heterotroph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تعدد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use organic nutrients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2590920" y="76320"/>
            <a:ext cx="434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4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ى الأحياء الدقي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72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autotroph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 energ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energy source, and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carbon sour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to synthesis (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تخل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organic compound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aut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emical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in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energy source, and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heter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energy source, and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carbon sour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876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heterotroph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كيميا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source for both energy and carbo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2133720" y="304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four major modes of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1676520" y="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Prokaryotic modes of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04920" y="60948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Carbon source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Energy sour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an be used       by a prokaryote organism to synthesize organic comp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5"/>
          <p:cNvGrpSpPr/>
          <p:nvPr/>
        </p:nvGrpSpPr>
        <p:grpSpPr>
          <a:xfrm>
            <a:off x="2666880" y="1676520"/>
            <a:ext cx="3657600" cy="1066680"/>
            <a:chOff x="2666880" y="1676520"/>
            <a:chExt cx="3657600" cy="1066680"/>
          </a:xfrm>
        </p:grpSpPr>
        <p:sp>
          <p:nvSpPr>
            <p:cNvPr id="281" name="Line 6"/>
            <p:cNvSpPr/>
            <p:nvPr/>
          </p:nvSpPr>
          <p:spPr>
            <a:xfrm>
              <a:off x="4648320" y="1676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7"/>
            <p:cNvSpPr/>
            <p:nvPr/>
          </p:nvSpPr>
          <p:spPr>
            <a:xfrm>
              <a:off x="2666880" y="2362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8"/>
            <p:cNvSpPr/>
            <p:nvPr/>
          </p:nvSpPr>
          <p:spPr>
            <a:xfrm>
              <a:off x="26668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9"/>
            <p:cNvSpPr/>
            <p:nvPr/>
          </p:nvSpPr>
          <p:spPr>
            <a:xfrm>
              <a:off x="63244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0"/>
          <p:cNvGrpSpPr/>
          <p:nvPr/>
        </p:nvGrpSpPr>
        <p:grpSpPr>
          <a:xfrm>
            <a:off x="1143000" y="3733920"/>
            <a:ext cx="2362320" cy="685800"/>
            <a:chOff x="1143000" y="3733920"/>
            <a:chExt cx="2362320" cy="685800"/>
          </a:xfrm>
        </p:grpSpPr>
        <p:sp>
          <p:nvSpPr>
            <p:cNvPr id="286" name="Line 11"/>
            <p:cNvSpPr/>
            <p:nvPr/>
          </p:nvSpPr>
          <p:spPr>
            <a:xfrm>
              <a:off x="243828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2"/>
            <p:cNvSpPr/>
            <p:nvPr/>
          </p:nvSpPr>
          <p:spPr>
            <a:xfrm>
              <a:off x="1143000" y="4038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3"/>
            <p:cNvSpPr/>
            <p:nvPr/>
          </p:nvSpPr>
          <p:spPr>
            <a:xfrm>
              <a:off x="11430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4"/>
            <p:cNvSpPr/>
            <p:nvPr/>
          </p:nvSpPr>
          <p:spPr>
            <a:xfrm>
              <a:off x="35053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5"/>
          <p:cNvGrpSpPr/>
          <p:nvPr/>
        </p:nvGrpSpPr>
        <p:grpSpPr>
          <a:xfrm>
            <a:off x="5486400" y="3733920"/>
            <a:ext cx="2438280" cy="685800"/>
            <a:chOff x="5486400" y="3733920"/>
            <a:chExt cx="2438280" cy="685800"/>
          </a:xfrm>
        </p:grpSpPr>
        <p:sp>
          <p:nvSpPr>
            <p:cNvPr id="291" name="Line 16"/>
            <p:cNvSpPr/>
            <p:nvPr/>
          </p:nvSpPr>
          <p:spPr>
            <a:xfrm>
              <a:off x="662940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7"/>
            <p:cNvSpPr/>
            <p:nvPr/>
          </p:nvSpPr>
          <p:spPr>
            <a:xfrm>
              <a:off x="5486400" y="40384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8"/>
            <p:cNvSpPr/>
            <p:nvPr/>
          </p:nvSpPr>
          <p:spPr>
            <a:xfrm>
              <a:off x="54864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>
              <a:off x="792468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 Box 20"/>
          <p:cNvSpPr/>
          <p:nvPr/>
        </p:nvSpPr>
        <p:spPr>
          <a:xfrm>
            <a:off x="1600200" y="2666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1"/>
          <p:cNvSpPr/>
          <p:nvPr/>
        </p:nvSpPr>
        <p:spPr>
          <a:xfrm>
            <a:off x="525780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2"/>
          <p:cNvSpPr/>
          <p:nvPr/>
        </p:nvSpPr>
        <p:spPr>
          <a:xfrm>
            <a:off x="4572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Phot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3"/>
          <p:cNvSpPr/>
          <p:nvPr/>
        </p:nvSpPr>
        <p:spPr>
          <a:xfrm>
            <a:off x="274320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hem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7162920" y="444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hem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47242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Phot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26"/>
          <p:cNvGrpSpPr/>
          <p:nvPr/>
        </p:nvGrpSpPr>
        <p:grpSpPr>
          <a:xfrm>
            <a:off x="1143000" y="3092400"/>
            <a:ext cx="6705360" cy="642600"/>
            <a:chOff x="1143000" y="3092400"/>
            <a:chExt cx="6705360" cy="642600"/>
          </a:xfrm>
        </p:grpSpPr>
        <p:sp>
          <p:nvSpPr>
            <p:cNvPr id="302" name="Text Box 27"/>
            <p:cNvSpPr/>
            <p:nvPr/>
          </p:nvSpPr>
          <p:spPr>
            <a:xfrm>
              <a:off x="1143000" y="3214800"/>
              <a:ext cx="276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CO</a:t>
              </a:r>
              <a:r>
                <a:rPr b="1" lang="en-GB" sz="2000" spc="-1" strike="noStrike" baseline="-25000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28"/>
            <p:cNvSpPr/>
            <p:nvPr/>
          </p:nvSpPr>
          <p:spPr>
            <a:xfrm>
              <a:off x="5087160" y="3092400"/>
              <a:ext cx="27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Organic compounds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29"/>
          <p:cNvSpPr/>
          <p:nvPr/>
        </p:nvSpPr>
        <p:spPr>
          <a:xfrm>
            <a:off x="22860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 energy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0"/>
          <p:cNvSpPr/>
          <p:nvPr/>
        </p:nvSpPr>
        <p:spPr>
          <a:xfrm>
            <a:off x="266688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1"/>
          <p:cNvSpPr/>
          <p:nvPr/>
        </p:nvSpPr>
        <p:spPr>
          <a:xfrm>
            <a:off x="4876920" y="5257800"/>
            <a:ext cx="175248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2"/>
          <p:cNvSpPr/>
          <p:nvPr/>
        </p:nvSpPr>
        <p:spPr>
          <a:xfrm>
            <a:off x="7010280" y="5257800"/>
            <a:ext cx="190512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3"/>
          <p:cNvSpPr/>
          <p:nvPr/>
        </p:nvSpPr>
        <p:spPr>
          <a:xfrm>
            <a:off x="33526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A)- Prokaryot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 includes two Major Domains: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Archae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Bacte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karyotes are single-celled organisms that do not have a membrane-bound nucleus, and can live in nearly every environment on Eart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though tiny, prokaryotes differ greatly in their genetic traits, their modes of nutrition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, however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their habitats are simila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ased on genetic differences, prokaryotes are grouped in two domains: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Domain Archaea and Domain Bacteri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3810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1. Domain: </a:t>
            </a:r>
            <a:r>
              <a:rPr b="1" lang="en-GB" sz="2600" spc="-1" strike="noStrike" u="sng">
                <a:solidFill>
                  <a:srgbClr val="0000ff"/>
                </a:solidFill>
                <a:uFillTx/>
                <a:latin typeface="Arial"/>
              </a:rPr>
              <a:t>Archaea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496880"/>
            <a:ext cx="4824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aea are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xtremophile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ظروف القاسي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extreme environments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an be classified in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hal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ملوحة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ve in such saline places as the Great Salt Lake and the Dead S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 species require an extremely salty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شديدة الملوح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vironment to gro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therm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حرار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ve in hot environ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optimum temperatures for most thermophiles are 60 - 8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5"/>
          <p:cNvGrpSpPr/>
          <p:nvPr/>
        </p:nvGrpSpPr>
        <p:grpSpPr>
          <a:xfrm>
            <a:off x="838080" y="1905120"/>
            <a:ext cx="7696440" cy="4416480"/>
            <a:chOff x="838080" y="1905120"/>
            <a:chExt cx="7696440" cy="441648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rcRect l="0" t="0" r="0" b="3787"/>
            <a:stretch/>
          </p:blipFill>
          <p:spPr>
            <a:xfrm>
              <a:off x="838080" y="1905120"/>
              <a:ext cx="7696440" cy="44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6"/>
            <p:cNvSpPr/>
            <p:nvPr/>
          </p:nvSpPr>
          <p:spPr>
            <a:xfrm>
              <a:off x="4191120" y="3749760"/>
              <a:ext cx="14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غشاء بلازم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67080" y="41911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جدار الخل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3981600" y="290700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شبه نوا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038480" y="331812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ريبوز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5006880" y="464832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بسو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1479600" y="496728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سوا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4"/>
          <p:cNvSpPr/>
          <p:nvPr/>
        </p:nvSpPr>
        <p:spPr>
          <a:xfrm>
            <a:off x="685800" y="1187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cteria occur in many shapes and sizes. Most bacteria have one of three basic shapes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od-shaped, sphere-shaped, or spiral-shape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3276720" y="152280"/>
            <a:ext cx="4038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2. Domain: Bac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6"/>
          <p:cNvSpPr/>
          <p:nvPr/>
        </p:nvSpPr>
        <p:spPr>
          <a:xfrm>
            <a:off x="295200" y="11224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177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4"/>
          <p:cNvSpPr/>
          <p:nvPr/>
        </p:nvSpPr>
        <p:spPr>
          <a:xfrm>
            <a:off x="3124080" y="152280"/>
            <a:ext cx="38102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185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188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191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194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197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200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215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46" descr=""/>
          <p:cNvPicPr/>
          <p:nvPr/>
        </p:nvPicPr>
        <p:blipFill>
          <a:blip r:embed="rId2"/>
          <a:srcRect l="18603" t="8072" r="4056" b="0"/>
          <a:stretch/>
        </p:blipFill>
        <p:spPr>
          <a:xfrm>
            <a:off x="76320" y="763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8640" indent="-548640"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 occur in many shapes and sizes. Most bacteria have one of three basic shapes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od-shaped, sphere-shaped, or spiral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pira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iril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ngular, spirillu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pher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ngular, coccus). An example of cocc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crococcus lute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form chains similar to a string of bead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epto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o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cil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ngular, bacillus). An example of bacill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apes of Bacteri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Picture 9" descr="p2"/>
          <p:cNvPicPr/>
          <p:nvPr/>
        </p:nvPicPr>
        <p:blipFill>
          <a:blip r:embed="rId1"/>
          <a:stretch/>
        </p:blipFill>
        <p:spPr>
          <a:xfrm>
            <a:off x="228600" y="4178160"/>
            <a:ext cx="8610480" cy="2557440"/>
          </a:xfrm>
          <a:prstGeom prst="rect">
            <a:avLst/>
          </a:prstGeom>
          <a:ln w="0">
            <a:noFill/>
          </a:ln>
        </p:spPr>
      </p:pic>
      <p:sp>
        <p:nvSpPr>
          <p:cNvPr id="22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tool for identifying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عري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كمية كبيرة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ـُصبغ بنفس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52388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981080" y="-166680"/>
            <a:ext cx="5943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6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7161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small amount of  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’s stain (do not appear stained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لا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ظهر الصبغ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609480" y="3693960"/>
            <a:ext cx="7772400" cy="30117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2209680" y="-136440"/>
            <a:ext cx="59436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Gram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pecies of bacteria are classified into two categories based on the structure of their cell walls as determined by a technique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m st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posi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ck layer of peptidoglycan in their cell wall,  and they appear purple under a microscope after the Gram-staining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buClr>
                <a:srgbClr val="0000ff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nega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n layer of peptidoglycan in their cell wall, and they appear reddish-pink under a microscope after the Gram-staining proced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1"/>
          <p:cNvSpPr/>
          <p:nvPr/>
        </p:nvSpPr>
        <p:spPr>
          <a:xfrm>
            <a:off x="2057400" y="-383040"/>
            <a:ext cx="594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User</cp:lastModifiedBy>
  <dcterms:modified xsi:type="dcterms:W3CDTF">2014-01-03T14:03:05Z</dcterms:modified>
  <cp:revision>471</cp:revision>
  <dc:subject/>
  <dc:title>Slide 1</dc:title>
</cp:coreProperties>
</file>