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746-AA69-4B97-B28D-E5FABFA6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4E8-1F14-4818-BF77-926D61FF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4CD-7EF3-49EB-9E9F-38BF5212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9D2-28F0-463E-801F-1948A041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A4F-45B4-4439-9D25-8BA26733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F84-A3F4-4673-97AE-3574D070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043-1B15-494E-B60D-A5695DD7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9BF-CC0E-490F-9B63-27301EA3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460-0EAA-4233-AB21-EE87A3B9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BC5-8977-4305-965C-BC323D36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77C-CD61-4DC3-8392-59595735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0EC-3517-4E0F-9BF5-24960841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F58B-EFB4-475D-8A2B-E5F60C3C75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rug acting on the Hear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8"/>
          <p:cNvGrpSpPr/>
          <p:nvPr/>
        </p:nvGrpSpPr>
        <p:grpSpPr>
          <a:xfrm>
            <a:off x="469440" y="914400"/>
            <a:ext cx="8064360" cy="4800240"/>
            <a:chOff x="469440" y="914400"/>
            <a:chExt cx="8064360" cy="4800240"/>
          </a:xfrm>
        </p:grpSpPr>
        <p:sp>
          <p:nvSpPr>
            <p:cNvPr id="75" name="Rectangle 9"/>
            <p:cNvSpPr/>
            <p:nvPr/>
          </p:nvSpPr>
          <p:spPr>
            <a:xfrm>
              <a:off x="1137240" y="914400"/>
              <a:ext cx="6724080" cy="30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0" tIns="0" bIns="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Factors on Cardiac Output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fterload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99cc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cc00"/>
                  </a:solidFill>
                  <a:latin typeface="Arial"/>
                </a:rPr>
                <a:t>Preload</a:t>
              </a: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) </a:t>
              </a:r>
              <a:r>
                <a:rPr b="1" i="1" lang="en-US" sz="2400" spc="-1" strike="noStrike">
                  <a:solidFill>
                    <a:srgbClr val="cc3399"/>
                  </a:solidFill>
                  <a:latin typeface="Arial"/>
                </a:rPr>
                <a:t>Afterlo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10" descr=""/>
            <p:cNvPicPr/>
            <p:nvPr/>
          </p:nvPicPr>
          <p:blipFill>
            <a:blip r:embed="rId1"/>
            <a:stretch/>
          </p:blipFill>
          <p:spPr>
            <a:xfrm>
              <a:off x="4499640" y="1972080"/>
              <a:ext cx="2836440" cy="37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11"/>
            <p:cNvSpPr/>
            <p:nvPr/>
          </p:nvSpPr>
          <p:spPr>
            <a:xfrm>
              <a:off x="469440" y="426384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fterloa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2"/>
            <p:cNvSpPr/>
            <p:nvPr/>
          </p:nvSpPr>
          <p:spPr>
            <a:xfrm flipH="1">
              <a:off x="7525080" y="2060280"/>
              <a:ext cx="1008360" cy="969480"/>
            </a:xfrm>
            <a:prstGeom prst="flowChartMagneticTap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7273080" y="2941560"/>
              <a:ext cx="335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fterloa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to arterial pressure or diameter of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pressure increases, resistance increases, afterload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pressure decreases, resistance decreases, afterload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ontrac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generated by the myocardium when it contracts – inotropic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ction fraction (EF) - percentage of LV end-diastolic volume that is ejected with each con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 - normally approximately 50-5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"/>
          <p:cNvGrpSpPr/>
          <p:nvPr/>
        </p:nvGrpSpPr>
        <p:grpSpPr>
          <a:xfrm>
            <a:off x="1154160" y="914400"/>
            <a:ext cx="6770520" cy="4149720"/>
            <a:chOff x="1154160" y="914400"/>
            <a:chExt cx="6770520" cy="4149720"/>
          </a:xfrm>
        </p:grpSpPr>
        <p:sp>
          <p:nvSpPr>
            <p:cNvPr id="85" name="Rectangle 5"/>
            <p:cNvSpPr/>
            <p:nvPr/>
          </p:nvSpPr>
          <p:spPr>
            <a:xfrm>
              <a:off x="1828800" y="914400"/>
              <a:ext cx="6095880" cy="30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0" tIns="0" bIns="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Factors on Cardiac Outpu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99cc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cc00"/>
                  </a:solidFill>
                  <a:latin typeface="Arial"/>
                </a:rPr>
                <a:t>Preload</a:t>
              </a: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   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2) </a:t>
              </a:r>
              <a:r>
                <a:rPr b="1" i="1" lang="en-US" sz="2400" spc="-1" strike="noStrike">
                  <a:solidFill>
                    <a:srgbClr val="99cc00"/>
                  </a:solidFill>
                  <a:latin typeface="Arial"/>
                </a:rPr>
                <a:t>Afterload</a:t>
              </a: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) </a:t>
              </a:r>
              <a:r>
                <a:rPr b="1" i="1" lang="en-US" sz="2400" spc="-1" strike="noStrike">
                  <a:solidFill>
                    <a:srgbClr val="cc3399"/>
                  </a:solidFill>
                  <a:latin typeface="Arial"/>
                </a:rPr>
                <a:t>Contractilit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"/>
            <p:cNvPicPr/>
            <p:nvPr/>
          </p:nvPicPr>
          <p:blipFill>
            <a:blip r:embed="rId1"/>
            <a:stretch/>
          </p:blipFill>
          <p:spPr>
            <a:xfrm>
              <a:off x="4876920" y="1828800"/>
              <a:ext cx="2571480" cy="32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7"/>
            <p:cNvSpPr/>
            <p:nvPr/>
          </p:nvSpPr>
          <p:spPr>
            <a:xfrm>
              <a:off x="1154160" y="4419720"/>
              <a:ext cx="299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actility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8"/>
            <p:cNvSpPr/>
            <p:nvPr/>
          </p:nvSpPr>
          <p:spPr>
            <a:xfrm flipH="1">
              <a:off x="5943240" y="3809880"/>
              <a:ext cx="152280" cy="685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Left versus Right Fail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ft Hear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ys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c. exercise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tho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ink, frothy sput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648320" y="1447920"/>
            <a:ext cx="4190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ght Hear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c. exercise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J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epatomeg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sc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athwayCHF"/>
          <p:cNvPicPr/>
          <p:nvPr/>
        </p:nvPicPr>
        <p:blipFill>
          <a:blip r:embed="rId1"/>
          <a:stretch/>
        </p:blipFill>
        <p:spPr>
          <a:xfrm>
            <a:off x="0" y="-128520"/>
            <a:ext cx="914400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Five main drugs are use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464558">
                  <a:alpha val="26274"/>
                </a:srgbClr>
              </a:gs>
            </a:gsLst>
            <a:lin ang="5400000"/>
          </a:gradFill>
          <a:ln w="25560">
            <a:solidFill>
              <a:srgbClr val="000000">
                <a:alpha val="26000"/>
              </a:srgbClr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ure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 inhibi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itive isotrop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sodi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ß bloc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) Diuretic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that accelerate the rate of urine 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 removal of sodium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relive distention of the heart by reducing blood volu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renal azotem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ra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p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mbocytop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glyc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epatic dys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severe heart failur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→ loop diure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0 – 320 mg QD), Furose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m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umetanide 1-8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rsem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0-200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Boopee"/>
              </a:rPr>
              <a:t>Lecture objecti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end of the this lecture, the student will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Describe basic anatomy of the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List determinants factor of cardiac out 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Describe main approach to the treatment of heart fail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List the names of drug used to treat heart failure and hypertension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5806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2) Inhibitors of renin-angiotensin- aldostero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in-angiotensin-aldosterone syste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s activation early in the course of heart failure and plays an important ro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the progression of the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iotensin converting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iotensin receptors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onolac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3360" y="6170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giotensin Converting Enzym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y block the R-A-A system by inhibiting the conversion of angiotensin I to angiotensin II → vasodilation and ↓ Na re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27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7440" y="580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ide effects of ACE inhib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ioed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l insuff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Digitalis Glycosides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(Digoxin, Digitox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digitalis has declined somewhat because of safety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studies have shown that digitals does not affect mortality in CHF patients but causes significant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in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in symptoms of 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7440" y="580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gitalis (cont.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ve inotropic effect by ↑ intracellular Ca &amp; enhancing actin-myosin cross bride formation (binds to the Na-K ATPase → inhibits Na pump → ↑ intracellular Na → ↑ Na-Ca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hythmogenic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160" y="580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gitalis Tox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therapeutic to toxic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and cardiac manife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rex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sea, vomit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ach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us bradycardia and ar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V block (usually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gre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rial tachycardia with A/V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junctional rhythm in patients with a f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1480" y="5806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4) β Bloc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traditionally contraindicated in pts with C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ey are the main stay in treatment on CHF &amp; may be the only medication that shows substantial improvement in LV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improved LV function multiple studies show improved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divisions of 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ympathetic – acetylcholine produces inhibitor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athetic – catecholamines stim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heart rate – Beta 1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ate smooth muscles – Beta 2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constrict vessels – Alpha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8840" y="580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5) Vasodi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tion of afterlo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rteriolar vasodilatation (hydralazin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e LVEDP, O2 consumption,improve myocardial perfusion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oke volume and C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tion of prelo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ous di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Nitrate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↓ the venous retur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↓ the load on both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the maximum benefit is achieved by using agents with both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state in which the heart cannot provide sufficient cardiac output to satisfy the metabolic needs of the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ly termed congestive heart failure (CHF) since symptoms of increase venous pressure are often promi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3360" y="6170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ositive inotropic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the drugs that improve myocardial contractility (β adrenergic agonists, dopaminergic agents, phosphodiesterase inhibitor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amine, dobutamine, milrinone, amri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tudies showed ↑ mortality with oral inotropic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e only use for them now is in acute sittings as cardiogenic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me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380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Biond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Biondi"/>
              </a:rPr>
              <a:t>Write the nursing implication to the drug that treat H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Biond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Biondi"/>
              </a:rPr>
              <a:t>Write two examples to each group of med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Edwardian Script ITC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Edwardian Script ITC"/>
              </a:rPr>
              <a:t>thank you for listening</a:t>
            </a:r>
            <a:r>
              <a:rPr b="1" lang="en-GB" sz="4000" spc="-1" strike="noStrike">
                <a:solidFill>
                  <a:srgbClr val="cc0000"/>
                </a:solidFill>
                <a:latin typeface="Edwardian Script ITC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Biond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0533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Physi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emember this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= SV x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: parasympathetic and sympathetic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: preload, afterload, contrac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of blood ejected per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s between 4-6L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 = Stroke volume X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70 ml X 60 beats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4,200 ml/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4191120" y="3657600"/>
            <a:ext cx="4957560" cy="3460320"/>
            <a:chOff x="4191120" y="3657600"/>
            <a:chExt cx="4957560" cy="3460320"/>
          </a:xfrm>
        </p:grpSpPr>
        <p:pic>
          <p:nvPicPr>
            <p:cNvPr id="53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3657600"/>
              <a:ext cx="4572360" cy="30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8"/>
            <p:cNvSpPr/>
            <p:nvPr/>
          </p:nvSpPr>
          <p:spPr>
            <a:xfrm>
              <a:off x="8530200" y="422892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7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5005800" y="6658200"/>
              <a:ext cx="17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75 beat/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8561160" y="451476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m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of stretch of myocardial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d by the volume of blood in left ventricle (LV) at end of 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volume –&gt; increased preload-&gt; increased cardiac output (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volume –&gt; decreased preload –&gt; decreased cardiac output (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ance of myocardial cells also affects pre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306360" y="914400"/>
            <a:ext cx="7618320" cy="4114440"/>
            <a:chOff x="306360" y="914400"/>
            <a:chExt cx="7618320" cy="4114440"/>
          </a:xfrm>
        </p:grpSpPr>
        <p:grpSp>
          <p:nvGrpSpPr>
            <p:cNvPr id="60" name="Group 5"/>
            <p:cNvGrpSpPr/>
            <p:nvPr/>
          </p:nvGrpSpPr>
          <p:grpSpPr>
            <a:xfrm>
              <a:off x="4724280" y="1828800"/>
              <a:ext cx="3152160" cy="3200040"/>
              <a:chOff x="4724280" y="1828800"/>
              <a:chExt cx="3152160" cy="3200040"/>
            </a:xfrm>
          </p:grpSpPr>
          <p:pic>
            <p:nvPicPr>
              <p:cNvPr id="61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4724280" y="1828800"/>
                <a:ext cx="2603880" cy="32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AutoShape 7"/>
              <p:cNvSpPr/>
              <p:nvPr/>
            </p:nvSpPr>
            <p:spPr>
              <a:xfrm>
                <a:off x="7070400" y="2597040"/>
                <a:ext cx="806040" cy="191160"/>
              </a:xfrm>
              <a:prstGeom prst="rightArrow">
                <a:avLst>
                  <a:gd name="adj1" fmla="val 50000"/>
                  <a:gd name="adj2" fmla="val 105414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8"/>
              <p:cNvSpPr/>
              <p:nvPr/>
            </p:nvSpPr>
            <p:spPr>
              <a:xfrm>
                <a:off x="5393880" y="3428640"/>
                <a:ext cx="202320" cy="384120"/>
              </a:xfrm>
              <a:prstGeom prst="downArrow">
                <a:avLst>
                  <a:gd name="adj1" fmla="val 50000"/>
                  <a:gd name="adj2" fmla="val 47464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9"/>
              <p:cNvSpPr/>
              <p:nvPr/>
            </p:nvSpPr>
            <p:spPr>
              <a:xfrm>
                <a:off x="5393880" y="2468880"/>
                <a:ext cx="68040" cy="831600"/>
              </a:xfrm>
              <a:prstGeom prst="line">
                <a:avLst/>
              </a:prstGeom>
              <a:ln cap="rnd" w="1522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10"/>
              <p:cNvSpPr/>
              <p:nvPr/>
            </p:nvSpPr>
            <p:spPr>
              <a:xfrm>
                <a:off x="5663160" y="4069080"/>
                <a:ext cx="603000" cy="4471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1"/>
              <p:cNvSpPr/>
              <p:nvPr/>
            </p:nvSpPr>
            <p:spPr>
              <a:xfrm flipV="1">
                <a:off x="6066000" y="3172680"/>
                <a:ext cx="266760" cy="5752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12"/>
              <p:cNvSpPr/>
              <p:nvPr/>
            </p:nvSpPr>
            <p:spPr>
              <a:xfrm>
                <a:off x="5673600" y="4102560"/>
                <a:ext cx="994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More 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13"/>
              <p:cNvSpPr/>
              <p:nvPr/>
            </p:nvSpPr>
            <p:spPr>
              <a:xfrm>
                <a:off x="6664320" y="2165400"/>
                <a:ext cx="114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More ou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14"/>
              <p:cNvSpPr/>
              <p:nvPr/>
            </p:nvSpPr>
            <p:spPr>
              <a:xfrm>
                <a:off x="4724280" y="2147760"/>
                <a:ext cx="872280" cy="255960"/>
              </a:xfrm>
              <a:custGeom>
                <a:avLst/>
                <a:gdLst>
                  <a:gd name="textAreaLeft" fmla="*/ 141840 w 872280"/>
                  <a:gd name="textAreaRight" fmla="*/ 643680 w 872280"/>
                  <a:gd name="textAreaTop" fmla="*/ 34200 h 255960"/>
                  <a:gd name="textAreaBottom" fmla="*/ 221760 h 25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027" hR="21600" stAng="10800000" swAng="5400000"/>
                    <a:lnTo>
                      <a:pt x="12427" y="0"/>
                    </a:lnTo>
                    <a:arcTo wR="7027" hR="21600" stAng="-5400000" swAng="1480133"/>
                    <a:lnTo>
                      <a:pt x="20307" y="9115"/>
                    </a:lnTo>
                    <a:lnTo>
                      <a:pt x="16754" y="21600"/>
                    </a:lnTo>
                    <a:lnTo>
                      <a:pt x="10615" y="9115"/>
                    </a:lnTo>
                    <a:lnTo>
                      <a:pt x="12761" y="9115"/>
                    </a:lnTo>
                    <a:arcTo wR="7027" hR="21600" stAng="-3919867" swAng="-1017498"/>
                    <a:lnTo>
                      <a:pt x="9727" y="1658"/>
                    </a:lnTo>
                    <a:arcTo wR="7027" hR="21600" stAng="-5862635" swAng="-4937365"/>
                    <a:close/>
                  </a:path>
                  <a:path fill="darkenLess" w="21600" h="21600">
                    <a:moveTo>
                      <a:pt x="0" y="21600"/>
                    </a:moveTo>
                    <a:arcTo wR="7027" hR="21600" stAng="10800000" swAng="5400000"/>
                    <a:lnTo>
                      <a:pt x="7027" y="0"/>
                    </a:lnTo>
                    <a:arcTo wR="7027" hR="21600" stAng="-5400000" swAng="462635"/>
                    <a:lnTo>
                      <a:pt x="9727" y="1658"/>
                    </a:lnTo>
                    <a:arcTo wR="7027" hR="21600" stAng="-5862635" swAng="-4937365"/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Rectangle 15"/>
            <p:cNvSpPr/>
            <p:nvPr/>
          </p:nvSpPr>
          <p:spPr>
            <a:xfrm>
              <a:off x="1828800" y="914400"/>
              <a:ext cx="609588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0" tIns="0" bIns="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Factors on Cardiac Outpu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99"/>
                  </a:solidFill>
                  <a:latin typeface="Arial"/>
                </a:rPr>
                <a:t>Prelo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6"/>
            <p:cNvSpPr/>
            <p:nvPr/>
          </p:nvSpPr>
          <p:spPr>
            <a:xfrm>
              <a:off x="306360" y="3200400"/>
              <a:ext cx="475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loa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ardiac outpu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Starling-Frank Mechanis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actors Which Increase Pre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fl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const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actors Which Decrease Pre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ur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d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8:45:03Z</dcterms:created>
  <dc:creator>AHMAD RAWHI</dc:creator>
  <dc:description/>
  <dc:language>en-US</dc:language>
  <cp:lastModifiedBy>Alharbi</cp:lastModifiedBy>
  <dcterms:modified xsi:type="dcterms:W3CDTF">2016-01-26T10:52:2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