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806-00EB-4F99-9C47-90E9C317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FC3-60BF-4C07-B41B-47B5C3A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BC7-BE97-4C8F-9C2C-085B7576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E3E-78C3-4740-B8B7-66D14F6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3C0-67C0-4894-82C9-C445BEB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772-66CB-4030-9750-6FA68E44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9A4-3D53-43CF-9397-0FEFF329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430-F79C-4726-9B21-E47817F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283-6543-4AFE-A4BF-DFC8DAC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0F9-FFD4-4C66-8C07-0F046FF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43-6B3A-4FB7-BC79-9F8B85DE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E23-F147-497A-9F12-C2A3ABD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BA9F-3470-4ED3-AB83-8E640EF8C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rug acting on the Hear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469440" y="914400"/>
            <a:ext cx="8064360" cy="4800240"/>
            <a:chOff x="469440" y="914400"/>
            <a:chExt cx="8064360" cy="4800240"/>
          </a:xfrm>
        </p:grpSpPr>
        <p:sp>
          <p:nvSpPr>
            <p:cNvPr id="75" name="Rectangle 9"/>
            <p:cNvSpPr/>
            <p:nvPr/>
          </p:nvSpPr>
          <p:spPr>
            <a:xfrm>
              <a:off x="1137240" y="914400"/>
              <a:ext cx="6724080" cy="30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fterloa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0" descr=""/>
            <p:cNvPicPr/>
            <p:nvPr/>
          </p:nvPicPr>
          <p:blipFill>
            <a:blip r:embed="rId1"/>
            <a:stretch/>
          </p:blipFill>
          <p:spPr>
            <a:xfrm>
              <a:off x="4499640" y="1972080"/>
              <a:ext cx="2836440" cy="37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11"/>
            <p:cNvSpPr/>
            <p:nvPr/>
          </p:nvSpPr>
          <p:spPr>
            <a:xfrm>
              <a:off x="469440" y="4263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"/>
            <p:cNvSpPr/>
            <p:nvPr/>
          </p:nvSpPr>
          <p:spPr>
            <a:xfrm flipH="1">
              <a:off x="7525080" y="2060280"/>
              <a:ext cx="1008360" cy="969480"/>
            </a:xfrm>
            <a:prstGeom prst="flowChartMagneticTap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7273080" y="2941560"/>
              <a:ext cx="335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fterloa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arterial pressure or diameter of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increases, resistance increases, afterloa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ressure decreases, resistance decreases, afterload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ontrac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generated by the myocardium when it contracts – inotropic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ction fraction (EF) - percentage of LV end-diastolic volume that is ejected with each con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 - normally approximately 50-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1154160" y="914400"/>
            <a:ext cx="6770520" cy="4149720"/>
            <a:chOff x="1154160" y="914400"/>
            <a:chExt cx="6770520" cy="4149720"/>
          </a:xfrm>
        </p:grpSpPr>
        <p:sp>
          <p:nvSpPr>
            <p:cNvPr id="85" name="Rectangle 5"/>
            <p:cNvSpPr/>
            <p:nvPr/>
          </p:nvSpPr>
          <p:spPr>
            <a:xfrm>
              <a:off x="1828800" y="914400"/>
              <a:ext cx="609588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99cc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2) </a:t>
              </a:r>
              <a:r>
                <a:rPr b="1" i="1" lang="en-US" sz="2400" spc="-1" strike="noStrike">
                  <a:solidFill>
                    <a:srgbClr val="99cc00"/>
                  </a:solidFill>
                  <a:latin typeface="Arial"/>
                </a:rPr>
                <a:t>Afterload</a:t>
              </a:r>
              <a:r>
                <a:rPr b="0" lang="en-US" sz="2400" spc="-1" strike="noStrike">
                  <a:solidFill>
                    <a:srgbClr val="99cc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) </a:t>
              </a: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Contractilit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"/>
            <p:cNvPicPr/>
            <p:nvPr/>
          </p:nvPicPr>
          <p:blipFill>
            <a:blip r:embed="rId1"/>
            <a:stretch/>
          </p:blipFill>
          <p:spPr>
            <a:xfrm>
              <a:off x="4876920" y="1828800"/>
              <a:ext cx="2571480" cy="32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7"/>
            <p:cNvSpPr/>
            <p:nvPr/>
          </p:nvSpPr>
          <p:spPr>
            <a:xfrm>
              <a:off x="1154160" y="4419720"/>
              <a:ext cx="299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actilit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H="1">
              <a:off x="5943240" y="3809880"/>
              <a:ext cx="15228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Left versus Right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tho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k, frothy sput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4832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c. exercis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J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patomeg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c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athwayCHF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Five main drugs are use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464558">
                  <a:alpha val="26274"/>
                </a:srgbClr>
              </a:gs>
            </a:gsLst>
            <a:lin ang="5400000"/>
          </a:gradFill>
          <a:ln w="25560">
            <a:solidFill>
              <a:srgbClr val="000000">
                <a:alpha val="26000"/>
              </a:srgbClr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tive isotrop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sodi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ß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) Diureti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accelerate the rate of urin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 removal of sodium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elive distention of the heart by reducing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renal azote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ra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patic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severe heart failu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loop diur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 – 320 mg QD), Furose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m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metanide 1-8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sem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-200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Boopee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the this lecture, the student will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basic anatomy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determinants factor of cardiac out 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escribe main approach to the treatment of heart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List the names of drug used to treat heart failure and hypertensio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2) Inhibitors of renin-angiotensin- aldoster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in-angiotensin-aldosterone syste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s activation early in the course of heart failure and plays an important r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e progression of th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 receptors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giotensin Converting Enzym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y block the R-A-A system by inhibiting the conversion of angiotensin I to angiotensin II → vasodilation and ↓ Na re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7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de effects of ACE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suff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)Digitalis Glycosid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Digoxin, Digitox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digitalis has declined somewhat because of safety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studies have shown that digitals does not affect mortality in CHF patients but causes significant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symptoms of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74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(cont.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ve inotropic effect by ↑ intracellular Ca &amp; enhancing actin-myosin cross bride formation (binds to the Na-K ATPase → inhibits Na pump → ↑ intracellular Na → ↑ Na-Ca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hythmogenic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16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gitalis Tox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therapeutic to toxic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nd cardiac manif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rex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sea, vomi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ach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us bradycardia and ar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V block (usu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g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rial tachycardia with A/V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junctional rhythm in patients with a f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1480" y="58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4) β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traditionally contraindicated in pts with C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ey are the main stay in treatment on CHF &amp; may be the only medication that shows substantial improvement in LV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improved LV function multiple studies show improved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divisions of 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etic – acetylcholine produces inhibitor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– catecholamines stim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heart rate – Beta 1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 smooth muscles – Beta 2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 vessels – Alpha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8840" y="580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5) Vasodi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afterlo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rteriolar vasodilatation (hydralazi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e LVEDP, O2 consumption,improve myocardial perfus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oke volume and C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tion of prelo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Nitrate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↓ the venous retur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↓ the load on both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the maximum benefit is achieved by using agents with both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tate in which the heart cannot provide sufficient cardiac output to satisfy the metabolic needs of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termed congestive heart failure (CHF) since symptoms of increase venous pressure are often prom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360" y="6170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ositive inotrop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drugs that improve myocardial contractility (β adrenergic agonists, dopaminergic agents, phosphodiesterase inhibitor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amine, dobutamine, milrinone, amr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udies showed ↑ mortality with oral inotropic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only use for them now is in acute sittings as cardiogenic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0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he nursing implication to the drug that treat H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Biond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Write two examples to each group of med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Edwardian Script ITC"/>
              </a:rPr>
              <a:t>thank you for listening</a:t>
            </a:r>
            <a:r>
              <a:rPr b="1" lang="en-GB" sz="4000" spc="-1" strike="noStrike">
                <a:solidFill>
                  <a:srgbClr val="cc0000"/>
                </a:solidFill>
                <a:latin typeface="Edwardian Script ITC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Biond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0533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Physi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member this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SV x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: parasympathetic and sympathetic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: preload, afterload, contrac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ejected per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s between 4-6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= Stroke volume X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0 ml X 60 beat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,200 ml/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191120" y="3657600"/>
            <a:ext cx="4957560" cy="3460320"/>
            <a:chOff x="4191120" y="3657600"/>
            <a:chExt cx="4957560" cy="3460320"/>
          </a:xfrm>
        </p:grpSpPr>
        <p:pic>
          <p:nvPicPr>
            <p:cNvPr id="53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3657600"/>
              <a:ext cx="4572360" cy="30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8530200" y="42289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5005800" y="6658200"/>
              <a:ext cx="177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75 beat/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8561160" y="45147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m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tretch of myocardial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the volume of blood in left ventricle (LV) at end of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olume –&gt; increased preload-&gt; in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olume –&gt; decreased preload –&gt; decreased cardiac output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of myocardial cells also affects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306360" y="914400"/>
            <a:ext cx="7618320" cy="4114440"/>
            <a:chOff x="306360" y="914400"/>
            <a:chExt cx="7618320" cy="4114440"/>
          </a:xfrm>
        </p:grpSpPr>
        <p:grpSp>
          <p:nvGrpSpPr>
            <p:cNvPr id="60" name="Group 5"/>
            <p:cNvGrpSpPr/>
            <p:nvPr/>
          </p:nvGrpSpPr>
          <p:grpSpPr>
            <a:xfrm>
              <a:off x="4724280" y="1828800"/>
              <a:ext cx="3152160" cy="3200040"/>
              <a:chOff x="4724280" y="1828800"/>
              <a:chExt cx="3152160" cy="3200040"/>
            </a:xfrm>
          </p:grpSpPr>
          <p:pic>
            <p:nvPicPr>
              <p:cNvPr id="61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724280" y="1828800"/>
                <a:ext cx="2603880" cy="32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7"/>
              <p:cNvSpPr/>
              <p:nvPr/>
            </p:nvSpPr>
            <p:spPr>
              <a:xfrm>
                <a:off x="7070400" y="2597040"/>
                <a:ext cx="806040" cy="191160"/>
              </a:xfrm>
              <a:prstGeom prst="rightArrow">
                <a:avLst>
                  <a:gd name="adj1" fmla="val 50000"/>
                  <a:gd name="adj2" fmla="val 10541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>
                <a:off x="5393880" y="3428640"/>
                <a:ext cx="202320" cy="384120"/>
              </a:xfrm>
              <a:prstGeom prst="downArrow">
                <a:avLst>
                  <a:gd name="adj1" fmla="val 50000"/>
                  <a:gd name="adj2" fmla="val 4746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5393880" y="2468880"/>
                <a:ext cx="68040" cy="831600"/>
              </a:xfrm>
              <a:prstGeom prst="line">
                <a:avLst/>
              </a:prstGeom>
              <a:ln cap="rnd" w="1522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5663160" y="4069080"/>
                <a:ext cx="603000" cy="4471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V="1">
                <a:off x="6066000" y="3172680"/>
                <a:ext cx="266760" cy="57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2"/>
              <p:cNvSpPr/>
              <p:nvPr/>
            </p:nvSpPr>
            <p:spPr>
              <a:xfrm>
                <a:off x="5673600" y="4102560"/>
                <a:ext cx="994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13"/>
              <p:cNvSpPr/>
              <p:nvPr/>
            </p:nvSpPr>
            <p:spPr>
              <a:xfrm>
                <a:off x="6664320" y="2165400"/>
                <a:ext cx="114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re 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14"/>
              <p:cNvSpPr/>
              <p:nvPr/>
            </p:nvSpPr>
            <p:spPr>
              <a:xfrm>
                <a:off x="4724280" y="2147760"/>
                <a:ext cx="872280" cy="255960"/>
              </a:xfrm>
              <a:custGeom>
                <a:avLst/>
                <a:gdLst>
                  <a:gd name="textAreaLeft" fmla="*/ 141840 w 872280"/>
                  <a:gd name="textAreaRight" fmla="*/ 643680 w 872280"/>
                  <a:gd name="textAreaTop" fmla="*/ 34200 h 255960"/>
                  <a:gd name="textAreaBottom" fmla="*/ 221760 h 25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027" hR="21600" stAng="10800000" swAng="5400000"/>
                    <a:lnTo>
                      <a:pt x="12427" y="0"/>
                    </a:lnTo>
                    <a:arcTo wR="7027" hR="21600" stAng="-5400000" swAng="1480133"/>
                    <a:lnTo>
                      <a:pt x="20307" y="9115"/>
                    </a:lnTo>
                    <a:lnTo>
                      <a:pt x="16754" y="21600"/>
                    </a:lnTo>
                    <a:lnTo>
                      <a:pt x="10615" y="9115"/>
                    </a:lnTo>
                    <a:lnTo>
                      <a:pt x="12761" y="9115"/>
                    </a:lnTo>
                    <a:arcTo wR="7027" hR="21600" stAng="-3919867" swAng="-1017498"/>
                    <a:lnTo>
                      <a:pt x="9727" y="1658"/>
                    </a:lnTo>
                    <a:arcTo wR="7027" hR="21600" stAng="-5862635" swAng="-4937365"/>
                    <a:close/>
                  </a:path>
                  <a:path fill="darkenLess" w="21600" h="21600">
                    <a:moveTo>
                      <a:pt x="0" y="21600"/>
                    </a:moveTo>
                    <a:arcTo wR="7027" hR="21600" stAng="10800000" swAng="5400000"/>
                    <a:lnTo>
                      <a:pt x="7027" y="0"/>
                    </a:lnTo>
                    <a:arcTo wR="7027" hR="21600" stAng="-5400000" swAng="462635"/>
                    <a:lnTo>
                      <a:pt x="9727" y="1658"/>
                    </a:lnTo>
                    <a:arcTo wR="7027" hR="21600" stAng="-5862635" swAng="-4937365"/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15"/>
            <p:cNvSpPr/>
            <p:nvPr/>
          </p:nvSpPr>
          <p:spPr>
            <a:xfrm>
              <a:off x="1828800" y="914400"/>
              <a:ext cx="609588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8600" rIns="0" tIns="0" bIns="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Factors on Cardiac Outpu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99"/>
                  </a:solidFill>
                  <a:latin typeface="Arial"/>
                </a:rPr>
                <a:t>Prelo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306360" y="3200400"/>
              <a:ext cx="47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loa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ardiac outpu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Starling-Frank Mechanis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tors Which Increase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Which Decrease Pre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45:03Z</dcterms:created>
  <dc:creator>AHMAD RAWHI</dc:creator>
  <dc:description/>
  <dc:language>en-US</dc:language>
  <cp:lastModifiedBy>Alharbi</cp:lastModifiedBy>
  <dcterms:modified xsi:type="dcterms:W3CDTF">2016-01-26T10:52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