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BDF-C9D1-4E38-8BD0-4F75E9CD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CF9-DF6A-4D1B-9927-EE13BEFB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6D3-65E9-422C-BB1B-09C32075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9B1-8AEF-4F45-82F1-281A0375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646-9A06-4D49-ADBA-4C90CE09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2A5-B38E-405A-B121-88445272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1A7-5997-4C79-92FC-3E255EA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372-4613-498A-BEB5-4B8DF519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24B-5B56-49D0-B04B-B7216FF8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283-2E04-44A6-BA31-29381092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F02-6507-4762-BE10-D7DC215B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9F6-086D-4B53-9568-58EC1EE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5254-46B3-4303-9F80-D32999E508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rug acting on the Hear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469440" y="914400"/>
            <a:ext cx="8064360" cy="4800240"/>
            <a:chOff x="469440" y="914400"/>
            <a:chExt cx="8064360" cy="4800240"/>
          </a:xfrm>
        </p:grpSpPr>
        <p:sp>
          <p:nvSpPr>
            <p:cNvPr id="75" name="Rectangle 9"/>
            <p:cNvSpPr/>
            <p:nvPr/>
          </p:nvSpPr>
          <p:spPr>
            <a:xfrm>
              <a:off x="1137240" y="914400"/>
              <a:ext cx="6724080" cy="30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fterload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99cc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Afterlo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0" descr=""/>
            <p:cNvPicPr/>
            <p:nvPr/>
          </p:nvPicPr>
          <p:blipFill>
            <a:blip r:embed="rId1"/>
            <a:stretch/>
          </p:blipFill>
          <p:spPr>
            <a:xfrm>
              <a:off x="4499640" y="1972080"/>
              <a:ext cx="2836440" cy="37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11"/>
            <p:cNvSpPr/>
            <p:nvPr/>
          </p:nvSpPr>
          <p:spPr>
            <a:xfrm>
              <a:off x="469440" y="4263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fterloa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2"/>
            <p:cNvSpPr/>
            <p:nvPr/>
          </p:nvSpPr>
          <p:spPr>
            <a:xfrm flipH="1">
              <a:off x="7525080" y="2060280"/>
              <a:ext cx="1008360" cy="969480"/>
            </a:xfrm>
            <a:prstGeom prst="flowChartMagneticTap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7273080" y="2941560"/>
              <a:ext cx="335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fterloa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arterial pressure or diameter of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sure increases, resistance increases, afterloa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sure decreases, resistance decreases, afterload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ontrac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generated by the myocardium when it contracts – inotropic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ction fraction (EF) - percentage of LV end-diastolic volume that is ejected with each con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 - normally approximately 50-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1154160" y="914400"/>
            <a:ext cx="6770520" cy="4149720"/>
            <a:chOff x="1154160" y="914400"/>
            <a:chExt cx="6770520" cy="4149720"/>
          </a:xfrm>
        </p:grpSpPr>
        <p:sp>
          <p:nvSpPr>
            <p:cNvPr id="85" name="Rectangle 5"/>
            <p:cNvSpPr/>
            <p:nvPr/>
          </p:nvSpPr>
          <p:spPr>
            <a:xfrm>
              <a:off x="1828800" y="914400"/>
              <a:ext cx="609588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99cc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2) </a:t>
              </a: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After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Contractilit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"/>
            <p:cNvPicPr/>
            <p:nvPr/>
          </p:nvPicPr>
          <p:blipFill>
            <a:blip r:embed="rId1"/>
            <a:stretch/>
          </p:blipFill>
          <p:spPr>
            <a:xfrm>
              <a:off x="4876920" y="1828800"/>
              <a:ext cx="257148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7"/>
            <p:cNvSpPr/>
            <p:nvPr/>
          </p:nvSpPr>
          <p:spPr>
            <a:xfrm>
              <a:off x="1154160" y="4419720"/>
              <a:ext cx="299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actility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H="1">
              <a:off x="5943240" y="3809880"/>
              <a:ext cx="152280" cy="685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Left versus Right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. exercis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tho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ink, frothy sput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4832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. exercis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J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patomeg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c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athwayCHF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Five main drugs are us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464558">
                  <a:alpha val="26274"/>
                </a:srgbClr>
              </a:gs>
            </a:gsLst>
            <a:lin ang="5400000"/>
          </a:gradFill>
          <a:ln w="25560">
            <a:solidFill>
              <a:srgbClr val="000000">
                <a:alpha val="26000"/>
              </a:srgbClr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ur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 isotrop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sodi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ß bloc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) Diuretic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accelerate the rate of urine 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removal of sodium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elive distention of the heart by reducing blood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renal azotem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r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gly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patic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severe heart failur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loop diur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 – 320 mg QD), Furose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m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metanide 1-8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rsem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-200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Boopee"/>
              </a:rPr>
              <a:t>Lecture objecti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end of the this lecture, the student will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escribe basic anatomy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List determinants factor of cardiac out 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escribe main approach to the treatment of heart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List the names of drug used to treat heart failure and hypertension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58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2) Inhibitors of renin-angiotensin- aldostero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in-angiotensin-aldosterone syst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s activation early in the course of heart failure and plays an important r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e progression of the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 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 receptors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360" y="6170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giotensin Converting Enzym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y block the R-A-A system by inhibiting the conversion of angiotensin I to angiotensin II → vasodilation and ↓ Na re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7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74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de effects of ACE 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insuff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Digitalis Glycoside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Digoxin, Digitox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digitalis has declined somewhat because of safety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studies have shown that digitals does not affect mortality in CHF patients but causes significant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symptoms of 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74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gitalis (cont.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ve inotropic effect by ↑ intracellular Ca &amp; enhancing actin-myosin cross bride formation (binds to the Na-K ATPase → inhibits Na pump → ↑ intracellular Na → ↑ Na-Ca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hythmogenic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16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gitalis Tox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therapeutic to toxic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and cardiac manif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rex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sea, vomit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ach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us bradycardia and ar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V block (usually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gr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rial tachycardia with A/V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junctional rhythm in patients with a f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1480" y="58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4) β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traditionally contraindicated in pts with C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ey are the main stay in treatment on CHF &amp; may be the only medication that shows substantial improvement in LV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improved LV function multiple studies show improved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divisions of 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ympathetic – acetylcholine produces inhibitor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athetic – catecholamines stim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heart rate – Beta 1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 smooth muscles – Beta 2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constrict vessels – Alpha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88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5) Vasodi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tion of afterlo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rteriolar vasodilatation (hydralazi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 LVEDP, O2 consumption,improve myocardial perfus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ke volume and C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tion of prelo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ous di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Nitrate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↓ the venous retur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↓ the load on both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the maximum benefit is achieved by using agents with both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tate in which the heart cannot provide sufficient cardiac output to satisfy the metabolic needs of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termed congestive heart failure (CHF) since symptoms of increase venous pressure are often prom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3360" y="6170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sitive inotrop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drugs that improve myocardial contractility (β adrenergic agonists, dopaminergic agents, phosphodiesterase inhibitor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amine, dobutamine, milrinone, amri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tudies showed ↑ mortality with oral inotropic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only use for them now is in acute sittings as cardiogenic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me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380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iond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Write the nursing implication to the drug that treat H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iond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Write two examples to each group of med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Edwardian Script ITC"/>
              </a:rPr>
              <a:t>thank you for listening</a:t>
            </a:r>
            <a:r>
              <a:rPr b="1" lang="en-GB" sz="4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533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Physi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member this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= SV x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: parasympathetic and sympathetic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: preload, afterload, contrac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blood ejected per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s between 4-6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= Stroke volume X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70 ml X 60 beats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,200 ml/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4191120" y="3657600"/>
            <a:ext cx="4957560" cy="3460320"/>
            <a:chOff x="4191120" y="3657600"/>
            <a:chExt cx="4957560" cy="3460320"/>
          </a:xfrm>
        </p:grpSpPr>
        <p:pic>
          <p:nvPicPr>
            <p:cNvPr id="53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3657600"/>
              <a:ext cx="4572360" cy="30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8530200" y="42289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7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5005800" y="6658200"/>
              <a:ext cx="17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75 beat/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8561160" y="45147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stretch of myocardial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the volume of blood in left ventricle (LV) at end of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volume –&gt; increased preload-&gt; increased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olume –&gt; decreased preload –&gt; decreased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of myocardial cells also affects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306360" y="914400"/>
            <a:ext cx="7618320" cy="4114440"/>
            <a:chOff x="306360" y="914400"/>
            <a:chExt cx="7618320" cy="4114440"/>
          </a:xfrm>
        </p:grpSpPr>
        <p:grpSp>
          <p:nvGrpSpPr>
            <p:cNvPr id="60" name="Group 5"/>
            <p:cNvGrpSpPr/>
            <p:nvPr/>
          </p:nvGrpSpPr>
          <p:grpSpPr>
            <a:xfrm>
              <a:off x="4724280" y="1828800"/>
              <a:ext cx="3152160" cy="3200040"/>
              <a:chOff x="4724280" y="1828800"/>
              <a:chExt cx="3152160" cy="3200040"/>
            </a:xfrm>
          </p:grpSpPr>
          <p:pic>
            <p:nvPicPr>
              <p:cNvPr id="61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724280" y="1828800"/>
                <a:ext cx="2603880" cy="32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AutoShape 7"/>
              <p:cNvSpPr/>
              <p:nvPr/>
            </p:nvSpPr>
            <p:spPr>
              <a:xfrm>
                <a:off x="7070400" y="2597040"/>
                <a:ext cx="806040" cy="191160"/>
              </a:xfrm>
              <a:prstGeom prst="rightArrow">
                <a:avLst>
                  <a:gd name="adj1" fmla="val 50000"/>
                  <a:gd name="adj2" fmla="val 10541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8"/>
              <p:cNvSpPr/>
              <p:nvPr/>
            </p:nvSpPr>
            <p:spPr>
              <a:xfrm>
                <a:off x="5393880" y="3428640"/>
                <a:ext cx="202320" cy="384120"/>
              </a:xfrm>
              <a:prstGeom prst="downArrow">
                <a:avLst>
                  <a:gd name="adj1" fmla="val 50000"/>
                  <a:gd name="adj2" fmla="val 4746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5393880" y="2468880"/>
                <a:ext cx="68040" cy="831600"/>
              </a:xfrm>
              <a:prstGeom prst="line">
                <a:avLst/>
              </a:prstGeom>
              <a:ln cap="rnd" w="1522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5663160" y="4069080"/>
                <a:ext cx="603000" cy="4471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 flipV="1">
                <a:off x="6066000" y="3172680"/>
                <a:ext cx="266760" cy="5752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2"/>
              <p:cNvSpPr/>
              <p:nvPr/>
            </p:nvSpPr>
            <p:spPr>
              <a:xfrm>
                <a:off x="5673600" y="4102560"/>
                <a:ext cx="994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re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3"/>
              <p:cNvSpPr/>
              <p:nvPr/>
            </p:nvSpPr>
            <p:spPr>
              <a:xfrm>
                <a:off x="6664320" y="2165400"/>
                <a:ext cx="114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re o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14"/>
              <p:cNvSpPr/>
              <p:nvPr/>
            </p:nvSpPr>
            <p:spPr>
              <a:xfrm>
                <a:off x="4724280" y="2147760"/>
                <a:ext cx="872280" cy="255960"/>
              </a:xfrm>
              <a:custGeom>
                <a:avLst/>
                <a:gdLst>
                  <a:gd name="textAreaLeft" fmla="*/ 141840 w 872280"/>
                  <a:gd name="textAreaRight" fmla="*/ 643680 w 872280"/>
                  <a:gd name="textAreaTop" fmla="*/ 34200 h 255960"/>
                  <a:gd name="textAreaBottom" fmla="*/ 221760 h 25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027" hR="21600" stAng="10800000" swAng="5400000"/>
                    <a:lnTo>
                      <a:pt x="12427" y="0"/>
                    </a:lnTo>
                    <a:arcTo wR="7027" hR="21600" stAng="-5400000" swAng="1480133"/>
                    <a:lnTo>
                      <a:pt x="20307" y="9115"/>
                    </a:lnTo>
                    <a:lnTo>
                      <a:pt x="16754" y="21600"/>
                    </a:lnTo>
                    <a:lnTo>
                      <a:pt x="10615" y="9115"/>
                    </a:lnTo>
                    <a:lnTo>
                      <a:pt x="12761" y="9115"/>
                    </a:lnTo>
                    <a:arcTo wR="7027" hR="21600" stAng="-3919867" swAng="-1017498"/>
                    <a:lnTo>
                      <a:pt x="9727" y="1658"/>
                    </a:lnTo>
                    <a:arcTo wR="7027" hR="21600" stAng="-5862635" swAng="-4937365"/>
                    <a:close/>
                  </a:path>
                  <a:path fill="darkenLess" w="21600" h="21600">
                    <a:moveTo>
                      <a:pt x="0" y="21600"/>
                    </a:moveTo>
                    <a:arcTo wR="7027" hR="21600" stAng="10800000" swAng="5400000"/>
                    <a:lnTo>
                      <a:pt x="7027" y="0"/>
                    </a:lnTo>
                    <a:arcTo wR="7027" hR="21600" stAng="-5400000" swAng="462635"/>
                    <a:lnTo>
                      <a:pt x="9727" y="1658"/>
                    </a:lnTo>
                    <a:arcTo wR="7027" hR="21600" stAng="-5862635" swAng="-4937365"/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15"/>
            <p:cNvSpPr/>
            <p:nvPr/>
          </p:nvSpPr>
          <p:spPr>
            <a:xfrm>
              <a:off x="1828800" y="914400"/>
              <a:ext cx="609588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306360" y="3200400"/>
              <a:ext cx="47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loa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ardiac outpu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Starling-Frank Mechanis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tors Which Increase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con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actors Which Decrease Pre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8:45:03Z</dcterms:created>
  <dc:creator>AHMAD RAWHI</dc:creator>
  <dc:description/>
  <dc:language>en-US</dc:language>
  <cp:lastModifiedBy>Alharbi</cp:lastModifiedBy>
  <dcterms:modified xsi:type="dcterms:W3CDTF">2016-02-18T06:56:1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