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C59B-DA9E-4356-8B6D-0784AB09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60BB-38D3-427F-A76C-121AA881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59DD-705B-4D02-B710-29958510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717E-3EBF-4237-AE9B-FB11CB48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987E-820E-41F2-A819-5A29B860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E62C-BBD5-4804-BB98-95276F94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6A02-57DF-4D7C-800B-CAFEDA74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E4A-DFF5-443B-9E31-DBAFF486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8E78-06A3-45E9-93FD-76B5576E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679C-C693-40A3-BDFE-A85BF9D1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29BE-FF7B-44D1-B974-F1A77969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5820-CD66-481C-8BD3-6F211A41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1860-6A28-41AF-BE2E-1ECD1607253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773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Entomology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C:\Users\hp\Documents\Maha files\Maha 1\saud university para slides\56)anop m f he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C:\Users\hp\Documents\Maha files\Maha 1\saud university para slides\55)anophales fml head.jpg"/>
          <p:cNvPicPr/>
          <p:nvPr/>
        </p:nvPicPr>
        <p:blipFill>
          <a:blip r:embed="rId1"/>
          <a:stretch/>
        </p:blipFill>
        <p:spPr>
          <a:xfrm>
            <a:off x="642960" y="571680"/>
            <a:ext cx="3822840" cy="5233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hp\Documents\Maha files\Maha 1\saud university para slides\54)anophales ml head.jpg"/>
          <p:cNvPicPr/>
          <p:nvPr/>
        </p:nvPicPr>
        <p:blipFill>
          <a:blip r:embed="rId2"/>
          <a:stretch/>
        </p:blipFill>
        <p:spPr>
          <a:xfrm>
            <a:off x="4857840" y="642960"/>
            <a:ext cx="37512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ult culex: (unspotted wings nor leg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o differentiate between male and female. Differentiation occurs by the mouth p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l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nse hair. Maxillary palps are as long as the proboscis, they are slen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emal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ess hair. Maxillary palps are shorter than the probosci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C:\Users\hp\Documents\Maha files\Maha 1\saud university para slides\58)culex m f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arva of anopheles and culex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va consists of head, thoracic and abdominal seg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ulex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bdominal segment carries a respiratory siph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ophel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 respiratory siph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2" descr="C:\Users\hp\Documents\Maha files\Maha 1\saud university para slides\59)anoph lrv.jpg"/>
          <p:cNvPicPr/>
          <p:nvPr/>
        </p:nvPicPr>
        <p:blipFill>
          <a:blip r:embed="rId1"/>
          <a:stretch/>
        </p:blipFill>
        <p:spPr>
          <a:xfrm>
            <a:off x="0" y="857160"/>
            <a:ext cx="3786120" cy="5429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Users\hp\Documents\Maha files\Maha 1\saud university para slides\60)culex eg lrv.jpg"/>
          <p:cNvPicPr/>
          <p:nvPr/>
        </p:nvPicPr>
        <p:blipFill>
          <a:blip r:embed="rId2"/>
          <a:stretch/>
        </p:blipFill>
        <p:spPr>
          <a:xfrm>
            <a:off x="3429000" y="785880"/>
            <a:ext cx="5715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trol of mosquito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- Protection of man from bites of mosquitoes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eeping under n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ring protective clot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repell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ing away from water colle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- Destruction of mosquitoes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hysical metho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rainage of any water collection on filling with s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trol of mosquito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emical metho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pplication of substances in water that are toxic to the acquatic stages, as paris green and petroleum oi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iological metho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pplication of living organisms in water to eat the larva. Ex. gambusia fish eats the larva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- Control of adult mosquito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spraying insectic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and flies (phlebotomu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males are blood suckers, while males feed on plant ju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rpholog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5 – 2.5 mm in size, yellowish in colo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, thorax and abdomen. Hairy, the hairs cover the body, wings and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humped thorax, attached to it one pair of wings and 3 pairs of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e has claspers on the posterior e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2" descr="C:\Users\hp\Documents\Maha files\Maha 1\saud university para slides\61)SANDFLY.JPG"/>
          <p:cNvPicPr/>
          <p:nvPr/>
        </p:nvPicPr>
        <p:blipFill>
          <a:blip r:embed="rId1"/>
          <a:stretch/>
        </p:blipFill>
        <p:spPr>
          <a:xfrm>
            <a:off x="1500120" y="571680"/>
            <a:ext cx="592956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squito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worldwide distributio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rpholog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-10 mm in siz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: carries a pair of eye, a pair of long antennae and a mo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female: the mouth parts are adapted for piercing and sucking of bl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ale: the mouth parts are not well developed, it feeds only plant ju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C:\Users\hp\Documents\Maha files\Maha 1\saud university para slides\62)male phlebotomus.jpg"/>
          <p:cNvPicPr/>
          <p:nvPr/>
        </p:nvPicPr>
        <p:blipFill>
          <a:blip r:embed="rId1"/>
          <a:stretch/>
        </p:blipFill>
        <p:spPr>
          <a:xfrm>
            <a:off x="1643040" y="785880"/>
            <a:ext cx="59292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edical importance of Phlebotom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- They act as vectors for human disea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- Leishmani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ve stage: promastigo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of transmission: bite of phlebotom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- Phlebotomus fev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ve stage: vi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of transmission: bite of phlebotom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- Oroya fever (bartonellosis)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ve stage: Barton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of transmission: bite of phlebotom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2- Diseases produced by phlebotomu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produce dermatitis at the site of b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ife cyc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male phlebotomus lays eggs in cr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ult ---- eggs ----- larva ---- pupa ----- ad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rol of sand f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nd flies have tendency to stay close to the ground and of short flight range. So, they are easily control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control is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Insectic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- Filling of cra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 Sleeping under n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- Application of repell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usca (house fly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ld wide in distribut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rpholog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um- sized flies, 6 – 9 mm in leng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: contains 2 compound eyes and 3 simple eyes, 2 antennae and sucking mouth p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rax: carries 3 pairs of legs and one pair of w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domen:  4 seg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ife cyc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male musca lays its eggs on garb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ult ----- eggs ---- larva ---- pupa ---- ad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edical importance of mus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transmission of organisms on legs and body hai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asitic disea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yst of Entamoeba histolytica, cyst of Giardia, eggs of Ascar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-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acterial disea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yphoid, Chole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iral disea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liomyelitis, Hepatit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ntrol of mus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-  Control of adult fl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 screening of ho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y net over the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ctici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-  Control of breeding plac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rbage should be properly disp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nitary disposal of excr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edu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40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rax: It is three segmented. It carries three pairs of legs and one pair of wings covered by sc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domen: Slender and long, it is made up of eight seg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Life cyc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Female mosquitoes lay eggs on water, which hatch releasing larvae, which then converted to pupa, then within two days, adults are formed and fly out of the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ults ----- eggs ------ larva ----- pupa ------ ad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quatic stages of mosquitoes (living in water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larva                           2- pu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squito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mmonest mosquitoes ar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 Anopheles: Spotted wings (dark and pale spots of scale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 Culex: Unspotted wings and unspotted le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 Aedes: spotted le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4" descr="C:\Users\hp\Documents\Maha files\Maha 1\saud university para slides\53)anopheles_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edical importance of Mosquito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- They act as vectors for human disea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- Anophe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Malari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ve stage: sporozo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of transmission: bite of female anopheles, by which it injects the sporozoites into blood of m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- Filaria: (ex. Wuchereria bancroft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ve stage: infective larva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of infection: bite of female mosquito by which it deposits the infective larva on human skin and the larva enter through the wound b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 Arboviru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ve stage: vi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of transmission: bite of female mosquito injecting the virus with its sali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- Culex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Arboviruses (similar to anophe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- Filaria (similar to anophe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- Ae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Yellow fev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ve stage: vi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of transmission: bite of female aedes mosqu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- Dengue fev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ve stage: vi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of transmission: bite of female aedes mosqu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 Filaria: (similar to anophe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- Bacterial disea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ve stage: Trepon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of transmission: bite of female aedes mosqu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2- Diseases produced by mosquito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ypes of mosquitoes produce dermatitis at the site of b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ult anopheles: (spotted wing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o differentiate between male and female. Differentiation occurs by the mouth p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l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nse hair. Maxillary palps are as long as the proboscis, with clubb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emal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ess hair. Maxillary palps are as long as the proboscis, but they are slender with no clubb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07:22:55Z</dcterms:created>
  <dc:creator>User</dc:creator>
  <dc:description/>
  <dc:language>en-US</dc:language>
  <cp:lastModifiedBy>user</cp:lastModifiedBy>
  <dcterms:modified xsi:type="dcterms:W3CDTF">2015-04-19T04:28:27Z</dcterms:modified>
  <cp:revision>118</cp:revision>
  <dc:subject/>
  <dc:title>Gram-negative ro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