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1B9-D304-4F39-96DE-3DA8CD68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95E-5141-4DB6-AD7E-21FCEDD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82B-8CD4-4984-8F76-5DE228F7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847-D8FE-4019-83BC-6ABA7A76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06F-5598-46B1-9B35-0696DC27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AD7-C35A-4C52-B6C2-E0C82F1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548-391E-432B-BFDB-077E256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4D5-0A73-478E-BD1E-014009B3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66D-54F9-4EF4-B872-8BCD751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6A7-E136-4EAA-88D1-6DD5474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51C-F46B-4DAA-89F1-2DB3602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B5D-62CE-43F9-A06D-817F3C4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B8D-A49A-489A-98BF-E09F5FC657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ntomolog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C:\Users\hp\Documents\Maha files\Maha 1\saud university para slides\56)anop m f he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Users\hp\Documents\Maha files\Maha 1\saud university para slides\55)anophales fml head.jpg"/>
          <p:cNvPicPr/>
          <p:nvPr/>
        </p:nvPicPr>
        <p:blipFill>
          <a:blip r:embed="rId1"/>
          <a:stretch/>
        </p:blipFill>
        <p:spPr>
          <a:xfrm>
            <a:off x="642960" y="571680"/>
            <a:ext cx="3822840" cy="523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hp\Documents\Maha files\Maha 1\saud university para slides\54)anophales ml head.jpg"/>
          <p:cNvPicPr/>
          <p:nvPr/>
        </p:nvPicPr>
        <p:blipFill>
          <a:blip r:embed="rId2"/>
          <a:stretch/>
        </p:blipFill>
        <p:spPr>
          <a:xfrm>
            <a:off x="4857840" y="642960"/>
            <a:ext cx="37512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culex: (unspotted wings nor le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differentiate between male and female. Differentiation occurs by the mouth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se hair. Maxillary palps are as long as the proboscis, they are sl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ss hair. Maxillary palps are shorter than the probosc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hp\Documents\Maha files\Maha 1\saud university para slides\58)culex m f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rva of anopheles and culex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va consists of head, thoracic and abdominal se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lex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dominal segment carries a respiratory sip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ophe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 respiratory siph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hp\Documents\Maha files\Maha 1\saud university para slides\59)anoph lrv.jpg"/>
          <p:cNvPicPr/>
          <p:nvPr/>
        </p:nvPicPr>
        <p:blipFill>
          <a:blip r:embed="rId1"/>
          <a:stretch/>
        </p:blipFill>
        <p:spPr>
          <a:xfrm>
            <a:off x="0" y="857160"/>
            <a:ext cx="3786120" cy="542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hp\Documents\Maha files\Maha 1\saud university para slides\60)culex eg lrv.jpg"/>
          <p:cNvPicPr/>
          <p:nvPr/>
        </p:nvPicPr>
        <p:blipFill>
          <a:blip r:embed="rId2"/>
          <a:stretch/>
        </p:blipFill>
        <p:spPr>
          <a:xfrm>
            <a:off x="3429000" y="7858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 of 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 Protection of man from bites of mosquitoe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ing under 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g protective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pell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away from water coll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 Destruction of mosquitoe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rainage of any water collection on filling with 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 of 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m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pplication of substances in water that are toxic to the acquatic stages, as paris green and petroleum o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olog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pplication of living organisms in water to eat the larva. Ex. gambusia fish eats the larv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 Control of adult mosquito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praying insectic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nd flies (phlebotomu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 are blood suckers, while males feed on plant ju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– 2.5 mm in size, yellowish in col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, thorax and abdomen. Hairy, the hairs cover the body, wing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umped thorax, attached to it one pair of wings and 3 pairs of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has claspers on the posterior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Users\hp\Documents\Maha files\Maha 1\saud university para slides\61)SANDFLY.JPG"/>
          <p:cNvPicPr/>
          <p:nvPr/>
        </p:nvPicPr>
        <p:blipFill>
          <a:blip r:embed="rId1"/>
          <a:stretch/>
        </p:blipFill>
        <p:spPr>
          <a:xfrm>
            <a:off x="1500120" y="571680"/>
            <a:ext cx="59295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worldwide distribu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10 mm in siz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: carries a pair of eye, a pair of long antennae and a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emale: the mouth parts are adapted for piercing and sucking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le: the mouth parts are not well developed, it feeds only plant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hp\Documents\Maha files\Maha 1\saud university para slides\62)male phlebotomus.jpg"/>
          <p:cNvPicPr/>
          <p:nvPr/>
        </p:nvPicPr>
        <p:blipFill>
          <a:blip r:embed="rId1"/>
          <a:stretch/>
        </p:blipFill>
        <p:spPr>
          <a:xfrm>
            <a:off x="1643040" y="785880"/>
            <a:ext cx="59292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Phlebotom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- They act as vectors for human dis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 Leishmani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promasti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 Phlebotomus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 Oroya fever (bartonellosis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Barton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- Diseases produced by phlebotom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oduce dermatitis at the site of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fe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phlebotomus lays eggs in c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 ---- eggs ----- larva ---- pupa -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of sand f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d flies have tendency to stay close to the ground and of short flight range. So, they are easily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trol i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Insectic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ling of cra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Sleeping under 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Application of repel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ca (house fly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wide in distribu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um- sized flies, 6 – 9 mm in l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: contains 2 compound eyes and 3 simple eyes, 2 antennae and sucking mouth 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: carries 3 pairs of legs and one pair of w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:  4 se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fe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musca lays its eggs on garb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 ----- eggs ---- larva ---- pupa 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mus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transmission of organisms on legs and body h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asitic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yst of Entamoeba histolytica, cyst of Giardia, eggs of Ascar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cterial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yphoid, Chol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ral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iomyelitis, Hepat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rol of mus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Control of adult f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 screening of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 net over the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ctic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 Control of breeding pla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should be properly dis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itary disposal of ex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: It is three segmented. It carries three pairs of legs and one pair of wings covered by sc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: Slender and long, it is made up of eight se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emale mosquitoes lay eggs on water, which hatch releasing larvae, which then converted to pupa, then within two days, adults are formed and fly out of the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s ----- eggs ------ larva ----- pupa --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atic stages of mosquitoes (living in water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larva                           2- pu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onest mosquitoes a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Anopheles: Spotted wings (dark and pale spots of scal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Culex: Unspotted wings and unspotted le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Aedes: spotted l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C:\Users\hp\Documents\Maha files\Maha 1\saud university para slides\53)anopheles_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Mosquito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- They act as vectors for human dis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- Anophe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Malari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sporozo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nopheles, by which it injects the sporozoites into blood of 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aria: (ex. Wuchereria bancrof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infective larv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infection: bite of female mosquito by which it deposits the infective larva on human skin and the larva enter through the wound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Arbovir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mosquito injecting the virus with its sal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- Cu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Arboviruses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aria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- Ae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Yellow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Dengue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Filaria: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Bacterial dise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Trepon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- Diseases produced by mosquito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ypes of mosquitoes produce dermatitis at the site of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anopheles: (spotted w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differentiate between male and female. Differentiation occurs by the mouth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se hair. Maxillary palps are as long as the proboscis, with clubb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ss hair. Maxillary palps are as long as the proboscis, but they are slender with no clubb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7:22:55Z</dcterms:created>
  <dc:creator>User</dc:creator>
  <dc:description/>
  <dc:language>en-US</dc:language>
  <cp:lastModifiedBy>user</cp:lastModifiedBy>
  <dcterms:modified xsi:type="dcterms:W3CDTF">2015-04-19T04:28:27Z</dcterms:modified>
  <cp:revision>118</cp:revision>
  <dc:subject/>
  <dc:title>Gram-negative r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