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5927-764F-41EA-B7AB-6CC860DA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1B10-B9F9-4E58-8ED2-0E3C8ADE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4B99-CE62-4290-BB38-E765E8C4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07D-90F4-4812-BB15-C1BF561B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3CC7-9DFD-4EA8-831F-2AEC1273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4197-9A29-4A66-BA9A-40E65DC6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2B9D-190E-437A-8B92-BCD3342B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508D-53E5-44C1-BB3B-519154FB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5217-EFEF-4750-AD64-3CC641BE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1D09-E38E-4D48-874B-6720258B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F9AB-4066-4E65-BBBA-D308B1CB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0C8C-11C5-4970-ABFE-68A35C2C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C162-07B8-4B44-8A1F-B5F9F594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221F-BC5B-4070-B50A-E622EF18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ED33-933F-4E79-BA70-AC023424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15CD-2A63-4139-869A-6A837D5C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77A0-5AC5-439B-975F-CC135D89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D17F0-404E-4E67-99FF-98199EAB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8483E-D924-438C-BD17-09AED75B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9EE22-977B-46C1-8D94-589CB813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D116E-F956-4EEE-B257-12FBB559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A42F9-DCCC-4F50-9441-21816A60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1AC-C1FB-4763-BA64-5F9E4179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B14E7-4F75-4A03-9ACC-08282B42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69EF8-F4AF-4DFF-B525-DCC10CAD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B8697-5A3E-4A55-9C1E-EFA5228E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B2B69-1CE5-4588-9945-9D160D6F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F0DC6-B3EF-4843-B397-36762AAE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3B8FA-3397-4B79-A8D7-D882704E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DC7BE-BB2E-403E-AE63-3DF4A8EE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EB53A-8545-4BC0-B25B-15B5407A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3FFA9-C22D-4DAF-80BA-B0CD8278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3036A-FBF6-4059-9002-2F76787E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9965-F2DC-4B14-805D-C05E2265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70A7D-D665-4F09-84AC-C705793C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2346E-92F7-4383-A958-AFEB78C2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E2B30-D45C-4FB9-BB75-F32CFDAF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1D57C-8EEE-41A3-BE9B-9F8B0D5D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1D6E8-02BF-492B-8F2F-2BEFE059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DAA4A-1CA7-4D61-9028-043DF153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8D10F-170B-42BA-80B2-7FCDD7C7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4F0D5-83F3-474A-A504-DF2096EF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63327-2F06-4E40-B7D5-99402D78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F002-79FD-4F87-BB94-89BEC0A5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D1C4-13BE-4C9A-A355-93CEAA70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696B-960C-433E-A5AB-15F9CC16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14B2-32A6-43B7-8EAD-BE2861CB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8C3B-7741-4FC8-BC8D-E1EC6370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3677-5863-430E-82F3-FECDB3FD84B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Gynaecological Nur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CAEA-1219-43CB-BA78-F2AE718B4C3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CD87-87D8-4A4A-8389-71676A79D05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HMAD AL-ISS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naecological Nur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2E88-3106-40A5-87F3-0645DC64FA1D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64AE-140B-45A1-91C9-4A60487338C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Gynaecological Nur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6D43-87C5-4064-B283-E4FC6ABAAD6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AE73-2AEB-463F-A6DB-FD19C730D8E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HMAD AL-ISS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naecological Nur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1A8F-6D5E-4698-9052-E73140B7AD7E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762120" y="2514600"/>
            <a:ext cx="8153280" cy="152388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31419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00"/>
                </a:solidFill>
                <a:latin typeface="Verdana"/>
              </a:rPr>
              <a:t>Immunization </a:t>
            </a:r>
            <a:endParaRPr b="1" lang="en-US" sz="4000" spc="1" strike="noStrike">
              <a:ln w="0">
                <a:noFill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28600" y="4267080"/>
            <a:ext cx="861048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5" descr="C:\Users\alrousan\Pictures\logo_7_0.png"/>
          <p:cNvPicPr/>
          <p:nvPr/>
        </p:nvPicPr>
        <p:blipFill>
          <a:blip r:embed="rId1"/>
          <a:stretch/>
        </p:blipFill>
        <p:spPr>
          <a:xfrm>
            <a:off x="2514600" y="152280"/>
            <a:ext cx="3429000" cy="990720"/>
          </a:xfrm>
          <a:prstGeom prst="rect">
            <a:avLst/>
          </a:prstGeom>
          <a:ln w="0">
            <a:noFill/>
          </a:ln>
        </p:spPr>
      </p:pic>
      <p:sp>
        <p:nvSpPr>
          <p:cNvPr id="17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3087-C43D-47D3-A7D3-9238DCC5C17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damages vaccin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vaccines lose their potency after a certain time you know that time from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piry 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ed on the vacc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eat &amp; sunligh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damage vaccines, especially the live attenuated ones (measles &amp; BC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reez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mage the killed vaccines and toxoids (Pertus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Hepatiti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infectants or antiseptic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damage vacc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5A2B-50ED-45BB-8DC8-52708F212BB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Contraindication to child immunization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lmost no contraindications to vacc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with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ld illness should be immunized as us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with malnutrition can develop good immunity, so immunize them as usual because they are more likely than other children to die from some diseases, especially meas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24A6-2D74-454E-BDFA-F819C0D7147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raindications a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ry severely ill children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need to be hospitalized, or children who have very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igh fev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ould be delay vaccina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child has had severe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action from DPT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 (convulsions or shock) (DPT is a combined vaccine for Diphtheria, Pertussis and Tetanus) do not give that child any more doses of DPT. Give him DT vaccin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G is the only vaccine which not be administered to children with clinically apparent AIDS or Immune deficiency diseases, premature babies, malnutrition, and infection skin diseas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DF23-0265-48E7-983A-EEE25728207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400" spc="-1" strike="noStrike">
                <a:solidFill>
                  <a:srgbClr val="ffffff"/>
                </a:solidFill>
                <a:latin typeface="Arial"/>
              </a:rPr>
              <a:t>Preparation for immunization sess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mmunization session should be i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closed si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mothers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orm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y need on vaccin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piry dat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vaccine before us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gis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refully the doses that given to the child in the health unit register and on the immunization ca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ut the vaccines into a cup of i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row away any open vial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vaccine that remain after the  immunization sess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se a disposable syring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child and destroy it after use so it cannot be used ag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se oldest vaccin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has been in your refrigerator for the longest time fir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81B3-3DC2-45F5-8C33-4EA8C42DBFE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erse reaction of some vacci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609480" y="1499040"/>
            <a:ext cx="7772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Measles &amp; MMR( measles, mumps, and rubella): child may hav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ent rash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hralg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Pertussis: child may have:(several to 72hrs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ness, pain, swelling at injection si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er (slight to moderate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rexia, drow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Poliomyelitis vaccine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 milk may contain specific antibodies, which interfere with oral polio. So avoid breast feed baby 1/2-hr before and after the vacci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by may spit or vomit the vacc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0852-6D40-4F63-9700-BECD0A7C276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accine carri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 the lid tight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 and dry after every u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 vaccine vials and ampoules in a polythene bag and close 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the carrier away from direct sunligh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rriers with four ice packs can keep the vaccine cold for 2 day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sit or place anything heavy on  a vaccine carri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2" descr="Slide6"/>
          <p:cNvPicPr/>
          <p:nvPr/>
        </p:nvPicPr>
        <p:blipFill>
          <a:blip r:embed="rId1">
            <a:lum bright="42000"/>
          </a:blip>
          <a:srcRect l="3027" t="1851" r="3027" b="1851"/>
          <a:stretch/>
        </p:blipFill>
        <p:spPr>
          <a:xfrm>
            <a:off x="5105520" y="228600"/>
            <a:ext cx="3149640" cy="1898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5D10-AC73-446C-AFBF-3CF787CFAF9F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accine carri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arrier for small quantities of vaccines (16-20 via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ials of D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PT is a combined vaccine for Diphtheria, Pertussis and Tetanus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T (Tetanus) vaccines should not be in direct contact with the frozen pa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ce packs for lining the sides of the carrier should be fully froz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 fully frozen ice packs in the carrier and wait for few minutes for temperature to fall to less than 8 degree Cels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398A-D535-41DB-B874-999838C4AE6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accine  refrigera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rrect temperature to keep vaccine is between +2c° and + 8 c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 storage guidel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store food or drink in vaccine refrigerators</a:t>
            </a:r>
            <a:r>
              <a:rPr b="0" lang="ar-S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vaccines only on the middle and upper shelves in the refrigera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 air to circulate within the refrigerator, by not crowding or overfilling the refrigerator with the vaccines. A gap of at least 4 cm from all walls and between large packages of vaccine vials is recommend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zing does not damage live attenuated vaccines "BCG", oral polio and measles vacc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zing damage the killed vaccines and toxoids (DPT, DT, 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376E-F7D4-46A4-9B7E-2EE9069EDAB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" descr="Organizing the Refrigerator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2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1CBB-777D-43FF-97FC-7307992832BF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ization is the process whereby a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son is made immune or resistant to an infectious disea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ypically by the administration of a vaccin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cines stimulate the body’s own immune system to protect the person against subsequent infection or disease (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ccines are weapons to prevent disease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munization is a way to protect child from getting a number of illnesse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any of these illnesses are easily spread from child to child and can cause serious health problem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B7A1-ADBF-4ECE-91DD-AF4F0C7D936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 immunization an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ccination of pregnant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 immunizati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 immunization is immunization of children with vaccines to protect them against some diseas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cination of pregnant women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T (Tetanus) vaccin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tects mothers against Tetanus and protects new born babies from neonatal Tetanu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6598-E9EC-495F-AD7E-C70FAC35EB3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ffffff"/>
                </a:solidFill>
                <a:latin typeface="Arial"/>
              </a:rPr>
              <a:t>Types of Immunity-Passive I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immunity is provided when a person is given antibodies to a disease rather than producing them through his or her own immune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wborn baby acquires passive immunity from its mother through the plac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39AC-A0F4-447E-BD00-9201DF275DFF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ffffff"/>
                </a:solidFill>
                <a:latin typeface="Arial"/>
              </a:rPr>
              <a:t>Types of Immunity-Active Immun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immunity results when exposure to a disease organism triggers the immune system to produce antibodies to that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to the disease organism can occur through infection with the actual disease or through vacc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EBDB-9EE7-4331-9A25-33DEDB2FF24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ive immunity and Active immun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09480" y="1600200"/>
          <a:ext cx="7925040" cy="3657600"/>
        </p:xfrm>
        <a:graphic>
          <a:graphicData uri="http://schemas.openxmlformats.org/drawingml/2006/table">
            <a:tbl>
              <a:tblPr/>
              <a:tblGrid>
                <a:gridCol w="3886200"/>
                <a:gridCol w="4038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assive immunit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tive immunit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person is given antibodies to a dise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sure to a disease organism triggers the immune system to produce antibodies to that diseas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ection is immedi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kes time (usually several weeks) to devel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ts only for a few weeks or mo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-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1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E1BD-2C59-4516-9EA4-42A6DA76E73F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s of vaccin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 Live vaccine: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cine containing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ve attenuated microorganisms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ould b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ruse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.g. measles, mumps, oral poliomyelitis (sabin), and rubella vaccine. Or live attenuated strains of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cteri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.g. BCG (bacilli calmette-Guerin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Killed vaccin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ccin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 containing live microorganism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y contain killed microorganisms, Inactivated (killed)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ru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.g. hepatitis A,B, poliomyelitis (Salk) vaccines. Inactivated (killed)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cteri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tussis (whooping cough),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Vaccine containing the toxins that the bacteria produc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fter changing them into harmless toxoid, such  Tetanus toxoid TT and diphtheria toxi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9719-2BCC-443B-8C65-801F563FB78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56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d Chai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cines are delicate biological substances that can become less effective or destroyed if they are frozen, allowed to get too hot, and exposed to direct sunlight or fluorescent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d Chai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nsporting and storing vaccines within the safe temperat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nge of +2 °C to +8 °C from the place of manufacture to the point of administration. This temperature range is recommended because outside this range vaccines may (very quickly) lose their pot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zing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ituation where vaccines experience temperatures at, or below, 0 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ze Monitor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vice that indicates exposure to &lt; 0 °C for periods greater than 30 minu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Temperatu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at monitor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vice that indicates exposure to excessive tempera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C926-0FE8-40DA-963B-10E51760F60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d-chain moni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d-chain monitors (CCM) include time temperature (heat monitors) and freeze monitors. The CCM should accompany all vaccines during any long distance vaccine transpo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CM should not be removed from the (cold box) container until all vaccines have been removed for either use or stor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3386-C013-4E55-953F-117B0A341174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4T14:29:20Z</dcterms:created>
  <dc:creator>Dr Uzoigwe S.A</dc:creator>
  <dc:description/>
  <dc:language>en-US</dc:language>
  <cp:lastModifiedBy>user</cp:lastModifiedBy>
  <cp:lastPrinted>2015-02-17T11:21:49Z</cp:lastPrinted>
  <dcterms:modified xsi:type="dcterms:W3CDTF">2016-02-15T13:23:24Z</dcterms:modified>
  <cp:revision>127</cp:revision>
  <dc:subject/>
  <dc:title>Dysfunctional uterine bleeding (DUB)</dc:title>
</cp:coreProperties>
</file>