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9294813" cy="7008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E3D9-CA4B-4B60-8522-A48550472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322E-0ADB-40A8-BF4E-F19D5C7A2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7B27-0E00-4853-BA0C-787F1712C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8C2D-3E92-4D2C-91FC-468C0F9EF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B2C19-7375-4565-B948-AFF06CD19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CD028-9C5A-4187-BFE6-374963F10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10AF4-F806-48F9-80A0-2FB819EC7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FA55F-6F81-4865-A6BD-02E0E0C24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FF229-8D8A-4CA1-B6BD-21811925C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0DBB8-0AFC-46D8-81C5-A2C637C30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4DB46-B1CE-467D-BAA6-8519D0964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5B0E-EC95-476F-803C-BC927FB24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3D74E-EE68-4B34-ADBB-3FE5BFC89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5E109-0F07-42CC-BBCD-FD1CAE53D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DE896-4C4F-4EC0-8612-D31A03712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2CA30-ABB4-4CBD-B493-57F4FEC20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4116A-513A-4CF9-9108-7CFECBF63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029196-7C23-413A-9F82-FEC2CECF7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E5715E-2A5D-4967-82DB-B2D53C0AB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9D6C15-8A43-4FE7-B1AF-039AA5CEE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05DB60-6464-4811-AFDD-8FFE297CB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7A2254-955B-4770-909E-CD44ABFCC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14CF-5AA0-427C-AE83-64DD8150D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6B2499-6B95-4AB2-93B0-BC1BB7BCE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9C300F-D176-452B-8193-FB2490AEF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CAF8D7-FF25-488F-90CE-B7001440A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FB4B04-AB8E-409D-AAA0-0CEC4B1E4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81D251-3428-4433-A40C-A89353B15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D4D359-2EDF-4459-AB45-922F079D9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9BAC68-ECB2-41DD-B49E-69DC189F1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A94D45-A57A-40D4-819E-4D795DDDA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9BCF84-10A7-4B6E-A472-6E6504C71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148A49-4D7E-46BE-90CF-B2E86549B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3F23-22B9-48DA-83BD-36F1D7A35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46FA15-7C57-4AA9-8519-EC1CF2FBE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330AB0-6248-475C-AD69-E06C97257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BD1FA3-C2C7-4BC6-8B79-2371D5DA1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99A62D-2D67-4014-8F56-CD63B6637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2332B3-1A4A-4F1A-85E7-A6686F9AC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7B8FFC-708F-47E4-9F17-D12B7955E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E0D5A5-682F-4173-836F-4F7BE9DEC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C9145B-931A-4589-AD2B-1363B0153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328D2C-19CE-466A-92CD-92B7ED08B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498E-E8F9-4D1D-8580-8AD277656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DFD3-ABA1-432C-899B-28BC014F7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BAAC-F730-47C8-BC08-D1964FD0E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2F7D-E6AB-448B-80DD-28156E1D7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51A6-85D9-4CCF-9829-19D50C2E5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DE4F5-D267-488D-A19C-E7C44C6960A1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Gynaecological Nurs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A90CF-3B46-4AFC-AB93-870C9AE7B358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470D4-B3E7-4A35-A8BD-31D58611A1F6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HMAD AL-ISS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ynaecological Nurs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B428A-32CA-4AFD-8060-4788EF0E7D53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87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8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9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0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D2014-6BEB-4782-AD6F-391D9F386E8F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Gynaecological Nurs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A9224-A988-4425-92AC-A5218F2E4FFA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>
              <a:gd name="textAreaLeft" fmla="*/ 0 w 7772400"/>
              <a:gd name="textAreaRight" fmla="*/ 7772760 w 777240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51BB9-D6BF-4ACC-B0AF-D39ACD8185AF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HMAD AL-ISS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ynaecological Nurs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4E19E-1B9E-44BB-9F4E-BF2B407F941A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WordArt 2"/>
          <p:cNvSpPr txBox="1"/>
          <p:nvPr/>
        </p:nvSpPr>
        <p:spPr>
          <a:xfrm>
            <a:off x="762120" y="2514600"/>
            <a:ext cx="8153280" cy="1523880"/>
          </a:xfrm>
          <a:prstGeom prst="rect">
            <a:avLst/>
          </a:prstGeom>
        </p:spPr>
        <p:txBody>
          <a:bodyPr wrap="none" fromWordArt="1" lIns="90000" rIns="90000" tIns="46800" bIns="46800" anchor="t">
            <a:prstTxWarp prst="textArchUp">
              <a:avLst>
                <a:gd name="adj" fmla="val 1314197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solidFill>
                  <a:srgbClr val="000000"/>
                </a:solidFill>
                <a:latin typeface="Verdana"/>
              </a:rPr>
              <a:t>Immunization </a:t>
            </a:r>
            <a:endParaRPr b="1" lang="en-US" sz="4000" spc="1" strike="noStrike">
              <a:ln w="0">
                <a:noFill/>
              </a:ln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228600" y="4267080"/>
            <a:ext cx="8610480" cy="14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6" name="Picture 5" descr="C:\Users\alrousan\Pictures\logo_7_0.png"/>
          <p:cNvPicPr/>
          <p:nvPr/>
        </p:nvPicPr>
        <p:blipFill>
          <a:blip r:embed="rId1"/>
          <a:stretch/>
        </p:blipFill>
        <p:spPr>
          <a:xfrm>
            <a:off x="2514600" y="152280"/>
            <a:ext cx="3429000" cy="990720"/>
          </a:xfrm>
          <a:prstGeom prst="rect">
            <a:avLst/>
          </a:prstGeom>
          <a:ln w="0">
            <a:noFill/>
          </a:ln>
        </p:spPr>
      </p:pic>
      <p:sp>
        <p:nvSpPr>
          <p:cNvPr id="17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3A6B5-CD59-4540-B76B-C742948FDD9E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hat damages vaccines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vaccines lose their potency after a certain time you know that time from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xpiry dat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ted on the vacc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Heat &amp; sunligh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damage vaccines, especially the live attenuated ones (measles &amp; BCG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Freez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amage the killed vaccines and toxoids (Pertuss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amp; Hepatitis 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isinfectants or antiseptic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damage vacci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CA7BF-ABE8-47AB-B79D-CC58C9D84A25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643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Contraindication to child immunization: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0773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are almost no contraindications to vacc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ldren with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mild illness should be immunized as usu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ldren with malnutrition can develop good immunity, so immunize them as usual because they are more likely than other children to die from some diseases, especially meas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3B5B5-41A7-4A64-AA85-C3E14BBF13AD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ntraindications are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Very severely ill children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o need to be hospitalized, or children who have very </a:t>
            </a:r>
            <a:r>
              <a:rPr b="0" lang="en-US" sz="23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high fever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hould be delay vaccination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a child has had severe </a:t>
            </a:r>
            <a:r>
              <a:rPr b="0" lang="en-US" sz="23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action from DPT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jection (convulsions or shock) (DPT is a combined vaccine for Diphtheria, Pertussis and Tetanus) do not give that child any more doses of DPT. Give him DT vaccine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G is the only vaccine which not be administered to children with clinically apparent AIDS or Immune deficiency diseases, premature babies, malnutrition, and infection skin disease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4E784-B1AE-449C-9A7F-AF9EDF6C2101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3400" spc="-1" strike="noStrike">
                <a:solidFill>
                  <a:srgbClr val="ffffff"/>
                </a:solidFill>
                <a:latin typeface="Arial"/>
              </a:rPr>
              <a:t>Preparation for immunization session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532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-438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immunization session should be in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nclosed sit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8840" indent="-438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 mothers th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nformatio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y need on vaccina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8840" indent="-438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 th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xpiry date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the vaccine before us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8840" indent="-438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giste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refully the doses that given to the child in the health unit register and on the immunization car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8840" indent="-438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ut the vaccines into a cup of ic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8840" indent="-438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hrow away any open vials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vaccine that remain after the  immunization sess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8840" indent="-438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se a disposable syringe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child and destroy it after use so it cannot be used agai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8840" indent="-438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se oldest vaccine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has been in your refrigerator for the longest time firs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88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8246F-1105-4C97-9CD9-2D0CDAB313F8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dverse reaction of some vaccin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13"/>
          <p:cNvSpPr/>
          <p:nvPr/>
        </p:nvSpPr>
        <p:spPr>
          <a:xfrm>
            <a:off x="609480" y="1499040"/>
            <a:ext cx="77724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ff"/>
                </a:solidFill>
                <a:uFillTx/>
                <a:latin typeface="Times New Roman"/>
                <a:ea typeface="Times New Roman"/>
              </a:rPr>
              <a:t>Measles &amp; MMR( measles, mumps, and rubella): child may hav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v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ient rash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hralg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Pertussis: child may have:(several to 72hrs)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ness, pain, swelling at injection sit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ver (slight to moderate)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orexia, drowsines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ff"/>
                </a:solidFill>
                <a:uFillTx/>
                <a:latin typeface="Times New Roman"/>
                <a:ea typeface="Times New Roman"/>
              </a:rPr>
              <a:t>Poliomyelitis vaccines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east milk may contain specific antibodies, which interfere with oral polio. So avoid breast feed baby 1/2-hr before and after the vaccin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by may spit or vomit the vacci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42C48-6A36-472C-AB19-4CEC5EBA2EBD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accine carrier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se the lid tightl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ean and dry after every us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t vaccine vials and ampoules in a polythene bag and close i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the carrier away from direct sunligh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arriers with four ice packs can keep the vaccine cold for 2 day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not sit or place anything heavy on  a vaccine carrier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12" descr="Slide6"/>
          <p:cNvPicPr/>
          <p:nvPr/>
        </p:nvPicPr>
        <p:blipFill>
          <a:blip r:embed="rId1">
            <a:lum bright="42000"/>
          </a:blip>
          <a:srcRect l="3027" t="1851" r="3027" b="1851"/>
          <a:stretch/>
        </p:blipFill>
        <p:spPr>
          <a:xfrm>
            <a:off x="5105520" y="228600"/>
            <a:ext cx="3149640" cy="1898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22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A128F-F17F-47EF-B38C-EBF10080E259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accine carrier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carrier for small quantities of vaccines (16-20 vial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vials of DP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DPT is a combined vaccine for Diphtheria, Pertussis and Tetanus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TT (Tetanus) vaccines should not be in direct contact with the frozen pac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ice packs for lining the sides of the carrier should be fully froz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ce fully frozen ice packs in the carrier and wait for few minutes for temperature to fall to less than 8 degree Celsi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47FF5-8E7B-4D49-B602-7C507450E3B4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accine  refrigerato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305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orrect temperature to keep vaccine is between +2c° and + 8 c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llow storage guidelin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not store food or drink in vaccine refrigerators</a:t>
            </a:r>
            <a:r>
              <a:rPr b="0" lang="ar-SA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vaccines only on the middle and upper shelves in the refrigerato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  air to circulate within the refrigerator, by not crowding or overfilling the refrigerator with the vaccines. A gap of at least 4 cm from all walls and between large packages of vaccine vials is recommende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eezing does not damage live attenuated vaccines "BCG", oral polio and measles vacci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eezing damage the killed vaccines and toxoids (DPT, DT, T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AB4F2-B71E-4A69-A4A7-6DD4A827D24E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Picture 2" descr="Organizing the Refrigerator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6705720"/>
          </a:xfrm>
          <a:prstGeom prst="rect">
            <a:avLst/>
          </a:prstGeom>
          <a:ln w="0">
            <a:noFill/>
          </a:ln>
        </p:spPr>
      </p:pic>
      <p:sp>
        <p:nvSpPr>
          <p:cNvPr id="22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BF2E4-4E9E-4B5E-80FF-8C155AC28E7E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36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munization is the process whereby a 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erson is made immune or resistant to an infectious disease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typically by the administration of a vaccin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ccines stimulate the body’s own immune system to protect the person against subsequent infection or disease (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Vaccines are weapons to prevent diseases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mmunization is a way to protect child from getting a number of illnesses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Many of these illnesses are easily spread from child to child and can cause serious health problem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5B599-00D4-4E84-BFCD-8CAA0E669801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ild immunization and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accination of pregnant wom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575"/>
              </a:spcBef>
              <a:buClr>
                <a:srgbClr val="99cc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ld immunization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ld immunization is immunization of children with vaccines to protect them against some disease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75"/>
              </a:spcBef>
              <a:buClr>
                <a:srgbClr val="99cc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ccination of pregnant women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 TT (Tetanus) vaccine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protects mothers against Tetanus and protects new born babies from neonatal Tetanu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03F6D-E9CF-4675-A48B-7F7916DFDB0E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3200" spc="-1" strike="noStrike">
                <a:solidFill>
                  <a:srgbClr val="ffffff"/>
                </a:solidFill>
                <a:latin typeface="Arial"/>
              </a:rPr>
              <a:t>Types of Immunity-Passive Immun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sive immunity is provided when a person is given antibodies to a disease rather than producing them through his or her own immune syste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newborn baby acquires passive immunity from its mother through the placen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75867-BDA9-4012-AA7E-5AB2AF1B932D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3200" spc="-1" strike="noStrike">
                <a:solidFill>
                  <a:srgbClr val="ffffff"/>
                </a:solidFill>
                <a:latin typeface="Arial"/>
              </a:rPr>
              <a:t>Types of Immunity-Active Immunit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immunity results when exposure to a disease organism triggers the immune system to produce antibodies to that dise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osure to the disease organism can occur through infection with the actual disease or through vaccin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3B1C1-FBA4-45E0-A5C2-BAEC09AE27CD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ive immunity and Active immuni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609480" y="1600200"/>
          <a:ext cx="7925040" cy="3657600"/>
        </p:xfrm>
        <a:graphic>
          <a:graphicData uri="http://schemas.openxmlformats.org/drawingml/2006/table">
            <a:tbl>
              <a:tblPr/>
              <a:tblGrid>
                <a:gridCol w="3886200"/>
                <a:gridCol w="40388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Passive immunit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ctive immunity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person is given antibodies to a disea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posure to a disease organism triggers the immune system to produce antibodies to that disease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tection is immedia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akes time (usually several weeks) to develo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sts only for a few weeks or month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ng-last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</a:tbl>
          </a:graphicData>
        </a:graphic>
      </p:graphicFrame>
      <p:sp>
        <p:nvSpPr>
          <p:cNvPr id="19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70956-BDD8-40D0-8944-9C5635B7E6EC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ypes of vaccine: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1. Live vaccine: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ccine containing 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live attenuated microorganisms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could be 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viruses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.g. measles, mumps, oral poliomyelitis (sabin), and rubella vaccine. Or live attenuated strains of 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bacteria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e.g. BCG (bacilli calmette-Guerin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2. Killed vaccine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vaccine 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ot containing live microorganisms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They contain killed microorganisms, Inactivated (killed) 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virus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.g. hepatitis A,B, poliomyelitis (Salk) vaccines. Inactivated (killed) 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bacteria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pertussis (whooping cough),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3. Vaccine containing the toxins that the bacteria produce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fter changing them into harmless toxoid, such  Tetanus toxoid TT and diphtheria toxid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C5CB2-4510-4603-AFA9-95CE17ACEE90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95120" y="228600"/>
            <a:ext cx="8568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ld Chain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ccines are delicate biological substances that can become less effective or destroyed if they are frozen, allowed to get too hot, and exposed to direct sunlight or fluorescent ligh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d Chain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ystem of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ransporting and storing vaccines within the safe temperatur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ange of +2 °C to +8 °C from the place of manufacture to the point of administration. This temperature range is recommended because outside this range vaccines may (very quickly) lose their potenc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eezing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ituation where vaccines experience temperatures at, or below, 0 C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eeze Monitor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device that indicates exposure to &lt; 0 °C for periods greater than 30 minut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 Temperatur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heat monitor)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device that indicates exposure to excessive temperatu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92848-F503-4C36-8511-16A22F110572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ld-chain monito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0773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d-chain monitors (CCM) include time temperature (heat monitors) and freeze monitors. The CCM should accompany all vaccines during any long distance vaccine transpor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CM should not be removed from the (cold box) container until all vaccines have been removed for either use or storag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BB578-4F30-42AA-8DC9-D7E9567A25C6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4T14:29:20Z</dcterms:created>
  <dc:creator>Dr Uzoigwe S.A</dc:creator>
  <dc:description/>
  <dc:language>en-US</dc:language>
  <cp:lastModifiedBy>user</cp:lastModifiedBy>
  <cp:lastPrinted>2015-02-17T11:21:49Z</cp:lastPrinted>
  <dcterms:modified xsi:type="dcterms:W3CDTF">2016-02-15T13:23:24Z</dcterms:modified>
  <cp:revision>127</cp:revision>
  <dc:subject/>
  <dc:title>Dysfunctional uterine bleeding (DUB)</dc:title>
</cp:coreProperties>
</file>