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4197-792E-467F-8E3C-EBC748FA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CAF4-3127-43FE-92B1-CE05002D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4D8-BDDD-464A-96A0-04673E68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86E9-7B26-41E1-8B80-9870329A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8F50-26B0-40E3-9A5D-D894A4F5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6773-D92C-4E5D-A6BB-4F95C049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31DE-C2A6-4BC8-BF34-D14341C0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3A11-1ABD-4C10-BF53-1F25B270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FA70-3E04-4406-B1F3-65C4E6B1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1D5D-C34F-4F5B-B7B6-8E24F25A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E7D3-0267-47B3-A5C2-794983B0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9FA-2F07-41D7-AD4C-BA6ED10E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7FD8-2065-4BC8-9829-3EBA1234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4429-B04E-4D27-9D3C-B2DE0996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B8F4-AC9C-4745-8AB7-4A606D0F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005E-13F5-4B04-94DC-DDD750FC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87A0-075B-4D25-B602-35977ED4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2CA0E-0CF5-4014-99FF-38555578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9B12F-D444-4A90-A74A-84D78680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835BE-8039-42AF-B492-5E338275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2327F-A420-4353-A3AA-73B893B3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7C1C9-B966-4C02-B32B-936EB240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4F15-D4CC-4BAA-8B55-9CADC895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E1278-18A4-4DFC-9BE7-426AA846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95373-6C0B-4CC5-96AA-56C884B5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A864D-7834-4B75-8FBE-48580F47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E0468-47ED-464E-B228-DC2EF70D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B44E2-6834-4C24-B69D-E96F438B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A6910-3C50-4286-8205-8D9CAA54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5DB8A-1B62-45A8-ABC5-B5983AD1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8AF0E-1E93-40B6-AFA7-277A64CF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17FF0-9C85-425C-819C-BDE3D99E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D866C-F6BA-43DB-9F8A-4A82CF76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6136-2F50-42D9-9068-A6FE22ED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D6AE4-50D8-4955-9F67-A319951A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D7BE4-0836-4EB1-B543-5AF89A87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3E441-7D56-49F7-96B4-91189BDD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66CD4-EBC3-4C5B-AD7E-12940D4B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C67C4-C45A-4DFD-9C62-7ED46DF6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869C9-7221-4BEE-A91C-776133B1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9FF84-441E-43AE-BA9A-7CC458E8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08F7A-F1FC-42EB-B58A-7893B44B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63263-4640-40BC-A7A5-EB698EA9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B317-11DB-4187-8547-7E897493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1B5-E1AB-4ECA-BDB7-FF180A31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3FD0-27DC-4CF8-B558-2C0D5DFE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BB54-2D51-4E7C-B581-85B874F4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0A37-938B-4514-A1F5-3047A0CF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93AD-A9CE-40D7-B8BA-E9B64E58CAB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Gynaecological Nur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DF99-8591-40F6-B9B2-96D9BF17831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0959-F2B7-449B-9E6E-2D436D0CCB0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HMAD AL-ISS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naecological Nur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32E5-D62C-4C4B-83BC-8AA7C7FF3C8E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1779-00BB-4D63-BB9A-C3F895837BE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Gynaecological Nur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7824-15AD-453D-9F8C-21D1D53551F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5022-E734-4070-A594-6E36E2DC966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HMAD AL-ISS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naecological Nur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BC33-9519-4A32-B49A-BA14087345D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762120" y="2514600"/>
            <a:ext cx="8153280" cy="152388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31419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00"/>
                </a:solidFill>
                <a:latin typeface="Verdana"/>
              </a:rPr>
              <a:t>Immunization </a:t>
            </a:r>
            <a:endParaRPr b="1" lang="en-US" sz="4000" spc="1" strike="noStrike">
              <a:ln w="0">
                <a:noFill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28600" y="4267080"/>
            <a:ext cx="861048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5" descr="C:\Users\alrousan\Pictures\logo_7_0.png"/>
          <p:cNvPicPr/>
          <p:nvPr/>
        </p:nvPicPr>
        <p:blipFill>
          <a:blip r:embed="rId1"/>
          <a:stretch/>
        </p:blipFill>
        <p:spPr>
          <a:xfrm>
            <a:off x="2514600" y="152280"/>
            <a:ext cx="3429000" cy="990720"/>
          </a:xfrm>
          <a:prstGeom prst="rect">
            <a:avLst/>
          </a:prstGeom>
          <a:ln w="0">
            <a:noFill/>
          </a:ln>
        </p:spPr>
      </p:pic>
      <p:sp>
        <p:nvSpPr>
          <p:cNvPr id="17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DE24-9272-4973-8C48-CEFF4379A6B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damages vaccin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vaccines lose their potency after a certain time you know that time from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piry 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ed on the vacc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eat &amp; sunligh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damage vaccines, especially the live attenuated ones (measles &amp; BC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reez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mage the killed vaccines and toxoids (Pertus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Hepatiti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infectants or antiseptic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damage vacc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6D37-8BD9-474F-A4EE-A9939B44F99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ontraindication to child immunization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lmost no contraindications to vacc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with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ld illness should be immunized as us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with malnutrition can develop good immunity, so immunize them as usual because they are more likely than other children to die from some diseases, especially meas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748A-7E85-4220-889A-9749A3C4FB9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raindications a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ry severely ill children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need to be hospitalized, or children who have very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gh fev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ould be delay vaccin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child has had severe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action from DPT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(convulsions or shock) (DPT is a combined vaccine for Diphtheria, Pertussis and Tetanus) do not give that child any more doses of DPT. Give him DT vaccin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G is the only vaccine which not be administered to children with clinically apparent AIDS or Immune deficiency diseases, premature babies, malnutrition, and infection skin diseas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9DAC-B1C1-409E-8A0D-5DF5F7FEB82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400" spc="-1" strike="noStrike">
                <a:solidFill>
                  <a:srgbClr val="ffffff"/>
                </a:solidFill>
                <a:latin typeface="Arial"/>
              </a:rPr>
              <a:t>Preparation for immunization sess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mmunization session should be i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closed si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mothers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orm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y need on vaccin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piry dat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vaccine before u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gis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refully the doses that given to the child in the health unit register and on the immunization ca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t the vaccines into a cup of i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row away any open vial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vaccine that remain after the  immunization ses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e a disposable syring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child and destroy it after use so it cannot be used ag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e oldest vaccin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has been in your refrigerator for the longest time fir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B5A9-759A-4483-A440-3BC80F5E866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erse reaction of some vacci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609480" y="1499040"/>
            <a:ext cx="7772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Measles &amp; MMR( measles, mumps, and rubella): child may ha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ent rash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hralg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Pertussis: child may have:(several to 72hrs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ness, pain, swelling at injection si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er (slight to moderate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rexia, drow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Poliomyelitis vaccin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 milk may contain specific antibodies, which interfere with oral polio. So avoid breast feed baby 1/2-hr before and after the vacc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by may spit or vomit the vacc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A91F-AF63-42B2-A79F-9EAEBE1B258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ccine carri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he lid tight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 and dry after every u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 vaccine vials and ampoules in a polythene bag and close 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carrier away from direct sunligh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rriers with four ice packs can keep the vaccine cold for 2 da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sit or place anything heavy on  a vaccine carri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2" descr="Slide6"/>
          <p:cNvPicPr/>
          <p:nvPr/>
        </p:nvPicPr>
        <p:blipFill>
          <a:blip r:embed="rId1">
            <a:lum bright="42000"/>
          </a:blip>
          <a:srcRect l="3027" t="1851" r="3027" b="1851"/>
          <a:stretch/>
        </p:blipFill>
        <p:spPr>
          <a:xfrm>
            <a:off x="5105520" y="228600"/>
            <a:ext cx="3149640" cy="1898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3883-2D35-4AB3-92DA-174FBD9C641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ccine carri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arrier for small quantities of vaccines (16-20 vi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ials of D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PT is a combined vaccine for Diphtheria, Pertussis and Tetanus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T (Tetanus) vaccines should not be in direct contact with the frozen pa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ce packs for lining the sides of the carrier should be fully froz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fully frozen ice packs in the carrier and wait for few minutes for temperature to fall to less than 8 degree Cels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083E-5F11-468A-B8E2-170DC2EE703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ccine  refriger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rect temperature to keep vaccine is between +2c° and + 8 c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 storage guidel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store food or drink in vaccine refrigerators</a:t>
            </a:r>
            <a:r>
              <a:rPr b="0" lang="ar-S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vaccines only on the middle and upper shelves in the refrigera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 air to circulate within the refrigerator, by not crowding or overfilling the refrigerator with the vaccines. A gap of at least 4 cm from all walls and between large packages of vaccine vials is recommend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zing does not damage live attenuated vaccines "BCG", oral polio and measles vacc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zing damage the killed vaccines and toxoids (DPT, DT, 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40CC-DE1C-4E65-8112-3EC009AA063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" descr="Organizing the Refrigerator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7271-820F-45B2-8EA1-A24761FBB29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ization is the process whereby a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son is made immune or resistant to an infectious dise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ypically by the administration of a vaccin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cines stimulate the body’s own immune system to protect the person against subsequent infection or disease (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ccines are weapons to prevent disease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munization is a way to protect child from getting a number of illnesse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any of these illnesses are easily spread from child to child and can cause serious health problem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4556-DF47-41B6-B18F-1AF49C908D4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 immunization an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ccination of pregnant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 immunizati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 immunization is immunization of children with vaccines to protect them against some diseas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cination of pregnant women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T (Tetanus) vaccin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tects mothers against Tetanus and protects new born babies from neonatal Tetanu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2F61-0229-4124-B482-4642B2108FD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ffffff"/>
                </a:solidFill>
                <a:latin typeface="Arial"/>
              </a:rPr>
              <a:t>Types of Immunity-Passive I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immunity is provided when a person is given antibodies to a disease rather than producing them through his or her own immune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wborn baby acquires passive immunity from its mother through the plac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B340-2155-4B60-89FF-2728E49080D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ffffff"/>
                </a:solidFill>
                <a:latin typeface="Arial"/>
              </a:rPr>
              <a:t>Types of Immunity-Active Immun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immunity results when exposure to a disease organism triggers the immune system to produce antibodies to that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to the disease organism can occur through infection with the actual disease or through vacc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7A74-4CD1-4AD9-AA5F-B48DFEFFB5B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ive immunity and Active immun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09480" y="1600200"/>
          <a:ext cx="7925040" cy="3657600"/>
        </p:xfrm>
        <a:graphic>
          <a:graphicData uri="http://schemas.openxmlformats.org/drawingml/2006/table">
            <a:tbl>
              <a:tblPr/>
              <a:tblGrid>
                <a:gridCol w="3886200"/>
                <a:gridCol w="4038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assive immuni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tive immunit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erson is given antibodies to a dise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sure to a disease organism triggers the immune system to produce antibodies to that diseas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ection is immedi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es time (usually several weeks) to devel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ts only for a few weeks or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-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1E24-98D4-47FF-8BED-E645C678E77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s of vaccin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Live vaccine: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cine containing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ve attenuated microorganisms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uld b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ruse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.g. measles, mumps, oral poliomyelitis (sabin), and rubella vaccine. Or live attenuated strains of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cteri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.g. BCG (bacilli calmette-Guerin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Killed vaccin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ccin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containing live microorganism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y contain killed microorganisms, Inactivated (killed)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ru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.g. hepatitis A,B, poliomyelitis (Salk) vaccines. Inactivated (killed)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cteri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tussis (whooping cough),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Vaccine containing the toxins that the bacteria produc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fter changing them into harmless toxoid, such  Tetanus toxoid TT and diphtheria toxi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61FE-0E97-451B-B8AA-A61BF7D650B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56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d Chai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cines are delicate biological substances that can become less effective or destroyed if they are frozen, allowed to get too hot, and exposed to direct sunlight or fluorescent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 Chai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nsporting and storing vaccines within the safe tempera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nge of +2 °C to +8 °C from the place of manufacture to the point of administration. This temperature range is recommended because outside this range vaccines may (very quickly) lose their pot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zing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ituation where vaccines experience temperatures at, or below, 0 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ze Monitor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vice that indicates exposure to &lt; 0 °C for periods greater than 30 minu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emperatu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at monitor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vice that indicates exposure to excessive temper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9950-0D20-4C1E-B58E-A77FA0B151A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d-chain moni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-chain monitors (CCM) include time temperature (heat monitors) and freeze monitors. The CCM should accompany all vaccines during any long distance vaccine transpo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CM should not be removed from the (cold box) container until all vaccines have been removed for either use or stor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F0DF-02CA-4F15-82AA-6F1B9E0B151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4T14:29:20Z</dcterms:created>
  <dc:creator>Dr Uzoigwe S.A</dc:creator>
  <dc:description/>
  <dc:language>en-US</dc:language>
  <cp:lastModifiedBy>user</cp:lastModifiedBy>
  <cp:lastPrinted>2015-02-17T11:21:49Z</cp:lastPrinted>
  <dcterms:modified xsi:type="dcterms:W3CDTF">2016-02-15T13:23:24Z</dcterms:modified>
  <cp:revision>127</cp:revision>
  <dc:subject/>
  <dc:title>Dysfunctional uterine bleeding (DUB)</dc:title>
</cp:coreProperties>
</file>