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D4B-7C67-44E8-9AF9-8D26EC42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8C2-31C9-44EC-9343-3F0D68E2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A53-F940-463A-85E5-29F6AAE9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F51-7132-4683-A307-4FF1D664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68C6-2F71-4228-AE87-96DD857F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6D3E-BF08-4E69-A65D-747A9784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100F-00C8-4132-8F71-F344662D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5601-1C34-40BF-9519-46D5855E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8678-981D-4834-8DAB-4D015E79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D710-0296-4C8D-8FB5-05A05672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C5C3-87FF-4612-95C2-E66D1B04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72C-1780-4EF5-97E0-5B3B31F8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34E2-2543-48D9-A551-F9FF74DD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A776-72AF-4EF9-8C6D-1ED7F4EC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C356-A251-4D7A-97A6-933B7CDE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F31F-0D2C-4DA1-B229-91DFE498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5E95-E67C-4148-9408-0DE1712E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FDE58-DC10-4D70-94FB-4F67ED07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9D869-DAE6-4911-AE4F-E2A6DA6B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92CCA-1C90-4D17-B2A9-21DBD027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75C9-A48E-4CBB-AA8F-55ED227A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A574-DB48-4B7C-9CD1-B6BCC0E0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508-2F05-43A5-9F73-F4A0B59F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6D11E-288E-4E0A-8604-3FC8ACAE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0F20-7D56-480F-B5CE-C30A30EB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538B4-0F73-4422-8E30-CB2BAB43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6C307-C1B6-4AF5-B4E6-F421D976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EBB84-81B9-4DA3-ADCF-24B69DB6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8C4DD-1111-4EB3-9B13-0CC3504A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67AB1-05B3-447C-871A-1F1B8839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6EFA9-6FE4-41AB-91F4-97F5103B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FBEFF-75B5-4A26-BCB6-5E48B65D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F7E3A-FEAF-4E8B-80B9-99AAE749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AB2-3E2F-43CC-8474-AB8E8BBC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20A81-812D-4590-9C03-81809B3E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50671-F7C3-4594-935F-17D54759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DB242-FEBC-4466-BADD-F37773F4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F9A0-D728-4826-ACDA-0BF3E3BA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38C4E-7325-4AC2-8504-99E7C9FC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5B8DE-7F6D-4475-92C5-B3C359C9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3F3F2-D552-4835-8A1A-0E198C7E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5C3C2-88FB-41D8-B43A-C65E3068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6845E-56BC-4D57-8134-DD578C78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2DF-B700-4A37-9E78-2A0667BC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6299-D787-4859-9092-AAD6D149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83F-05AA-463D-A0A8-05BEF670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96D-36E6-41F5-AE7A-A51AFC4D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545-E1AE-4D94-8217-8B456058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9568-2CC4-4366-8DD6-C136F94D944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6624-6151-4F2D-B944-FA4E7C5447B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B135-DD7A-465D-B714-8455C3F2F09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1418-D3C2-47E7-81DC-ADEF5582C65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A289-AFDF-4D7B-9738-F469A7604D8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F99D-7DE5-45E8-8814-15C4D6818ED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3C3B-9151-4DD3-A710-FF5504C30E8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0FD8-7F61-4FB9-A12F-BA58770CA8E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762120" y="2514600"/>
            <a:ext cx="8153280" cy="152388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31419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Immunization </a:t>
            </a:r>
            <a:endParaRPr b="1" lang="en-US" sz="4000" spc="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28600" y="4267080"/>
            <a:ext cx="861048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C:\Users\alrousan\Pictures\logo_7_0.png"/>
          <p:cNvPicPr/>
          <p:nvPr/>
        </p:nvPicPr>
        <p:blipFill>
          <a:blip r:embed="rId1"/>
          <a:stretch/>
        </p:blipFill>
        <p:spPr>
          <a:xfrm>
            <a:off x="2514600" y="152280"/>
            <a:ext cx="3429000" cy="990720"/>
          </a:xfrm>
          <a:prstGeom prst="rect">
            <a:avLst/>
          </a:prstGeom>
          <a:ln w="0">
            <a:noFill/>
          </a:ln>
        </p:spPr>
      </p:pic>
      <p:sp>
        <p:nvSpPr>
          <p:cNvPr id="17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596E-14CF-4D9E-B9CB-73E22C7D452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damages vaccin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vaccines lose their potency after a certain time you know that time fro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piry 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ed on the vacc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eat &amp; sunligh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amage vaccines, especially the live attenuated ones (measles &amp; BC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ee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mage the killed vaccines and toxoids (Pertus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Hepatiti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infectants or antisept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amage vacc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D39C-17CE-4D97-B57C-0D474C4F6FE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ontraindication to child immunizatio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lmost no contraindications to vacc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with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ld illness should be immunized as us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with malnutrition can develop good immunity, so immunize them as usual because they are more likely than other children to die from some diseases, especially meas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8CA2-5DF6-4548-B4C7-FB4E74F12F3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raindications a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y severely ill children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need to be hospitalized, or children who have very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gh fev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ould be delay vaccin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child has had severe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action from DPT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(convulsions or shock) (DPT is a combined vaccine for Diphtheria, Pertussis and Tetanus) do not give that child any more doses of DPT. Give him DT vaccin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G is the only vaccine which not be administered to children with clinically apparent AIDS or Immune deficiency diseases, premature babies, malnutrition, and infection skin diseas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11E5-E73A-48E5-BBA5-AF22BC031EB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400" spc="-1" strike="noStrike">
                <a:solidFill>
                  <a:srgbClr val="ffffff"/>
                </a:solidFill>
                <a:latin typeface="Arial"/>
              </a:rPr>
              <a:t>Preparation for immunization sess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mmunization session should be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closed s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mothers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y need on vaccin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piry dat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vaccine before u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gis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refully the doses that given to the child in the health unit register and on the immunization ca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t the vaccines into a cup of i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row away any open vial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vaccine that remain after the  immunization ses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e a disposable syring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child and destroy it after use so it cannot be used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e oldest vaccin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has been in your refrigerator for the longest time fir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7DFB-8998-43F7-BF06-EFE76872EFF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erse reaction of some vacci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609480" y="1499040"/>
            <a:ext cx="7772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Measles &amp; MMR( measles, mumps, and rubella): child may ha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ent ras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hralg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Pertussis: child may have:(several to 72hrs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ness, pain, swelling at injection si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er (slight to moderate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rexia, drow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Poliomyelitis vaccin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milk may contain specific antibodies, which interfere with oral polio. So avoid breast feed baby 1/2-hr before and after the vacc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by may spit or vomit the vacc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274D-ECD1-40F6-8B94-2BC25D7E3F9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ccine carri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he lid tight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 and dry after every 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 vaccine vials and ampoules in a polythene bag and close 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carrier away from direct sunligh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rriers with four ice packs can keep the vaccine cold for 2 d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sit or place anything heavy on  a vaccine carri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2" descr="Slide6"/>
          <p:cNvPicPr/>
          <p:nvPr/>
        </p:nvPicPr>
        <p:blipFill>
          <a:blip r:embed="rId1">
            <a:lum bright="42000"/>
          </a:blip>
          <a:srcRect l="3027" t="1851" r="3027" b="1851"/>
          <a:stretch/>
        </p:blipFill>
        <p:spPr>
          <a:xfrm>
            <a:off x="5105520" y="228600"/>
            <a:ext cx="3149640" cy="1898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BC66-9DC6-4D95-BF3B-6E2FF1031C3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ccine carri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arrier for small quantities of vaccines (16-20 vi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ials of D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PT is a combined vaccine for Diphtheria, Pertussis and Tetanu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T (Tetanus) vaccines should not be in direct contact with the frozen pa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ce packs for lining the sides of the carrier should be fully froz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fully frozen ice packs in the carrier and wait for few minutes for temperature to fall to less than 8 degree Cels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9245-4570-4386-867B-5F910033003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ccine  refriger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rect temperature to keep vaccine is between +2c° and + 8 c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storage guidel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store food or drink in vaccine refrigerators</a:t>
            </a:r>
            <a:r>
              <a:rPr b="0" lang="ar-S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vaccines only on the middle and upper shelves in the refriger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 air to circulate within the refrigerator, by not crowding or overfilling the refrigerator with the vaccines. A gap of at least 4 cm from all walls and between large packages of vaccine vials is recommen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zing does not damage live attenuated vaccines "BCG", oral polio and measles vacc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zing damage the killed vaccines and toxoids (DPT, DT, 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81EA-0AAB-4CC2-957A-5DC09B8F1ED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Organizing the Refrigerator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FF7D-7EF5-4EF9-94CE-39920769591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ization is the process whereby a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son is made immune or resistant to an infectious dise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ypically by the administration of a vacci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es stimulate the body’s own immune system to protect the person against subsequent infection or disease (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ccines are weapons to prevent diseas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munization is a way to protect child from getting a number of illness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any of these illnesses are easily spread from child to child and can cause serious health problem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45BD-FDD3-4DBB-8831-119AE00F829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 immunization an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ccination of pregnant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 immunizati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 immunization is immunization of children with vaccines to protect them against some diseas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ation of pregnant women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T (Tetanus) vaccin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tects mothers against Tetanus and protects new born babies from neonatal Tetanu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B7A8-9D56-42F2-B94E-2965E81D1B6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Arial"/>
              </a:rPr>
              <a:t>Types of Immunity-Passive I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immunity is provided when a person is given antibodies to a disease rather than producing them through his or her own immune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born baby acquires passive immunity from its mother through the plac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C135-34D8-443E-BE2B-BE9943C622D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Arial"/>
              </a:rPr>
              <a:t>Types of Immunity-Active Immu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immunity results when exposure to a disease organism triggers the immune system to produce antibodies to that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to the disease organism can occur through infection with the actual disease or through vacc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80B1-4824-4C93-997C-95252CAEC72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ive immunity and Active i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09480" y="1600200"/>
          <a:ext cx="7925040" cy="3657600"/>
        </p:xfrm>
        <a:graphic>
          <a:graphicData uri="http://schemas.openxmlformats.org/drawingml/2006/table">
            <a:tbl>
              <a:tblPr/>
              <a:tblGrid>
                <a:gridCol w="3886200"/>
                <a:gridCol w="4038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assive immuni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tive immuni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erson is given antibodies to a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sure to a disease organism triggers the immune system to produce antibodies to that diseas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ction is immedi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s time (usually several weeks) to devel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ts only for a few weeks or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-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A204-50F4-4BA3-8D4E-E10D7BDC4E5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vaccin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Live vaccine: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e containing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ve attenuated microorganism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uld b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rus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.g. measles, mumps, oral poliomyelitis (sabin), and rubella vaccine. Or live attenuated strains of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cteri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.g. BCG (bacilli calmette-Guerin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Killed vaccin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ccin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containing live microorganism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y contain killed microorganisms, Inactivated (killed)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ru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.g. hepatitis A,B, poliomyelitis (Salk) vaccines. Inactivated (killed)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cteri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tussis (whooping cough),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Vaccine containing the toxins that the bacteria produc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fter changing them into harmless toxoid, such  Tetanus toxoid TT and diphtheria toxi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EF27-E50A-401D-AACD-C00E89AC09D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56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d Chai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es are delicate biological substances that can become less effective or destroyed if they are frozen, allowed to get too hot, and exposed to direct sunlight or fluorescent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 Chai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porting and storing vaccines within the safe tempera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nge of +2 °C to +8 °C from the place of manufacture to the point of administration. This temperature range is recommended because outside this range vaccines may (very quickly) lose their pot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z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tuation where vaccines experience temperatures at, or below, 0 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ze Monitor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vice that indicates exposure to &lt; 0 °C for periods greater than 30 minu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emperatu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at monitor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vice that indicates exposure to excessive temper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AF94-6764-48B7-BD98-A0F665DD104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d-chain moni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-chain monitors (CCM) include time temperature (heat monitors) and freeze monitors. The CCM should accompany all vaccines during any long distance vaccine transpo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CM should not be removed from the (cold box) container until all vaccines have been removed for either use or stor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D7EC-B111-4FCB-BAB8-2100FD01FF1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4T14:29:20Z</dcterms:created>
  <dc:creator>Dr Uzoigwe S.A</dc:creator>
  <dc:description/>
  <dc:language>en-US</dc:language>
  <cp:lastModifiedBy>user</cp:lastModifiedBy>
  <cp:lastPrinted>2015-02-17T11:21:49Z</cp:lastPrinted>
  <dcterms:modified xsi:type="dcterms:W3CDTF">2016-02-15T13:23:24Z</dcterms:modified>
  <cp:revision>127</cp:revision>
  <dc:subject/>
  <dc:title>Dysfunctional uterine bleeding (DUB)</dc:title>
</cp:coreProperties>
</file>