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5DDC-0051-4CB6-B49B-087EBEE31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E5DD-3D3F-4074-BA74-E1087DE2B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C882-F831-4A40-B6C1-0B0246020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AB00-CDCC-4E1D-8A86-B4D23C986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9E6C-3009-4817-AF86-044050740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B467-1329-4333-9E68-ACA9683BD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98CC-1AB9-483E-9B3C-C86893DEE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D026-F929-45F8-97A6-40538A4DE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cy Master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7C0E-4EBC-40EF-99E4-DA9343A29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550E-A3F9-4094-8E04-A03FEA90E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D734-BB7F-46F7-A79B-DB4FE5144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ED49-093E-49EA-A1F7-8442709D4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8F7C-D1F1-4FA5-A678-27B3D799B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DE40-C8FC-4873-95C1-80B437CD2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7B24-74BB-4070-A92F-F52876618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F944-5CCF-4879-854B-4EC1D53C9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B341-4BDC-47EC-8CD4-26B9184C5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EDE2-13DD-4E3E-9177-D2A2DE10F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D98A-3519-4467-B431-658B6154F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BF24-E063-48CF-A64E-FDF7A41A5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5117-515D-4DB5-9AEE-6558DAA7F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82F6-E3D7-4190-BAEB-768A92420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E34D-658B-45F8-94AD-334F84389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ECC8-8BF2-4C8D-B6C1-CB2477BC0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0531-A3A5-47CD-881B-C31B65010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76C5-F755-4D12-9D7B-D5C7A0F05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BD74-F604-44A2-BE95-3ACCBFC28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7893-9CCC-4F2B-8453-7B25E2765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9B9E-70A2-4861-B3C5-1DBB73B1B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754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604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8754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604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1516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944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1516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944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2"/>
          <p:cNvSpPr/>
          <p:nvPr/>
        </p:nvSpPr>
        <p:spPr>
          <a:xfrm>
            <a:off x="0" y="6397560"/>
            <a:ext cx="9144000" cy="457200"/>
          </a:xfrm>
          <a:prstGeom prst="rect">
            <a:avLst/>
          </a:prstGeom>
          <a:solidFill>
            <a:srgbClr val="f05a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392040" y="6553080"/>
            <a:ext cx="539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2014 Pearson Education, Inc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8077320" y="6553080"/>
            <a:ext cx="66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15-</a:t>
            </a:r>
            <a:fld id="{0803F81C-8A57-43B7-A7D4-4B296351F966}" type="slidenum">
              <a:rPr b="0" lang="en-GB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4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Rejda_cropped cover"/>
          <p:cNvPicPr/>
          <p:nvPr/>
        </p:nvPicPr>
        <p:blipFill>
          <a:blip r:embed="rId2"/>
          <a:stretch/>
        </p:blipFill>
        <p:spPr>
          <a:xfrm>
            <a:off x="0" y="0"/>
            <a:ext cx="54770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86400" y="152388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MS PGothic"/>
              </a:rPr>
              <a:t>Chapter 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Health-Care Reform; Individual Health Insurance Cover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MS PGothic"/>
              </a:rPr>
              <a:t>Lecture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MS PGothic"/>
              </a:rPr>
              <a:t>Health-Care Problems in the U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Problem 3: Uneven Quality of Medical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The quality of care has improved over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The quality of medical care varies widely depending on geographic location, type of health insurance plan, and disease being tre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ealth-Care Problems in the U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142640"/>
            <a:ext cx="8294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blem 4: Waste and Ineffici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ts estimate that the present system wastes more than $800 billion each y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urces of wasteful spending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plication of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cal errors that are largely preven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necessary tests due to fear of lawsu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administrative costs and excessive and redundant paper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dmissions into hospitals because of inadequate or ineffective initial treat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spitalizations for preventable cond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use of expensive medical techn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ealth-Care Problems in the U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1430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Problem 5: Defects in Financing Health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Critics argue that the financing of the present system aggravates many of the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Defects of the current system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It is based on the ability to pay, not health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The fee-for-service method encourages unnecessary tests and treat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Distortions in medical care which result from a limited supply of physicians in general practice and in rural ar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ealth-Care Problems in the U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11430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Problem 6: Abusive Insurer Pract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Some insurer practices are harmful to both policyholders and applicants for insu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Examples include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Exclusions for preexisting cond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Rescission of insurance contracts to limit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Lifetime or annual limits on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ealth-Care Refor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alth care reform has been proposed for many years, but most proposals have fail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March 23, 2010, President Obama signed into law the Patient Protection and Affordable Care Ac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ct was challenged on the basis that it was unconstitution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preme Court ruled that the Affordable Care Act is constitution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ealth-Care Refor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The Affordable Care Act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Extends health-care coverage to 30 million uninsured Americ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Provides substantial subsidies to uninsured individuals and small businesses to make insurance more afford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Contains provisions to lower health-care costs in the long r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Prohibits insurers from engaging in certain abusive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ealth-Care Refor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ull law does not become effective until January 1, 20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provisions are now in eff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provisions affect individuals and families, employers, insurers, and health-care provi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ealth-Care Refor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vidual man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ginning in 2014, most citizens and legal residents must have qualifying health insurance or pay a financial penal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ew law also provides premium tax credits so that eligible individuals can purchase affordable health insurance and comply with the la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ain groups are exemp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sic Provisions of the Affordable Care Ac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sions that apply to health insurers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ention of coverage until age 2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fetime limits and annual limits prohibit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existing conditions prohibi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cission of insurance policies prohibi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aranteed access to health insu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ndfathered pl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imum medical loss rat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mited waiting peri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sic Provisions of the Affordable Care Ac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2949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MS PGothic"/>
              </a:rPr>
              <a:t>The Act requires insurers to cove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essential health benefit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MS PGothic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Ambulatory patient 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Emergency 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Hospital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Maternity and newborn ca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Mental health and substance use disorder 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Prescription dru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Rehabilitative services and de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Laboratory 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Preventive and wellness services and chronic dise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Pediatric services, including oral and vision ca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ealth-Care Problems in the 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ealth-Care Refor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asic Provisions of the Affordable Care Ac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dividual Medical Expense Insur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dividual Medical Expense Insurance and Managed Care Pla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ealth Savings Accou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ng-term Care Insur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sability-Income Insur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dividual Health Insurance Contractual Provis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sic Provisions of the Affordable Care Act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plan provides essential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icants will have a choice of four benefit categori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ronze plan covers 60 percent of the benefit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ilver plan covers 70 percent of the benefit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gold plan covers 80 percent of the benefit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tinum plan covers 90 percent of the benefit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plan has annual out-of-pocket limits that limit the amount insureds must pay in the form of deductibles, coinsurance, copayment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sic Provisions of the Affordable Care Ac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The new law creates 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Affordable Insurance Excha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in each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The exchange is a new transparent and competitive insurance marketplace where individuals and small firms can purchase affordable and qualified health insurance pl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sic Provisions of the Affordable Care Ac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28600" y="13712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 new law provides premium credits to eligible individuals to make coverage more affordabl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ligibility is limited to U.S. citizens and legal immigrants who meet the income limit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mployees who have access to health insurance through an employer</a:t>
            </a:r>
            <a:r>
              <a:rPr b="0" lang="ja-JP" sz="23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 plan are not eligi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Verdana"/>
              </a:rPr>
              <a:t>Premium tax credits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Verdana"/>
              </a:rPr>
              <a:t>cost-sharing subsidies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are available to certain eligible low-income individuals and famili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arger employers must pay a fine for each employee that obtains subsidized insurance through an exchang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sic Provisions of the Affordable Care Ac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294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Eligible small employers can receive significant tax credits under the new la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For 2010-2013, a tax credit of up to 35 percent of the employer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s contribution is available if the employer contributes at least 50 percent of total premi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Beginning in 2014, the tax credit for eligible small employers that purchase health insurance through a state exchange will be increased up to 50 percent of the employer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s contribution if the employee contributes at least 50 percent of the total premium 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sic Provisions of the Affordable Care Ac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ew law creates a temporary reinsurance program to help employers provide health insurance to early retirees over age 55 who are ineligible for Medi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provision applies until January 2014, when the state exchanges become fully operati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nds for this provision ran out after 14 months; new applications are not being accep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sic Provisions of the Affordable Care Ac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ginning in 2014, the Act expands Medicaid to include adults with incomes up to 138 percent of the federal poverty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llions of uninsured persons will be eligible for Medicaid cover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preme Court ruled that a state cannot be coerced into expanding its Medicaid program under the 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state governors have indicated they will not expand their Medicaid programs because of funding concer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sic Provisions of the Affordable Care Ac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ew law created a temporary high-risk program,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reexisting Condition Insurance Pla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PCIP), which provides affordable health insurance to individuals with preexisting conditions until the Affordable Insurance Exchanges begin operating in 20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states had high-risk pools before the new law was enac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cipation by states is opti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sic Provisions of the Affordable Care Ac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ew law contains many provisions that will improve the quality of health care and lower costs, includ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incentives to rebuild the primary care work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evention and Public Health Fu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t will invest in programs designed to keep Americans healt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ing a patient-centered outcomes research instit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sic Provisions of the Affordable Care Ac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Strengthening community health cen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Enhanced screening procedures for health-care providers to eliminate fraud and ab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Incentives for physicians to join together to form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ccountable care organizations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PGothic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Standardization of billing and rules for secure electronic exchange of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Increasing Medicaid payments for primary care 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Paying physicians based on value and not volu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sic Provisions of the Affordable Care Ac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56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2012, the CBO projected the Affordable Care Act will cost more than $1.7 trillion over the period 2012-202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mount will be partly offset by penalties and tax increases related to cover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nding for the new law comes fro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vings in the Medicare and Medicaid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ced payments to Medicare Advantage pl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fees on pharmaceutical firms and health insur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taxes and penal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ealth-Care Problems in the U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The US Health-care delivery system has four major problem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Rising health-care expendi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Large number of uninsured in the pop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Uneven quality of medical c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Considerable waste and ineffici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Defects in financing health c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busive insurer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dividual Health Insurance Coverag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ndividual medical expense insuranc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tects an individual or family for covered medical expenses because of sickness or inju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ns are purchased by people who are not employed, retired workers, and stud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policies sold today hav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jor medical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road range of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alendar-year deductible, coinsurance, copayments, and annual out-of-pocket lim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lusio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MS PGothic"/>
              </a:rPr>
              <a:t>Individual Health Insurance Coverag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Major medical insuran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is designed to pay a high percentage of covered medical expenses incurred by an insured who has a catastrophic illness or inju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Most individual expense plans provide a broad range of benefits, inclu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Inpatient hospital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Outpatient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Physician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Preventive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Outpatient prescription dru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dividual Health Insurance Coverag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Medical expense policies conta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deductible prov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The purpose of the deductible is to eliminate small claims and the high administrative cost of processing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calendar-year deducti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is an aggregate deductible that has to be satisfied only once during the calendar y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dividual Health Insurance Coverag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coinsurance provis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states a percentage of the bill in excess of the deductible, which the insured must pay out-of-pocket up to some maximum annual dollar lim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Purpose is to reduce premiums and prevent overutilization of plan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copayme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is a flat amount the insured must pay for certain benefits, such as an office visit or generic dru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dividual Health Insurance Coverag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The insured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PGothic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s total out-of-pocket spending is limited by 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annual out-of-pocket limi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(also called a stop-loss limit), after which the insurer pays 100% of eligible expen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Common exclusions to a major medical policy include cosmetic surgery and expenses covered by workers compens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dividual Medical Expense Insurance and Managed Care Pla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Most individual medical expense plans sold today are managed care pl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 managed care plan provides covered medical services to the members in a cost effective manner, with heavy emphasis on cost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The most popular plan today is a preferred provider organization (PP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 PPO contracts with physicians, hospitals, and other health-care providers to provide covered medical services to policyholders at discounted f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ealth Savings Accou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health savings accou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(HSA) is a tax exempt account established exclusively for the purpose of paying qualified medical expen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The beneficiary must be covered under a high-deductible health plan to cover catastrophic medical b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Contributions can be made by individuals, their employers, and family me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Contributions and annual out-of-pocket expenses are subject to maximum lim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ealth Savings Accou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ccount holder can withdraw money from the HSA tax-free for medical 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HSA investment account in a qualified plan receives favorable tax treat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nents argue that HSAs can help keep health care costs down because consumers will be more sensitive to costs, will avoid unnecessary services, and will shop arou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itics argue that HSAs will encourage insureds to forego preventative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ng-Term Car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ong-term care insuran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ays a daily or monthly benefit for medical or custodial care received in a nursing facility, in a hospital, or at h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ople who reach age 65 will likely have a 40% chance of entering a nursing home, and about 10% of them will stay there five years or m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TC Plans come in three main form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facility-only polic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home health care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mprehensive polic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ng-Term Car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Common features of LTC policies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Daily benefits range from $50 - $300 or m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Most policie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reimbursement polici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, which reimburse for actual charges up to a daily lim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Some policies reimburse on a per diem ba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Many insurers offer policies with pooled benefits, which provide a total dollar amount that can be used to pay for the deferent types of long-term care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elimination perio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is a waiting period during which time benefits are not pa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MS PGothic"/>
              </a:rPr>
              <a:t>Health-Care Problems in the U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Problem 1: Rising Health-Care Expendi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Health-care expenditures in the US have increased substantially over time and are growing faster than the national econom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Estimated national health expenditures totaled just over $2.8 trillion in 2012, or 17.6 percent of the nation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s GD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More than one in six dollars of the nation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PGothic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s income is spent on health ca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ng-Term Car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 qualified LTC plan,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benefit trigg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ust be met to receive benefits. Either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sured is unable to perform a certain number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ctivities of daily liv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ADLs), 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sured needs substantial supervision to be protected against threats to health and safety because of a severe cognitive impair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ntax-qualified policies often have more liberal eligibility requirements and make benefits available if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edical necessity trigg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m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ng-Term Car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Some plans offer automatic benefit increases to keep up with inf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Policies are guaranteed renew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Coverage is expensive, especially at older 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Most insurers offer option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nonforfeiture benefi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, which provide benefits if the insured lapses the poli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Long-term care insurance that meets certain requirements receives favorable income tax treat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ng Term Car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 states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ong-term care partnership program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esigned to reduce Medicaid expenditures by eliminating or reducing incentives of some people to rely on Medicaid to pay for long-term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encourage people to purchase private partnership policies, part or all of their assets are protected from the Medicaid spend-down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sability-Incom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The financial impact of total disability on present savings, assets, and ability to earn an income can be devasta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Disability-income insuran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provides income payments when the insured is unable to work because of sickness or inju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Income payments are typically limited to 60-80% of gross ear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sability-Incom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st common definition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 disabil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ability to perform the material and substantial duties of your regular occup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ability to perform the material and substantial duties of your occupation, and are not engaged in any other occup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ability to perform the duties of any occupation for which you are reasonably fitted by education, training, and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ability to perform the duties of any gainful occup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s-of-income test, i.e., your income is reduced as a result of sickness or accid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sability-Incom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Partial disabil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means that you can perform some but not all of the duties of your occup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Some policies offer partial disability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Usually, partial disability benefits must follow total dis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The partial disability benefits are paid at a reduced rate for a shorter peri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sability-Incom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Residual disabil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applies when you are gainfully employed and not totally disabled but, solely because of sickness or injury, our loss of income is at least 15 percent of your prior inc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 pro rata disability benefit is paid to an insured whose earned income is reduced because of an accident or sick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sability-Incom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benefit peri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is the length of time that disability payments are payable after the elimination period is m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Individual policies normally contain 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elimination peri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(waiting period), during which time benefits are not p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Most policies automatically includ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waiver-of-premium prov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If the insured is totally disabled for 90 days, future premiums will be waived as long as the insured remains disabl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Policies typically includ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rehabilitation prov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sability-Incom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294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Some policies pa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accidental death, dismemberment and loss-of-sight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Optional benefits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Under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cost-of-living rid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, the insurer periodically adjust benefits for increases in the cost of liv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Some insurers provide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option to purchase additional insur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in the futu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Social Security rid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pays an additional amount if the policyholder is turned down for SS disability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return of premiums rid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refunds part or all of the premiums if the policyholder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s claim experience is favor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dividual Health Insurance Contractual Provis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uaranteed renewable polic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one in which the insurer guarantees to renew the policy at each anniversary 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miums can be increased for the underwriting cl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noncancellable polic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the insurer cannot change, cancel, or refuse to renew the policy as long as premiums are paid on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surer cannot change the premiums or the rate structure specified in the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Insight 15.1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How Does U.S. Health Spending Compare with Other Countries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3" descr="insight15_01.gif"/>
          <p:cNvPicPr/>
          <p:nvPr/>
        </p:nvPicPr>
        <p:blipFill>
          <a:blip r:embed="rId1"/>
          <a:stretch/>
        </p:blipFill>
        <p:spPr>
          <a:xfrm>
            <a:off x="914400" y="1143000"/>
            <a:ext cx="7162920" cy="50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dividual Health Insurance Contractual Provis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der a conditionally renewable policy, the policyholder can renew the policy until a specified 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surer has the right to decline renewal under conditions specified in the contr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policies are nonrenewable and expire at the end of the protection peri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olicyholder does not have the contractual right to renew the poli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ginning in 2014, applicants for medical expense insurance have guaranteed issue of coverage and renew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dividual Health Insurance Contractual Provis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ffordable Care Act prohibits the use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reexisting condition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deny or limit coverage for clai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insurers will no longer be able to deny coverage to applicants because of their medical his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cyholders have 10 days to examine a poli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olicyholder may return the policy; the policy will be void and the entire premium will be refun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dividual Health Insurance Contractual Provis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Some contractual provisions address claim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Under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notice of claim provis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, the insured must give written notice to the insurer within 20 days after a covered loss occ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Under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claim forms provis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, the insurer is required to send the insured a claim form within 15 days after notice is recei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Under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proof-of-loss provis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, the insured must send written proof of loss to the insurer within 90 days after a covered loss occ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dividual Medical Expense Contractual Provis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race peri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31-day period after the premium due date to pay an overdue prem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einstatement provis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ermits the insured to reinstate a lapsed poli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ime limit on certain defens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tates that after the policy has been in force for two years, the insurer cannot void the policy or deny a claim on the basis of misstatements in the application, except for fraudulent misstat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ealth-Care Problems in the U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MS PGothic"/>
              </a:rPr>
              <a:t>Reasons for the increase in spending includ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Increase in consumer dema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Advances in technolog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Cost insulation because of third-party pay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Employment-based health insura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State-mandated benef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Increased spending on prescription dru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Cost shifting by Medicare and Medicai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Higher administrative cos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Rising prices in the health-care sec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Defensive medici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MS PGothic"/>
              </a:rPr>
              <a:t>Aging of the population i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  <a:ea typeface="MS PGothic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MS PGothic"/>
              </a:rPr>
              <a:t> a major fac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MS PGothic"/>
              </a:rPr>
              <a:t>Health-Care Problems in the U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Problem 2: Many people do not have health insurance cover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49.9 million people, or 16.3% of the US population had no health insurance coverage in 20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Groups with large number of uninsured inclu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PGothic"/>
              </a:rPr>
              <a:t>Foreign bor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PGothic"/>
              </a:rPr>
              <a:t>Hispanics, Blacks, and Asia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PGothic"/>
              </a:rPr>
              <a:t>Young adul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PGothic"/>
              </a:rPr>
              <a:t>Low income househol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Many people are uninsured because the coverage is not afford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Many low income people who are eligible for Medicaid are not aware they are elig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ealth-Care Problems in the U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12189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nsequences of being uninsured are seve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ninsured often delay or skip needed medical care because of high 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uninsured receive medical care, they frequently pay more for that c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nsured adults are less likely to have a regular source of medical c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ninsured often do not have access to regular screenings and preventive c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ninsured are sicker an die earlier than people with insu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sight 15.2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Seventy Percent of the Uninsured Have Gone Without Health Coverage for More Than a Yea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2" descr="insight15_02.gif"/>
          <p:cNvPicPr/>
          <p:nvPr/>
        </p:nvPicPr>
        <p:blipFill>
          <a:blip r:embed="rId1"/>
          <a:stretch/>
        </p:blipFill>
        <p:spPr>
          <a:xfrm>
            <a:off x="533520" y="1143000"/>
            <a:ext cx="8078760" cy="5105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8:45:46Z</dcterms:created>
  <dc:creator>Rejda / McNamara</dc:creator>
  <dc:description/>
  <dc:language>en-US</dc:language>
  <cp:lastModifiedBy>User</cp:lastModifiedBy>
  <dcterms:modified xsi:type="dcterms:W3CDTF">2015-03-09T22:09:33Z</dcterms:modified>
  <cp:revision>145</cp:revision>
  <dc:subject>Individual Health Insurance Coverages</dc:subject>
  <dc:title>Chapter 15</dc:title>
</cp:coreProperties>
</file>