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75EB-404F-4BE2-8B1F-DF9FB61C9D4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35E7-ABF5-41F9-B25C-F94314E660E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4C9-EE18-41C1-9D4F-5004FACF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3DF-1AAA-4061-A86E-37C9B5C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2F1-CA79-4665-8DEB-E8C3D3D6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F50-EA14-4F71-BCA1-8FB107A7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33B-4D7E-455C-AC9D-CDB38063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9F2-2F30-45C8-91F5-6CBA5029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1A3-81A0-49CE-A023-3E626054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C25-8E13-4D5A-A4D2-7E7E488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C11-03D2-466C-BF89-386AEB1D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A37-F627-43D5-9793-A273BBE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42C-C257-4450-9B76-EF5B053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997-BE96-401F-A6B0-72FA8D3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1F8-B76D-46A1-A7F8-D58D9CEE8EFD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CAA-C380-4B27-8548-8E4AB5A6AF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  <a:ea typeface="Arial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  <a:ea typeface="Arial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5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ryotic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cteria and Archa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in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200400" y="396720"/>
            <a:ext cx="59436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057400" y="1504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584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100" spc="-1" strike="noStrike">
                <a:solidFill>
                  <a:srgbClr val="0000ff"/>
                </a:solidFill>
                <a:latin typeface="Calibri Light"/>
              </a:rPr>
              <a:t>Gram Staining of Bacteri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458200" cy="2057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alibri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Calibri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alibri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Gram-negative species are pathogenic more threatening  than gram-positive spec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m-negative bacteria are commonly more resistant than gram-positive species to antibiot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1599840"/>
            <a:ext cx="5639040" cy="517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y prokaryotes (bacteria)                                                   secrete a sticky  protective layer calle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as the following fun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Adhere  bacterial cells to their substrat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Increase bacterial resistance to host defen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tick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bacterial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Calibri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Protect bacterial c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5880" y="2090880"/>
            <a:ext cx="2971800" cy="199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67616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maintains the shape of the cell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affords physical protec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prevents the cell from bursting in a hypotonic environme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st bacterial cell walls contain </a:t>
            </a:r>
            <a:r>
              <a:rPr b="1" lang="en-US" sz="21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walls of Archaea lack peptidoglyc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 Light"/>
              </a:rPr>
              <a:t>Structural Characteristics of a Bacterial Cel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1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karyotes reprodu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Reproduction of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590920" y="228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Nutrition of Pro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karyotes are grouped into four categories 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76320" y="2158920"/>
            <a:ext cx="899136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90920" y="76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utrition of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280" y="1114560"/>
            <a:ext cx="88394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arbon 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c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oautotro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organic sub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carbon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toheterotroph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c sub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carbon 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oheterotroph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c substa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source for both energy and carb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380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7" name="Content Placeholder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313-BBD7-426E-8CD0-E9BBDADDD273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17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17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18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19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  <a:ea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Refer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3185-5946-4D95-BB48-DE517EEE16BC}" type="slidenum">
              <a:rPr b="0" lang="ar-EG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4083120" y="2133720"/>
            <a:ext cx="474984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626-5C35-4857-847B-2D324DB82AC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1920" y="1676160"/>
            <a:ext cx="8363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Prokaryo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: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ryotic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m’s s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-Surface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Nutritional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0F9-3C8F-404B-A04F-83290E2A91B5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What are Prokaryotes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648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 Light"/>
              </a:rPr>
              <a:t>1. Domain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 Light"/>
              </a:rPr>
              <a:t>Archae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, 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Extreme halophiles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ome species require an extremely salty environment to grow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Extreme thermophiles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838080" y="1905120"/>
            <a:ext cx="7696440" cy="4416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 occur in many shapes and sizes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ost bacteria have one of three basic shapes: rod-shaped, sphere-shaped, or spiral-sha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  <a:ea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  <a:ea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1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1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 Light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Cocci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s a tool for identifying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Calibri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ine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200400" y="380880"/>
            <a:ext cx="5943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mohamed</cp:lastModifiedBy>
  <dcterms:modified xsi:type="dcterms:W3CDTF">2016-01-20T04:10:25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