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FDC-70F6-448B-B413-E54F4437193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8A51-D13D-4A57-946C-6E1D8D52E14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5C3-98B4-4C25-B1E7-2EEBA7C1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126-B3F3-42A4-9192-73345526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1BF-8BFA-4272-9F05-7FD6C121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719-802A-46B3-9FEC-24ECCB21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CD0-E25B-462E-9C46-EF4388E4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555-4AB6-47D3-B6D8-E3653369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0AC-FEA1-465B-B9F6-4179A595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F56-A858-4537-89A4-8D1DE44B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570-C8BE-4923-A05E-1A679D97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04D-5BE2-4308-9631-0760483B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0A1-7E44-4660-86B8-9B0BD194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204-FF83-4ADB-806C-30B4B754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275D-4DD5-4AA5-A8F3-3CAB3C48FA81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660F8-E35D-4470-AEB3-7147D452901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  <a:ea typeface="Arial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  <a:ea typeface="Arial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5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ryotic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cteria and Archa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Calibri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in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200400" y="396720"/>
            <a:ext cx="59436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057400" y="1504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8584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100" spc="-1" strike="noStrike">
                <a:solidFill>
                  <a:srgbClr val="0000ff"/>
                </a:solidFill>
                <a:latin typeface="Calibri Light"/>
              </a:rPr>
              <a:t>Gram Staining of Bacteria</a:t>
            </a:r>
            <a:endParaRPr b="0" lang="en-US" sz="3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458200" cy="2057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alibri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Calibri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Calibri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Gram-negative species are pathogenic more threatening  than gram-positive spec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m-negative bacteria are commonly more resistant than gram-positive species to antibiot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1599840"/>
            <a:ext cx="5639040" cy="517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ny prokaryotes (bacteria)                                                   secrete a sticky  protective layer called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has the following fun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5920" indent="-565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Adhere  bacterial cells to their substrat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Increase bacterial resistance to host defen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tick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bacterial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Calibri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42840" indent="-490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Protect bacterial c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5880" y="2090880"/>
            <a:ext cx="2971800" cy="1993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40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676160"/>
            <a:ext cx="822960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maintains the shape of the cell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affords physical protectio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130000"/>
              </a:lnSpc>
              <a:spcBef>
                <a:spcPts val="374"/>
              </a:spcBef>
              <a:buClr>
                <a:srgbClr val="0000ff"/>
              </a:buClr>
              <a:buFont typeface="Calibri"/>
              <a:buAutoNum type="arabicPeriod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Calibri"/>
              </a:rPr>
              <a:t>prevents the cell from bursting in a hypotonic environmen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st bacterial cell walls contain </a:t>
            </a:r>
            <a:r>
              <a:rPr b="1" lang="en-US" sz="21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3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walls of Archaea lack peptidoglyc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 Light"/>
              </a:rPr>
              <a:t>Structural Characteristics of a Bacterial Cell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1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karyotes reprodu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sexu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Arial"/>
              </a:rPr>
              <a:t>Reproduction of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590920" y="228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Nutrition of Pro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karyotes are grouped into four categories 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76320" y="2158920"/>
            <a:ext cx="8991360" cy="38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90920" y="76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utrition of Pro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280" y="1114560"/>
            <a:ext cx="88394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toautotro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arbon sour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ganic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oautotrop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organic sub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carbon sour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toheterotroph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71320">
              <a:lnSpc>
                <a:spcPct val="9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ource, an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c substa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carbon sour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emoheterotroph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rganic substa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a source for both energy and carb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3808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  <a:ea typeface="Arial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7" name="Content Placeholder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786-0BC5-4F21-8970-C5373EB03500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17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17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18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19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  <a:ea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  <a:ea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Refer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1F48-6A8E-4550-BCF4-7DE103E902F8}" type="slidenum">
              <a:rPr b="0" lang="ar-EG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4083120" y="2133720"/>
            <a:ext cx="474984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8DB4-3A07-4121-8631-8A13C173F63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1920" y="1676160"/>
            <a:ext cx="8363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Prokaryo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a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: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karyotic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m’s s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-Surface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Nutritional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EF96-3BBA-45AB-9A43-AFC059C884F6}" type="slidenum">
              <a:rPr b="0" lang="ar-SA" sz="9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What are Prokaryotes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46483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 Light"/>
              </a:rPr>
              <a:t>1. Domain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 Light"/>
              </a:rPr>
              <a:t>Archae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, 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Extreme halophiles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ome species require an extremely salty environment to grow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Extreme thermophiles 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0" t="0" r="0" b="3787"/>
          <a:stretch/>
        </p:blipFill>
        <p:spPr>
          <a:xfrm>
            <a:off x="838080" y="1905120"/>
            <a:ext cx="7696440" cy="4416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teria occur in many shapes and sizes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ost bacteria have one of three basic shapes: rod-shaped, sphere-shaped, or spiral-shap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  <a:ea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  <a:ea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  <a:ea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1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1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 Light"/>
              </a:rPr>
              <a:t>Shapes of Bacteri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Cocci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that form chains similar to a string of beads are called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treptococc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12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s a tool for identifying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Calibri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ine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200400" y="380880"/>
            <a:ext cx="59436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 Light"/>
              </a:rPr>
              <a:t>The Gram’s stai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mohamed</cp:lastModifiedBy>
  <dcterms:modified xsi:type="dcterms:W3CDTF">2016-01-20T04:10:25Z</dcterms:modified>
  <cp:revision>4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