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C63-5760-4999-A61D-0C75CD02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2EC-0998-4201-99F5-EB03643A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331-FC3D-4013-9A0B-5CA434D8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7FB-1E88-40D3-872E-5B413360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2A6-67FE-4486-B958-887F699A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DBC-DEF6-447A-8720-9005F490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B2D-2D17-464A-B305-678A98BF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843F-9476-42C1-9CF1-9B43395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997-AE0A-4E75-A2E2-EDED57A4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1C6E-EA2D-40E5-A5B1-B1725B8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206-D0E9-42C2-AE78-37500EFD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046-CFC1-48E8-A2AD-CC1B418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B84-350A-494C-9EFD-6E891A9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15C1-7D48-4104-A52D-5923C24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E950-2EB0-4E77-BF4D-EE78501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D65C-5B57-4326-969F-FA2D9B64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2971-F074-47CC-B5CA-4A254921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333A-A9F7-4A25-823C-7810C4B1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913D-1E10-4974-872A-1856E83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B2A2-484C-46FF-A417-FA6A53F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CB78-BDCB-43AA-A6A8-32D38FD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DCD3-6660-4782-8098-99297BD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919-7C6B-4EF3-949B-2A12B83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5995-9B25-4CA4-AC97-7CDAE1A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7ABB-B4CB-468A-8452-8BF89B1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019A-1CFD-44C9-9789-9BB649F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2311-350F-4ACF-A326-5251BBA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2F00-F2EC-4669-8CF0-E5B90B12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2BC2-B334-4AF8-B36D-7A50336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F9F0-74F8-4284-B31A-44E75DD8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C15D-64AF-47F9-A30B-53D31D05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FF58-5087-4A9E-9A75-FA07BBA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FEDC-BFDF-46C8-BD47-0D28A4CE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90F-3E61-486D-A1CF-8868E85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FEA9-7A80-41C4-9CFD-0AC4A1B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A001-E790-40B3-B7D7-59F5C78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2623-E339-4AE9-922E-F344E48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004D-5337-4624-8A52-FACB8E1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EAF0-AE42-4E7F-ABB1-AC1E0D4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21AC-C67E-4A46-9275-7BE6476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9BD1-E758-474E-AE63-6010B640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3F4E-1A02-4836-8FE6-D891A374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6806-700C-4D98-9B05-802525E9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A4BB-E7D5-458D-9260-CCD53844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AC7-9B3F-4D2A-A7C6-10598194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8498-33AF-4E81-876E-65644EAB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A3AF-38A5-431F-998D-5EFC97C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09CA-EEE4-4680-8D9A-F1F7220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DB77-8A5F-41CE-AC53-326CD24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05D29-EE7F-43E7-B9F3-B37F5C09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C3D0-96A9-474E-8B09-49CDCAD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E39F-A68C-4B48-9F85-1D96768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B65E-0953-454C-BED5-C794AFA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B9A3-58B0-4424-86A5-61CE015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D159-1C52-4243-A838-A5A7D54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5EA-0246-44C7-ADCC-188A31B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0274-A45D-4ADE-85AB-ED0B83B3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ED8-7702-4AFF-97DA-F3BE224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CC6-3B3F-4695-B2EF-7CF37D3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036-BFAB-45F9-9D26-86541E31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07C-944C-4537-923A-35C6CDB3F6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A5D-FE23-4D95-BEDD-605320FC05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5913-B785-4D19-9947-1A1118E12B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F9AC-3A0C-43B6-A333-A0BABEF86B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045-D57C-4B14-8F70-C680C0EF7E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95200" y="2582640"/>
            <a:ext cx="86360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d0d0d"/>
                </a:solidFill>
                <a:latin typeface="Corbel"/>
              </a:rPr>
              <a:t>Protein Synthesis</a:t>
            </a: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d0d0d"/>
                </a:solidFill>
                <a:latin typeface="Corbel"/>
              </a:rPr>
              <a:t>Lecture 5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happens during the process of transcriptio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72840" y="2311560"/>
            <a:ext cx="10247400" cy="32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cription is the synthesis of an RNA strand from a DNA templ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gene's protein building instructions are transcribed to messenger RNA (mRNA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RNA carries the code from DNA to the ribosomes where translation into a protein occu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0" name="Picture 2" descr="Image result for 3 stages in Transcription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happens during the process of translatio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31480" y="2666520"/>
            <a:ext cx="947124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ssenger RNA is made from DN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ell uses information from messenger RNA to produce protei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fer RNA is made from messenger R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pies of DNA molecules are mad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123188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1T05:16:58Z</dcterms:created>
  <dc:creator>maria</dc:creator>
  <dc:description/>
  <dc:language>en-US</dc:language>
  <cp:lastModifiedBy>Othman Jawdat Taani</cp:lastModifiedBy>
  <dcterms:modified xsi:type="dcterms:W3CDTF">2017-11-02T08:34:08Z</dcterms:modified>
  <cp:revision>14</cp:revision>
  <dc:subject/>
  <dc:title>Unit 2:  Protein Synthesis</dc:title>
</cp:coreProperties>
</file>