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2BF-FE76-4C28-AFCC-DBDE5EED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A01-BBB4-4999-8817-BCC768FA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3CE-7E6E-4972-AF7A-1E567715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18F-B55B-4F43-8780-60AF4D91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B41-EBFF-43C4-A7E4-08CBFABD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E3D4-D324-4DED-9D4E-800A246E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42F-D56D-4280-BC54-31167DE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CE25-7AFD-44F3-85BA-FB15C0E2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EFF9-7DB1-4691-8987-76473A2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680-BE5D-486E-8705-9514C10F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FEE3-66D4-4627-AE2D-D68323E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A73-1F82-4AE6-8974-C4733780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3B28-24A4-4AE9-AF65-77F9C4D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226-7914-4F3C-8727-2EBA2D9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65BF-66C2-422F-9CD0-19FF7B53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BE84-C3AB-4012-907D-37318E73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3791-EFE7-4F0A-AF32-EFE63F93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2CD2-BA0D-4914-B781-29A0E76D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FAD1-A682-4B1B-AFA0-09E3134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EEA7-A0B6-461D-92F7-736C31CB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019-68D9-4405-9A95-69455A8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AE2F-D3B9-4AB5-AD3D-D7A65EAA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67F-9914-45C2-81F3-364AE22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B93C-C40D-4949-BDAC-D1EFAB6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4003-90E0-460D-AB38-E954127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16A8-F6B5-4F1C-8ADF-F8CE7B4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932C-DB25-4D63-9137-C39061B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BC5D-CB2C-4779-BAC9-CE6F642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6603-9CAE-466D-8291-BE6DBAE5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0C33-73DC-4274-98AC-3214E4B6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5060-184E-41B9-9594-A2E1B500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72A7-4110-4859-AB33-C20CC37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33F1-53F4-459C-A7A1-EAF7945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86B-ABE5-4C96-AE93-F99F665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614D-EBF3-4695-B364-F034906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D717-EAEA-452D-8D4C-F172861C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23E7-0F50-433D-B8C0-D023C90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A071-8E0C-447C-9CA0-78A2A53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7249-F3FA-4164-9450-6BEFA19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7898-7250-4832-8F7C-4EED13A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BD61-09A3-4233-BE84-E0B8EEC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15F7-FB47-4D8C-92D0-78E34BDE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21DA-2B62-4337-AF90-09C7FE2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CB2D-02EB-4AEE-925E-52043220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052-A8B1-430E-BCBA-0B4F0AC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2A43-0972-49F6-80B3-6B6DB591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B18B-1FB4-458D-A263-380CC75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9E1C-208C-45BE-AB36-974D1466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DB61-CF94-4EF6-8377-ABA9041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804B-1DDF-4BAF-B33F-C861C46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8254-141A-4585-A97B-17422E9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002E-F6D4-40A1-824B-D9F5F82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E219-FB91-4446-AF76-85FDB63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1A13-A12E-4BA7-B893-A13389D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E58B-C118-4AC1-8A9C-AF52A6EB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E88-672B-4F3E-B4EB-77B31508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FB1B-6905-44CC-86BB-65FDBACE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855-9C74-4E16-A964-74A6DA2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9EE-F8CF-4C81-B9CB-15A68C4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2FA-902E-48F6-A7C3-B528E4C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2DA4-AAC3-415F-89E9-D971891F23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CC1-2D38-4C37-91EB-2EF9E58D3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8B9-6554-44CB-BC6A-9A66BBD6F7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20F-A5EC-4091-A4F5-5B4547A2C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54E-145C-408A-AB58-5F8EC6A17D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95200" y="2582640"/>
            <a:ext cx="86360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d0d0d"/>
                </a:solidFill>
                <a:latin typeface="Corbel"/>
              </a:rPr>
              <a:t>Protein Synthesis</a:t>
            </a: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d0d0d"/>
                </a:solidFill>
                <a:latin typeface="Corbel"/>
              </a:rPr>
              <a:t>Lecture 5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happens during the process of transcriptio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72840" y="2311560"/>
            <a:ext cx="10247400" cy="32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cription is the synthesis of an RNA strand from a DNA templ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gene's protein building instructions are transcribed to messenger RNA (mRNA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RNA carries the code from DNA to the ribosomes where translation into a protein occu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0" name="Picture 2" descr="Image result for 3 stages in Transcription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happens during the process of translatio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31480" y="2666520"/>
            <a:ext cx="947124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ssenger RNA is made from DN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ell uses information from messenger RNA to produce protei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fer RNA is made from messenger R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pies of DNA molecules are mad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123188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1T05:16:58Z</dcterms:created>
  <dc:creator>maria</dc:creator>
  <dc:description/>
  <dc:language>en-US</dc:language>
  <cp:lastModifiedBy>Othman Jawdat Taani</cp:lastModifiedBy>
  <dcterms:modified xsi:type="dcterms:W3CDTF">2017-11-02T08:34:08Z</dcterms:modified>
  <cp:revision>14</cp:revision>
  <dc:subject/>
  <dc:title>Unit 2:  Protein Synthesis</dc:title>
</cp:coreProperties>
</file>