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94F-73FE-4F5A-8EE3-1C4D6EA9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ADF-B72B-429E-9607-B1B91D9C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813-44EB-4133-BEB0-51C611CB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A51-A8EF-456D-9765-EFE482CF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3CA4-AFB5-426E-B61C-4831F2B7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443F-1771-4440-B2AE-4BC818C3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B602-A23B-4B4C-B66E-3046E495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BA18-C178-42FC-9A8D-4C58B676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080F-A9F4-475A-8609-78BE44F1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F421-ECE3-4BC8-BEA4-3A771ED0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3A7E-C828-4E97-A638-D579EEEB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7EB-C7A4-47EC-A4F3-8058B6BB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FC60-1C0F-4E55-9DB3-90216EA1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EBDB-DF46-4396-9EDB-2E2CFAF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0ED8-BD5F-4E24-9132-60EBC9A2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8B98-17A2-4666-BD68-42549DA7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B68-43E7-4B6D-A562-9E9DF561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49EB-98F5-435F-874D-12F50BB1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BC60-D777-4419-869C-F720A201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0003-23BA-46D5-B4D6-90E42556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ACF71-3140-4DEF-B4AF-A7A05A50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BE4B-C93E-4E9E-A31C-7612C867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505-0304-4BC6-835F-82838CB2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BE8C-2E0C-4CE8-80CE-C3CCB0E7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BD37-34C2-477A-9594-E228C3DC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87C3-B5BA-4862-98CE-D4C14D67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BE53-1B31-436D-B71C-EE585DED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B271-6A30-4330-947C-E25E3095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ED87-47D0-4A28-9E67-534446F2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AD5F-9F23-466B-BA2F-71A202C4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5BD3-3BAE-46F7-ADA3-66582644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F614-4088-499B-AAB4-2A4ADF9A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688A-0C2A-4DBD-AD08-6B13F4E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5AE-3CCE-4B09-A21E-F6DFA790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A22B0-E693-431D-9146-20CBDDA1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85D1-3D14-48B9-82DC-BDCD87F7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99EB1-B136-4A6F-8D5B-738920A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90D7-D5C0-4C94-9BA4-23FEF9C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29420-5ACF-4053-9F56-0B24C7E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A463-041E-4522-BB05-97413BE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A4E93-4EB0-4E41-892B-4B41D4DC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42B0-FA0F-4787-95A0-9E9DE112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B55D-B957-48CA-9D2A-33C782ED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F77-B3EA-459B-862B-A9E81713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D12-12CD-4B67-8D08-F214DFF2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8CC-770B-46A1-B73C-5A816E0C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68A-BAE4-4590-9368-4B40937D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CF4-C65A-43A9-B84F-C9CA328E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63F8-48C6-44A3-A4A6-05E7FD4EA27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4489-DFC2-4BE6-86EF-E545D937FAB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9A03-D328-4370-9D82-BBAF1B04AED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475F-8DE0-47B5-927B-0EC35EA40E3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08:36Z</dcterms:modified>
  <cp:revision>311</cp:revision>
  <dc:subject/>
  <dc:title>The Cell Organelles</dc:title>
</cp:coreProperties>
</file>