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369-68AA-47B8-9A2E-D55BC060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624-33FE-4F44-AD3C-C93DB3AF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F71-66C0-4CBE-A64C-1D9AB063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E77-56D2-4605-A22D-FE0810D4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4C47-9820-4BBE-BE6C-8BEBA041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C8E6-22AA-4BDB-A26C-A51E9A61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8B96-D6AA-46D0-B55B-799B2BC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177A-C60F-41A0-BB8A-887DA4FD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591D-83C5-426A-9967-72A1949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5C8F-52ED-4178-82CC-646E6B86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7D0-EC73-4D83-97BE-6EFD7D4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265-D112-4D8B-AB85-4D9AFFD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35FF-2169-47D8-AD2E-AA4EEDC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BD15-2620-4DB2-995B-962EE90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5D03-DBC0-459F-A2B2-61D9354E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3553-DC78-43AD-B4ED-CEAFC1F9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C12-5184-4E9C-9575-BAC8AD96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23D4-9874-4FE1-AB1D-BDF779A0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297A-359B-45CC-8F82-7591D83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C80A-B354-428D-A330-D5C289AF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6F01-1C0C-4551-8B65-F77191C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01C3-4D7D-4F23-813E-CEADE57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B20-4ADC-48CF-BF75-4E891B8A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2CD0-1A8A-46BF-8C43-5B2EF45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844C-E5DF-4710-9B80-D88DF34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AABB-2BAF-47CB-8BB4-FBBFC8B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E65B-53F1-4769-B417-13D083A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0CB1-D3A1-4BA7-A2D7-F9E91021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DC4E-26CF-4884-8094-B23008FD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1D23-6474-41F8-8549-1F47FDAA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7A2C-97F5-4B35-8ACA-DF3BCD71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F491D-241F-40D8-980E-C341649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1608-39BA-488A-A030-3AE1F47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D38-C4BA-4185-B400-6DCA8827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8E9C-0220-49D7-92EC-6C1BA69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596C-758C-4995-89C3-076F5E61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D9B6-23D7-4453-9D91-2DD884C3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2490-5A2B-4C26-89D4-457B3E5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05A9-A904-4290-93DA-734B4D3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B8FA-7423-44A3-A6E1-0015672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7CC4-A853-4176-A02A-41D69047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487C-3498-42DD-A093-D99116B0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15F5-CF28-46EA-B435-97AC60F5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BFE-284E-40C9-B923-0E8D7DAE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011-30BB-44A2-9870-63A0AA8B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BDE-E137-4C35-B75C-5579E14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B5B-0605-4C9F-8191-868A89C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DD1-872B-4E33-AED6-4A94C19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9938-6F80-459C-8728-FA4D03642E4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D92B-9220-45EB-B0CA-B958EC9F79F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128-FB8A-4523-84F3-0770DC8C2FA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A07-8E26-4030-A1CD-95BD191EE9F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08:36Z</dcterms:modified>
  <cp:revision>311</cp:revision>
  <dc:subject/>
  <dc:title>The Cell Organelles</dc:title>
</cp:coreProperties>
</file>