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B7E-A94E-44BB-8593-19EF5792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CC1-B2BB-4352-8A39-C435E2A0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1B3-CAB7-4C9B-9F9E-0F97A236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1C7-AA1E-438A-93B5-92144D2F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B648-080F-4193-B331-2E3589A4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58EB-AF51-4DFB-AC07-0BDC54A1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E27F-EAB5-4BC7-9F7A-5D8008A0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1F79-E507-42BF-B011-2F6EA5E0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83E1-D50F-4D5D-B397-4BE2812F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C962-BB44-40EA-816F-0271AB55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DB2A-A84F-468B-A0A2-0C1CE90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570-25D1-47CF-A2C0-49C2EA5F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7FC5-1475-463B-9529-A896ECF0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2DE0-443C-457E-B2D7-3C997E24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3119-840E-4E71-904E-2F5414EA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A34B-3806-447B-AAD1-825C95E4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31DA-D5A7-4424-B0C7-7C3DC3B4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D573-2F65-49CF-8246-B8114845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1F4E-F6F4-41BA-A110-487DFCB8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1364-78EB-4655-B7E3-E180E0CC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04461-F43A-4298-B3C3-97026703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DC15-F550-42C9-B5E0-67823476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1ED-08AF-41BD-8058-563D4266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689D-C2EB-4547-BCF4-B3B7F092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B7E5-69CB-4B42-890E-10169BB2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60FB-F738-45BB-B9EE-3BED7E3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8C1E0-EBE5-4CA9-BD19-6288BA81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A88B-C1AF-4B1A-9557-9124CCFA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0485-881D-4DC7-A799-C31E2E29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6AA1-A6F8-4D8A-BF43-777A3FD8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5705-83C0-41AB-9600-A9F8A0AE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CA5E-3067-43E7-AD54-FAD63C0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48F3-C9C8-44DA-B7BB-6C3873C0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404-50F9-4F3F-B9BB-0D4D2562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7747A-2621-4D46-A360-8EC3D8C4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7A3B0-8737-42AC-B947-E34AF672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2379-E939-4ED6-A58E-B0F0AC4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BB7B-7E4F-4922-B5BB-FD7A789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48AA-51E0-4576-9B08-804EE45B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E9CF-A06F-4878-9070-02D2BF9C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CD0F-77D1-4B96-82E4-257F93F2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CFA7-DDC4-47BA-BE37-26048933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8335-91AF-4D7E-B15C-4269C7BD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57B-D4F2-4F6E-8E9C-93A6F459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952-9ED9-4D2F-9455-35ADC64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BC1-9851-45B2-908B-03CB3E2F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E98-7782-49E4-A6F1-01579AC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F61-9D7F-40C9-9A5F-D5625906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F638-521A-480F-A95D-9DE433239A2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22F9-4F26-4D91-9B91-65E0E7B742C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CBAE-2F0C-49AB-9C5F-85F56B48DB6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1DEE-151D-415C-BE84-7EA0FBF61A8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5-03-11T03:49:31Z</dcterms:modified>
  <cp:revision>311</cp:revision>
  <dc:subject/>
  <dc:title>The Cell Organelles</dc:title>
</cp:coreProperties>
</file>