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D12-07B6-43DF-9CB5-217495B6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87F-CA02-49E8-B040-CA4617C2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D8E-79B7-4775-B554-E57C5641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091-EB9A-4B29-A4F0-C2694113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F578-0A72-46A8-A5DE-1E12641E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7D5B-8E7B-4766-8F67-C5546940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91DC-DB7D-470E-BDB7-7B8ECD3F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D9DB-D3B1-4D39-98C5-D4CBBC0E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6E65-C7AA-4367-A531-ED713BAC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03C5-02E1-4D62-B4A0-2919FAC5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03D2-7134-47AA-AA83-4C2FAB86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B5E-3171-4CF2-A9A8-96247C06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7DF9-98D2-41DA-B270-E8CB1B83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C9EC-456C-4A16-9FBF-F83D05A8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0BF5-A931-401B-9490-951FCD56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C674-7A1C-48A3-A79F-BDA91588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1D70-FF60-4BB8-9B44-F089B7C2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2CF2-FC16-4219-9C61-3AA5B147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CCF4-6055-4405-A063-0D0C25DF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2E29-D666-45F1-8CB8-92FF7A35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96CD-9651-4D21-8B2C-3B7AF029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B5D2-DD24-4B81-890E-610EBFCA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6B3-3564-4532-9FD6-E6825469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5F1D9-69E2-4C71-9B08-A1A824A6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73C07-E586-434F-97E4-7F5AA313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C829-20BC-4C4E-BEAC-102B590D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D34B-4BD2-43E2-AB37-D627F6F3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1ACC-23D3-4998-BDC4-3214B9B8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D2A9-C0FD-4031-9604-958F2F3F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5E84-AC24-4F9A-8E76-51BFD48A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0AF1E-DE84-451D-8F00-16722F4F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C1E70-36E5-4EC9-8FCC-7ADF294A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05C0-F2BF-4E02-9D27-17E689A9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A09-E846-4317-95BF-765D7BD9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8AA0-32AD-41B6-BCA0-76A596ED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AAF53-01C2-4895-871D-BFB1C97A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C136-DC72-4AE0-A427-79D304C2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F5F0-6E39-4DDD-AE67-3124FE53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2BB81-93E3-4C2A-B610-1ED036DF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C109-DB02-4D1C-83D4-B397F790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F9AF4-8C51-449F-9445-4FE1990D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B1FC2-8720-47DF-839F-72682907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E909A-32EE-4ED0-83A3-9A4C4E03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FD1-9B4B-43AE-A4AC-13C4AE48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59A-3668-40FF-86E1-CF6AC691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B1E-C7ED-4771-8FA7-750E9828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D20-A1AE-4970-84A6-F1C4144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79F-651F-4ACD-9182-C520A60E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01E5-9921-4861-8886-6A4EC962504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88E1-01C1-469C-AEE1-EFEB06F60C6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EED9-2D68-41CF-A983-CCC19D685C2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FF5B-42B5-4AE1-B46D-4521F6C6EC4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76320" y="43070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600"/>
            <a:ext cx="807732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240048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08:36Z</dcterms:modified>
  <cp:revision>311</cp:revision>
  <dc:subject/>
  <dc:title>The Cell Organelles</dc:title>
</cp:coreProperties>
</file>