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3EB-3909-4D05-81E9-826C6118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972-FA1A-40EF-8B45-055A4D7C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ED0-601B-4BAC-92B5-1E34AE7D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AC4-9F6D-49AC-BE31-1C594344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E12-A55F-4CCE-AFFA-FC20BFE7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F11-F0B7-45FF-A66F-F52ABB8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BFE-B8A3-4E41-B4C6-86227633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9587-831E-4106-8F1D-59D44D3B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F63-7817-4909-BC48-E306699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CA89-677A-44E9-AEE4-CCA557F2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718A-1BB2-449B-A9F8-79CCFC1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021-0935-4C4F-A1C6-4C5A80C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F612-E650-4248-99E5-0E6C63D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4DDF-615C-4CFB-B258-2ED6CA6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FC6A-4BB2-48EE-AEA6-7E0A2887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81F-F4BD-4327-B607-FD42CEB8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5044-3FD4-4F26-8005-E912ABF3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66EB-5237-4D73-891C-E0F8F4A2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49A3-133A-42DC-A4B3-6E27945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D34A-C24A-4F24-8153-79BE8631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38FD-51A2-4B3E-8512-0BEE336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620E-9D96-495A-8330-007D5619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70D-3438-4A3D-8995-1613E736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F977-C6A6-4D5C-8BF3-00FB848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2E34-E87A-4406-A98E-466D23E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A472-5D5D-4E9F-9EFA-107F062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EE53-F3E0-47BB-96EA-A4DDFEE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2B06-E092-42EF-8750-D69EFC1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569A-C7C8-4C2D-96D0-CB8404EB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16EB-05C3-481E-9ED4-6CF84260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D925-9A87-48E2-AFC3-E968C5C4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A57D-C73B-437D-B83D-94F3AED5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85B1-496D-44D4-A31D-869FC99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B5B-0874-457A-AD18-1FA81051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A8F7-C80A-4D9D-8F4E-B1D47E5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6466-7304-46F4-B00C-E8259F8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253F-8C99-4CE5-8D10-00090437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BE22-C801-48DF-A358-01A9BFC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77E8-CBA6-4CF2-8B69-03B472C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4762-E9DD-4E27-A104-CAEAE2F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6B9D-A62B-484E-BFB2-98F381D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4E93-6C2E-41C2-8166-7957B745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5632-396F-413A-AF70-EBE61A5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061-50CA-43E4-B1A6-35AB1DD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403-9E1B-4F50-B397-273D466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C06-EEC5-4335-A5F0-AB1635C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C51-1825-4CCB-8761-CBFC2AE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8A6-A253-421A-A38E-F05AADE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090-8B21-4C16-9BA9-5C0E6557A10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604-2828-473A-A1E6-2DE084DB3CE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AF8-FFB1-4192-ACBF-FACA7B22AAE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EBA-532C-4AA4-A1BE-0E2D54AFDCB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8-27T10:13:06Z</dcterms:modified>
  <cp:revision>311</cp:revision>
  <dc:subject/>
  <dc:title>The Cell Organelles</dc:title>
</cp:coreProperties>
</file>