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1DF-0E2D-4F93-9FE3-02E2DA50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7A3-36CF-4677-872C-79FF9E2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EF3-685E-4BF0-B592-1E3CA6DB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CCB-2FF4-46DA-BB34-F31F3E12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7688-F5CE-43E2-B375-A634B846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9D13-87CE-4C74-99FB-E50856A3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5344-E9CC-4FA8-A7E9-4C6C440F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B012-ED6C-46B7-AB9E-8C28DB1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55B-8D4B-4D53-8CB3-E7A402AB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3E3B-2C1B-4895-843D-E2D4EDF6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5898-7AC3-422B-BCBF-4C1C5524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721-18F7-493D-8B66-F024774F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826E-6833-4096-9A66-5000D3A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09AE-039B-4DF5-AA6A-E0F502F4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2A60-8F13-48F9-8827-96BC9A88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BF36-228B-4781-8B73-0CF5B8E3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382-489B-465D-BB5D-3D54C57A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FBFF-A85F-4BBA-B06B-F32BD64A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9676-E416-439B-8C8B-EC77AB9F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A135-F586-4FD2-9C91-C67DEC60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8B81-DFDA-4B66-B242-C2A4A8DF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7B7F-4CB4-43D6-8D9A-ECA60C46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356-4F64-454C-B572-DCBA7D25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9D58-C482-481F-A1BE-2E9DF6CB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D653-EF2C-409D-AF4A-D7893D3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BE7B-B5EF-4CB1-8C1E-97B99316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81B0-8064-4186-B129-BDE03338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F7FF-839E-45FB-9869-857BB2EF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41A2-5CB4-4AEC-A156-DD9476A8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5B5B-F6EF-4659-90D4-EDD488F0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7535-6C65-4232-9E78-F9A422ED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ED50-AED1-4CD9-83E6-CEEC12D8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DE5EE-3BD4-45BF-96BD-96ADB4EB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F24-D985-4C97-B414-9ABC805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338A-1595-4399-A31E-7F562B2F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F415-5C91-4AB3-9038-13DEB9C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03E8-A6C5-4F1E-9F5F-EC463FC1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0AC8-D1D5-4F68-9BCE-8598DCD6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8FBD2-BF58-47F1-8117-B2C2ED4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E229-4506-4100-B237-879E345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96068-4EE2-4FC5-A363-8A69DF22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66E9-821B-4566-9D75-A33FAC01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0111-0E34-4C50-A520-DAE37862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441-3C96-48BF-93CD-5882585F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3AF-4BA6-45FB-BEB9-5D89C163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1FD-27C8-4237-845E-34C24A5B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1B4-93EB-4477-8FC4-989E4E8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609-A2D7-477C-968D-EE63498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E018-EAD8-433D-8C6A-30D999FB761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0106-3AB5-43BB-8C00-8F3ABC698F7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E0C0-A2CB-4649-A8E1-2CA3C77F694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8C83-D31B-474A-883C-0788E8199CF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08:36Z</dcterms:modified>
  <cp:revision>311</cp:revision>
  <dc:subject/>
  <dc:title>The Cell Organelles</dc:title>
</cp:coreProperties>
</file>