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814-E6CE-4648-8FB3-35E7D813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913-0CD9-45AA-8045-546E368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D4E-C3CC-4946-921C-9444425B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A2E-9997-4906-A00B-B1FF2214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0526-8A4C-4724-8936-734E3FB6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40A5-76DD-4A5F-9646-D7D2C4E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16C5-47A0-4C30-9DF4-F79E349F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94A9-3A91-44FF-8429-E5112B15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A64F-B10F-449F-8B15-8A9D270B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EA0-C2CF-49D5-B0E2-69D3BBD8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EE8B-89D2-43E4-BA02-013552A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9D9-4265-4F4C-9248-2005B484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4667-DAB1-4C08-B55F-A5111182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7ADB-04C5-4355-92B6-5ACA256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5CF-3657-4B86-A929-33C5847E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5EAD-6F22-4C57-AEDC-1A7A92FE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20CA-F596-4179-97F8-6F7ED81B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022-BCB8-448F-9B25-DFC1017E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284-2D51-4ED1-BC29-3C270B33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FA5-3D5A-4D1C-A7FF-3615464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1D2-D5DB-494E-BCA5-214DB5D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A9C-57D0-4AF2-AF00-40CF125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DC5-2622-4DB0-B278-45867F3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A46-61E6-4E61-B30C-36FA405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03F-7E41-4A20-923A-924708AA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2213-0779-4464-8ECB-D2836B90D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8276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Radiation Unit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ation-Protection Un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l doses of different types or energies of radiation cause different amounts of damage to living tissue. For example, 1 Gy of alpha radiation causes about 20 times damage as 1 Gy of x- rays. Therefore the equivalent dose was defined to give an approximate measure of the biological effect of radiation. It is calculated by multiplying the absorbed dose by a weighting factor W 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hich is different for each type of rad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Biological Effectiveness (RBE) or 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ighting factor W 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rays, gamma rays, electrons, positrons 1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ns, protons (10 -100 Ke V)           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ns, protons (less than 10 Ke V )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 particles                                       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w of the 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troduced here for the first time to help understand its use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risk of harm from 1 rem to an organ from one radiation source = the risk of harm from 1 rem to that organ from any other radiation source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erate the different radiation units?, their definition and their relation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Radioactivity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quer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radioactive sample s.t. there is 1 atomic decay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 Becquerel: discovered radioactivity through experiments with uranium and other radioactive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ie (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7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ay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. activity of 1g ra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-Exposure unit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ent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bbreviated 'R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entgen is a unit for measu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t is defined only for effect on air. The roentgen is essentially a measure of how many ion pairs are formed in a given volume of air when it is exposed to radiation. Therefore i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energy absorbed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t applies only to gamma and x-rays. It does not relate the amount of exposure to biological effects of radiation in the human bod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oent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cribes the amount of x-rays or gamma rays to which a target (e.g., fly, mouse, rat, dog, human, cow, elephant, etc.) is exposed. The roentgen relates to the ability of x-rays and gamma rays to remove electrons from atoms in one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ir. 1 R (Roentgen) = 1000 mR (milliRoent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- Biological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adiation Absorbed Dos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 is a unit for measu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rbed d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y material. Absorbed dose results from energy being deposited by the radiation. It is defined for any material. It applies to all types of radiation. It do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 into accoun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tential effect that different types of radiation have on the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t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used as a measure of energy absorbed by the body, but not as a measure of the relative biological effect (harm or risk) to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rad = 1000 millirad (mr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gray= 100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adiation absorbed dose is important for describing radiation effects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orbed dose relates to how much radiation energy gets put into a given target mass (e.g., lung, eye, thyroid glan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sorbed dose has units of energy divided by 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, ergs per gram or joules per ki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absorbed doses can arise in different organs or tissue of the body for the same exposure in 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if a person were exposed to 10 R of gamma rays, the eye, the thyroid, and the lung would have different absorbed doses. Special computer programs can calculate such do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s of absorbed dose often used are the rad and gr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n SI uni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gray unit represents 1 joule of radiation energy put into a kilogram mass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us, 1 gray equals 1 joule per kilogr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ay and rad apply to all types of ionizing radia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like the roentgen unit, which only applies to x-rays and gamma ray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3:34:16Z</dcterms:created>
  <dc:creator>Geoffrey Lovelace</dc:creator>
  <dc:description/>
  <dc:language>en-US</dc:language>
  <cp:lastModifiedBy>User</cp:lastModifiedBy>
  <dcterms:modified xsi:type="dcterms:W3CDTF">2015-04-15T05:09:41Z</dcterms:modified>
  <cp:revision>103</cp:revision>
  <dc:subject/>
  <dc:title>Radiation Units</dc:title>
</cp:coreProperties>
</file>