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90D-1E9E-4A83-B2F3-F1DC4C2B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C15-07A8-4DD0-999E-CBCCFC4D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05F-57B0-4761-A1B7-628F59E3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5A4-C64B-45E1-B1A7-95A6B045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99A6-885A-4D64-8F19-02210AF3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3DDC-7A50-4AD8-BE34-16B738C5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0740-605E-4C63-9200-1BB944E0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174B-F518-452F-B77B-C267213A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FBEE-D60E-41EF-AF83-A9F304DA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A1D3-3BCE-41EC-AD83-F8C8B560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3D86-963A-4925-8248-F31648B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E1D-C528-465D-91AF-71001EFC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E55-BE23-4F4B-AAE1-CE3DDE5F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46EB-F1BE-4D56-832B-0E305CA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F370-A864-4AEC-8060-99E64E3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3ADD-2A7C-47EC-BF00-57171E27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F801-0BAF-47A6-B599-F08F907B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7C0-1532-4DBE-93F9-DD2DAE34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F09-F7A5-49BF-9B02-F70B02E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9CA-9232-4A10-96C4-C6BD26D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0CC-7AD7-4E16-BFB8-FF6A1D03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B6A-6E05-4028-B1C5-93B1E50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D2C-BBF3-4C8E-A004-EB522517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C5F-6F23-4C34-860E-97DC05C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B120-D68C-4D93-846D-7BC56A9F0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6DB7-5E76-4C3F-8D74-778585EF7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8276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Radiation Units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ation-Protection Un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l doses of different types or energies of radiation cause different amounts of damage to living tissue. For example, 1 Gy of alpha radiation causes about 20 times damage as 1 Gy of x- rays. Therefore the equivalent dose was defined to give an approximate measure of the biological effect of radiation. It is calculated by multiplying the absorbed dose by a weighting factor W 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hich is different for each type of rad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Biological Effectiveness (RBE) or 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ighting factor W 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rays, gamma rays, electrons, positrons 1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ns, protons (10 -100 Ke V)           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ns, protons (less than 10 Ke V )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ha particles                                       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w of the 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troduced here for the first time to help understand its use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risk of harm from 1 rem to an organ from one radiation source = the risk of harm from 1 rem to that organ from any other radiation source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erate the different radiation units?, their definition and their relation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Radioactivity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quer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radioactive sample s.t. there is 1 atomic decay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 Becquerel: discovered radioactivity through experiments with uranium and other radioactive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ie (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7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ay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. activity of 1g ra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-Exposure unit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ent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bbreviated 'R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entgen is a unit for measu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t is defined only for effect on air. The roentgen is essentially a measure of how many ion pairs are formed in a given volume of air when it is exposed to radiation. Therefore i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energy absorbed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t applies only to gamma and x-rays. It does not relate the amount of exposure to biological effects of radiation in the human bod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oent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cribes the amount of x-rays or gamma rays to which a target (e.g., fly, mouse, rat, dog, human, cow, elephant, etc.) is exposed. The roentgen relates to the ability of x-rays and gamma rays to remove electrons from atoms in one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ir. 1 R (Roentgen) = 1000 mR (milliRoentg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- Biological 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3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adiation Absorbed Dos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 is a unit for measu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rbed d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y material. Absorbed dose results from energy being deposited by the radiation. It is defined for any material. It applies to all types of radiation. It do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 into accoun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tential effect that different types of radiation have on the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it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used as a measure of energy absorbed by the body, but not as a measure of the relative biological effect (harm or risk) to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rad = 1000 millirad (mr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gray= 100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adiation absorbed dose is important for describing radiation effects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orbed dose relates to how much radiation energy gets put into a given target mass (e.g., lung, eye, thyroid gland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bsorbed dose has units of energy divided by m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.g., ergs per gram or joules per ki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absorbed doses can arise in different organs or tissue of the body for the same exposure in 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if a person were exposed to 10 R of gamma rays, the eye, the thyroid, and the lung would have different absorbed doses. Special computer programs can calculate such do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s of absorbed dose often used are the rad and gr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n SI unit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gray unit represents 1 joule of radiation energy put into a kilogram mass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us, 1 gray equals 1 joule per kilogr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ay and rad apply to all types of ionizing radiat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like the roentgen unit, which only applies to x-rays and gamma ray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3:34:16Z</dcterms:created>
  <dc:creator>Geoffrey Lovelace</dc:creator>
  <dc:description/>
  <dc:language>en-US</dc:language>
  <cp:lastModifiedBy>User</cp:lastModifiedBy>
  <dcterms:modified xsi:type="dcterms:W3CDTF">2015-04-15T05:09:41Z</dcterms:modified>
  <cp:revision>103</cp:revision>
  <dc:subject/>
  <dc:title>Radiation Units</dc:title>
</cp:coreProperties>
</file>