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7D31-5541-44F9-8797-51F50AD194E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8710-8ADE-4D81-9B03-F722B838C8B2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E365-268E-4D80-A410-633FDAC67E10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791C-4B88-49DC-A8EF-2EDBAA2C685E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061E-126B-450C-A8E8-39A5C5711C8F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726A-B692-4752-899E-213AC36016A1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8E28-3049-4A4A-B119-8397A34D0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4219-4ED8-4BEB-831E-55C035D2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0F4A-0C7E-49D5-BE21-3A0FB397B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3DC3-8CEC-4D8A-86A0-F6C19C022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A94E-6D7D-4BCA-BEE4-86F499D4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9144-930A-451C-9C8B-2CC53A20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B931-1807-4A27-9006-D326F64C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EDF1-53BA-4DB7-AA58-91963F1D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9A28-B4FE-4634-BC7B-5ADA3658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793C-9EF6-40AC-8A25-10B16EBA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EA49-A412-4C68-A5D3-30E9B108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5FF1-493A-4492-B9CF-9F7FE6FA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2222-712A-48DB-8941-EAEC00A0E4BC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anidadanimal.info/inmun/images/fig2.gi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B -Lymphocyt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re are c.10 million different B-lymphocytes, each of which make a different antibod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huge variety is caused by genes coding for abs changing slightly during develop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re are a small group of clones of each type of B-lymphocy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نتيجة بحث الصور عن ‪activation of B cells‬‏"/>
          <p:cNvPicPr/>
          <p:nvPr/>
        </p:nvPicPr>
        <p:blipFill>
          <a:blip r:embed="rId1"/>
          <a:stretch/>
        </p:blipFill>
        <p:spPr>
          <a:xfrm>
            <a:off x="76320" y="123840"/>
            <a:ext cx="8915400" cy="65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صورة ذات صلة"/>
          <p:cNvPicPr/>
          <p:nvPr/>
        </p:nvPicPr>
        <p:blipFill>
          <a:blip r:embed="rId1"/>
          <a:stretch/>
        </p:blipFill>
        <p:spPr>
          <a:xfrm>
            <a:off x="193680" y="380880"/>
            <a:ext cx="856944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tibody-mediated immune response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B cells produce antibodies that bind to specific antigen particles in blood or interstitial fluid</a:t>
            </a:r>
            <a:br>
              <a:rPr sz="2800"/>
            </a:br>
            <a:r>
              <a:rPr b="0" lang="en-GB" sz="2800" spc="-1" strike="noStrike">
                <a:solidFill>
                  <a:srgbClr val="ffe701"/>
                </a:solidFill>
                <a:latin typeface="Arial"/>
              </a:rPr>
              <a:t>B -Lymphocyte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997360"/>
            <a:ext cx="82296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t the clone stage antibodies do not leave the B-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bs are embedded in the plasma membrane of the cell and a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lled antibody recep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the receptors in the membrane recognise an  antigen on the surface of the pathogen the B-cell divides rapid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ntigens are presented to the B-cells by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macroph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5" descr="fig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40720" y="1916280"/>
            <a:ext cx="107928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B -Lymphocyt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4" name="Picture 6" descr="img_3-2-5"/>
          <p:cNvPicPr/>
          <p:nvPr/>
        </p:nvPicPr>
        <p:blipFill>
          <a:blip r:embed="rId1"/>
          <a:stretch/>
        </p:blipFill>
        <p:spPr>
          <a:xfrm>
            <a:off x="179280" y="1413000"/>
            <a:ext cx="828036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B -Lymphocyt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 activated B cells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PLASMA CELL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se produce lots of antibodies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lt; 1000/sec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antibodies travel to the blood, lymph, lining of gut and lu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number of plasma cells goes down after a few wee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tibodies stay in the blood longer but eventually their numbers go down to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B -Lymphocyt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 activated B cells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MEMORY CELL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emory cells divide rapidly as soon as the antigen is reintrodu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re are many more memory cells than there were clone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en the pathogen/infection infects again it is destroyed before any symptoms sh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نتيجة بحث الصور عن ‪activation of B cells‬‏"/>
          <p:cNvPicPr/>
          <p:nvPr/>
        </p:nvPicPr>
        <p:blipFill>
          <a:blip r:embed="rId1"/>
          <a:srcRect l="0" t="0" r="0" b="11293"/>
          <a:stretch/>
        </p:blipFill>
        <p:spPr>
          <a:xfrm>
            <a:off x="717480" y="1117440"/>
            <a:ext cx="7747200" cy="5154840"/>
          </a:xfrm>
          <a:prstGeom prst="rect">
            <a:avLst/>
          </a:prstGeom>
          <a:ln w="0">
            <a:noFill/>
          </a:ln>
        </p:spPr>
      </p:pic>
      <p:sp>
        <p:nvSpPr>
          <p:cNvPr id="60" name="TextBox 1"/>
          <p:cNvSpPr/>
          <p:nvPr/>
        </p:nvSpPr>
        <p:spPr>
          <a:xfrm>
            <a:off x="2558880" y="2080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 cell Activ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نتيجة بحث الصور عن ‪cytokines of of B cell activation‬‏"/>
          <p:cNvPicPr/>
          <p:nvPr/>
        </p:nvPicPr>
        <p:blipFill>
          <a:blip r:embed="rId1"/>
          <a:stretch/>
        </p:blipFill>
        <p:spPr>
          <a:xfrm>
            <a:off x="914400" y="1150920"/>
            <a:ext cx="6093000" cy="534528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2590920" y="4284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ytokine Recep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نتيجة بحث الصور عن ‪cytokines of of B cell activation‬‏"/>
          <p:cNvPicPr/>
          <p:nvPr/>
        </p:nvPicPr>
        <p:blipFill>
          <a:blip r:embed="rId1"/>
          <a:stretch/>
        </p:blipFill>
        <p:spPr>
          <a:xfrm>
            <a:off x="1219320" y="1600200"/>
            <a:ext cx="6914880" cy="470520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1905120" y="4572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ytokines of B cell ac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4" descr="نتيجة بحث الصور عن ‪cytokines of activation of B cells‬‏"/>
          <p:cNvPicPr/>
          <p:nvPr/>
        </p:nvPicPr>
        <p:blipFill>
          <a:blip r:embed="rId1"/>
          <a:srcRect l="0" t="0" r="0" b="4599"/>
          <a:stretch/>
        </p:blipFill>
        <p:spPr>
          <a:xfrm>
            <a:off x="838080" y="1079640"/>
            <a:ext cx="76662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9:15:35Z</dcterms:created>
  <dc:creator>User name placeholder</dc:creator>
  <dc:description/>
  <dc:language>en-US</dc:language>
  <cp:lastModifiedBy>المستخدم</cp:lastModifiedBy>
  <dcterms:modified xsi:type="dcterms:W3CDTF">2017-12-04T05:18:36Z</dcterms:modified>
  <cp:revision>71</cp:revision>
  <dc:subject/>
  <dc:title>THE IMMUNE SYSTEM</dc:title>
</cp:coreProperties>
</file>