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BD9F-A12E-4FF4-93CF-AEDBCDC1859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835D-D20C-4681-97CC-426F44BDC9F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3F14-AD3A-496E-BE12-724B34FD19F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5CA9-FB76-4606-A6BF-A14C6243E06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1EA5-E945-42B2-9C31-7667C55DAFD0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39BC-6BA5-4589-A33F-D569C32721B2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E72-8FAF-4629-BC4B-CCD7BA7B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83A-4A4E-4F54-B1E5-31285D74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A5D-F03E-4D6B-90A4-78D5CE2A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B86-2A02-4B00-B3B7-EF488105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F94-37F2-4D06-91C6-7AA7E316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AFC-86F8-4090-93C9-ACBE1596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487-7ACF-4932-ABBD-09DCF4C8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B40-D525-4FE3-B209-347645B1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27-4EEA-414D-B4B4-6EA2B778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338-AC2C-4EB5-918E-DCDFC781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67C-67F5-4472-990D-E0CACEA1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668-F4E6-4DE9-9993-098041B9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F151-DFFF-43C2-B0E2-58A7226FF457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idadanimal.info/inmun/images/fig2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c.10 million different B-lymphocytes, each of which make a different anti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uge variety is caused by genes coding for abs changing slightly during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a small group of clones of each type of B-lymphocy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نتيجة بحث الصور عن ‪activation of B cells‬‏"/>
          <p:cNvPicPr/>
          <p:nvPr/>
        </p:nvPicPr>
        <p:blipFill>
          <a:blip r:embed="rId1"/>
          <a:stretch/>
        </p:blipFill>
        <p:spPr>
          <a:xfrm>
            <a:off x="76320" y="123840"/>
            <a:ext cx="89154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صورة ذات صلة"/>
          <p:cNvPicPr/>
          <p:nvPr/>
        </p:nvPicPr>
        <p:blipFill>
          <a:blip r:embed="rId1"/>
          <a:stretch/>
        </p:blipFill>
        <p:spPr>
          <a:xfrm>
            <a:off x="193680" y="380880"/>
            <a:ext cx="85694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tibody-mediated immune response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 cells produce antibodies that bind to specific antigen particles in blood or interstitial fluid</a:t>
            </a:r>
            <a:br>
              <a:rPr sz="2800"/>
            </a:br>
            <a:r>
              <a:rPr b="0" lang="en-GB" sz="28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the clone stage antibodies do not leave the B-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bs are embedded in the plasma membrane of the cell and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ed antibody recep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receptors in the membrane recognise an  antigen on the surface of the pathogen the B-cell divides rapid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igens are presented to the B-cells by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croph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fig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40720" y="1916280"/>
            <a:ext cx="10792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6" descr="img_3-2-5"/>
          <p:cNvPicPr/>
          <p:nvPr/>
        </p:nvPicPr>
        <p:blipFill>
          <a:blip r:embed="rId1"/>
          <a:stretch/>
        </p:blipFill>
        <p:spPr>
          <a:xfrm>
            <a:off x="179280" y="1413000"/>
            <a:ext cx="82803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PLASMA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se produce lots of antibodies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/sec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ntibodies travel to the blood, lymph, lining of gut and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umber of plasma cells goes down after a few wee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ies stay in the blood longer but eventually their numbers go down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 -Lymph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activated B cell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mory cells divide rapidly as soon as the antigen is reint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re are many more memory cells than there were clone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en the pathogen/infection infects again it is destroyed before any symptoms sh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نتيجة بحث الصور عن ‪activation of B cells‬‏"/>
          <p:cNvPicPr/>
          <p:nvPr/>
        </p:nvPicPr>
        <p:blipFill>
          <a:blip r:embed="rId1"/>
          <a:srcRect l="0" t="0" r="0" b="11293"/>
          <a:stretch/>
        </p:blipFill>
        <p:spPr>
          <a:xfrm>
            <a:off x="717480" y="1117440"/>
            <a:ext cx="7747200" cy="515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2558880" y="2080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 cell Ac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نتيجة بحث الصور عن ‪cytokines of of B cell activation‬‏"/>
          <p:cNvPicPr/>
          <p:nvPr/>
        </p:nvPicPr>
        <p:blipFill>
          <a:blip r:embed="rId1"/>
          <a:stretch/>
        </p:blipFill>
        <p:spPr>
          <a:xfrm>
            <a:off x="914400" y="1150920"/>
            <a:ext cx="6093000" cy="534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590920" y="4284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tokine Recep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نتيجة بحث الصور عن ‪cytokines of of B cell activation‬‏"/>
          <p:cNvPicPr/>
          <p:nvPr/>
        </p:nvPicPr>
        <p:blipFill>
          <a:blip r:embed="rId1"/>
          <a:stretch/>
        </p:blipFill>
        <p:spPr>
          <a:xfrm>
            <a:off x="1219320" y="1600200"/>
            <a:ext cx="6914880" cy="4705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905120" y="457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ytokines of B cell acti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نتيجة بحث الصور عن ‪cytokines of activation of B cells‬‏"/>
          <p:cNvPicPr/>
          <p:nvPr/>
        </p:nvPicPr>
        <p:blipFill>
          <a:blip r:embed="rId1"/>
          <a:srcRect l="0" t="0" r="0" b="4599"/>
          <a:stretch/>
        </p:blipFill>
        <p:spPr>
          <a:xfrm>
            <a:off x="838080" y="1079640"/>
            <a:ext cx="7666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2-04T05:18:36Z</dcterms:modified>
  <cp:revision>71</cp:revision>
  <dc:subject/>
  <dc:title>THE IMMUNE SYSTEM</dc:title>
</cp:coreProperties>
</file>