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8167B-6462-4BC7-BF1C-9BBD12BDD60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A3DF2-EF92-4D31-8A73-32B92F94DAE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834B7-8901-4855-A0E3-4302831D7F6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8BE4-7E6A-4B70-9C1D-D516186A2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2481-F33A-43F6-84C3-FF22E41F3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9F59-CEE3-48FD-A2D4-99D97EC76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C353-DD6A-407E-84F1-1C448787D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B444-2ADE-4E5F-B2BE-FD585CCC7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0F0E-B74E-486B-8C77-C80010FAA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F4B8-CDB9-4916-B7C5-16D8BF3E5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3652-8314-4F01-9E99-71C30E93D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1DE3-552B-4872-B6E1-7E0BD7B23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E3B6-5E1B-41DB-80D2-5EF09FF8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44B2-1027-4C31-B38E-DD32A622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E0FA-DE89-4385-BACC-96BBF0A9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AC8EF-BE1A-43EB-8CF4-2321CCF9A2F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0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66ff33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666880" y="685800"/>
            <a:ext cx="3962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pperplate Gothic Bold"/>
              </a:rPr>
              <a:t>B- Eukaryotic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8002440" y="0"/>
            <a:ext cx="1141560" cy="1447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A025"/>
          <p:cNvPicPr/>
          <p:nvPr/>
        </p:nvPicPr>
        <p:blipFill>
          <a:blip r:embed="rId2"/>
          <a:stretch/>
        </p:blipFill>
        <p:spPr>
          <a:xfrm>
            <a:off x="3581280" y="76320"/>
            <a:ext cx="1981440" cy="676080"/>
          </a:xfrm>
          <a:prstGeom prst="rect">
            <a:avLst/>
          </a:prstGeom>
          <a:ln w="0">
            <a:noFill/>
          </a:ln>
        </p:spPr>
      </p:pic>
      <p:sp>
        <p:nvSpPr>
          <p:cNvPr id="52" name="Line 9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1" descr=""/>
          <p:cNvPicPr/>
          <p:nvPr/>
        </p:nvPicPr>
        <p:blipFill>
          <a:blip r:embed="rId3"/>
          <a:stretch/>
        </p:blipFill>
        <p:spPr>
          <a:xfrm>
            <a:off x="0" y="1371600"/>
            <a:ext cx="4836960" cy="5486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"/>
          <p:cNvPicPr/>
          <p:nvPr/>
        </p:nvPicPr>
        <p:blipFill>
          <a:blip r:embed="rId4"/>
          <a:srcRect l="0" t="0" r="0" b="3080"/>
          <a:stretch/>
        </p:blipFill>
        <p:spPr>
          <a:xfrm>
            <a:off x="4800600" y="1371600"/>
            <a:ext cx="4343400" cy="5486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"/>
          <p:cNvPicPr/>
          <p:nvPr/>
        </p:nvPicPr>
        <p:blipFill>
          <a:blip r:embed="rId5"/>
          <a:srcRect l="18593" t="8074" r="4053" b="0"/>
          <a:stretch/>
        </p:blipFill>
        <p:spPr>
          <a:xfrm>
            <a:off x="46080" y="19080"/>
            <a:ext cx="1249200" cy="12952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554120"/>
            <a:ext cx="9144000" cy="46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us contains most of the genes in an eukaryotic cell as it is the 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ository for genetic materi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us is separated from the cytoplasm by a double membran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nuclear envelope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directs activities of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ntain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or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t allow large macromolecules and particles to pass throug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ar membrane is maintaining the shape of the nucle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1295280" y="15228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. The nucleus: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ontains the cell’s genetic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E1D30-AA18-4DA0-9DFF-45057C54115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rcRect l="3497" t="0" r="0" b="9000"/>
          <a:stretch/>
        </p:blipFill>
        <p:spPr>
          <a:xfrm>
            <a:off x="4876920" y="0"/>
            <a:ext cx="419076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5_10a"/>
          <p:cNvPicPr/>
          <p:nvPr/>
        </p:nvPicPr>
        <p:blipFill>
          <a:blip r:embed="rId2"/>
          <a:srcRect l="0" t="11669" r="0" b="16669"/>
          <a:stretch/>
        </p:blipFill>
        <p:spPr>
          <a:xfrm>
            <a:off x="12600" y="990720"/>
            <a:ext cx="4864320" cy="4343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625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us contain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chromatin fiber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hich is made up of DNA  and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the cell prepares to divide, the chromatin fibers coil up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d condens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be seen a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chromosomes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eukaryotic species has a characteristic number of chromoso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ypical human cell has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46 chromosom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but sex cells o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amet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ggs and sperm) have only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23 chromosom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us directs protein synthesis by synthesizing messenger RNA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RNA travels to the cytoplasm and combines with ribosomes to translate its genetic message into the primary structure of a specific prote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a dark region involved in production of riboso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s ar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NA-protein complex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mposed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wo subuni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large and small) that join and attach to messenger RN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carry out protein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, it is the site of protein synth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 assembly begins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is completed in the cytopla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05_19"/>
          <p:cNvPicPr/>
          <p:nvPr/>
        </p:nvPicPr>
        <p:blipFill>
          <a:blip r:embed="rId1"/>
          <a:srcRect l="0" t="11669" r="0" b="15000"/>
          <a:stretch/>
        </p:blipFill>
        <p:spPr>
          <a:xfrm>
            <a:off x="1066680" y="3862440"/>
            <a:ext cx="6629400" cy="29955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. Ribosomes:  build the cell’s prot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52280" y="31320"/>
            <a:ext cx="8839440" cy="71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ribosomal RNA (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is synthesized and assembled with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ote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the cytoplasm to for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ibosomal subuni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ubunits passout through the nuclear pores to the cytoplasm where they combine to form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lls that synthesize large quantities of proteins (e.g., pancreas) have large numbers of 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ypes of Ribosomes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ree 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suspended in the cytosol and synthesize proteins that functio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ithin the cytoso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ound 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attached to the outside of the endoplasmic reticul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se synthesize proteins that are either included into membranes or for secretion outside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rcRect l="66104" t="40612" r="2541" b="8186"/>
          <a:stretch/>
        </p:blipFill>
        <p:spPr>
          <a:xfrm>
            <a:off x="5943600" y="2286000"/>
            <a:ext cx="2819520" cy="2209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15"/>
          <p:cNvGrpSpPr/>
          <p:nvPr/>
        </p:nvGrpSpPr>
        <p:grpSpPr>
          <a:xfrm>
            <a:off x="3429000" y="1600200"/>
            <a:ext cx="2514600" cy="1066680"/>
            <a:chOff x="3429000" y="1600200"/>
            <a:chExt cx="2514600" cy="1066680"/>
          </a:xfrm>
        </p:grpSpPr>
        <p:sp>
          <p:nvSpPr>
            <p:cNvPr id="57" name="Oval 11"/>
            <p:cNvSpPr/>
            <p:nvPr/>
          </p:nvSpPr>
          <p:spPr>
            <a:xfrm>
              <a:off x="3429000" y="1600200"/>
              <a:ext cx="2514600" cy="10666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2"/>
            <p:cNvSpPr/>
            <p:nvPr/>
          </p:nvSpPr>
          <p:spPr>
            <a:xfrm>
              <a:off x="3581280" y="1676520"/>
              <a:ext cx="22100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Eu = Tr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Karyon = Nucle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Text Box 3"/>
          <p:cNvSpPr/>
          <p:nvPr/>
        </p:nvSpPr>
        <p:spPr>
          <a:xfrm>
            <a:off x="2209680" y="228600"/>
            <a:ext cx="51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Arial"/>
              </a:rPr>
              <a:t>B- The Eukaryotic C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523880" y="42210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Animal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5715000" y="414504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Plant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6"/>
          <p:cNvGrpSpPr/>
          <p:nvPr/>
        </p:nvGrpSpPr>
        <p:grpSpPr>
          <a:xfrm>
            <a:off x="2743200" y="2743200"/>
            <a:ext cx="3962520" cy="1401120"/>
            <a:chOff x="2743200" y="2743200"/>
            <a:chExt cx="3962520" cy="1401120"/>
          </a:xfrm>
        </p:grpSpPr>
        <p:sp>
          <p:nvSpPr>
            <p:cNvPr id="63" name="Line 7"/>
            <p:cNvSpPr/>
            <p:nvPr/>
          </p:nvSpPr>
          <p:spPr>
            <a:xfrm>
              <a:off x="4648320" y="2743200"/>
              <a:ext cx="0" cy="800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8"/>
            <p:cNvSpPr/>
            <p:nvPr/>
          </p:nvSpPr>
          <p:spPr>
            <a:xfrm>
              <a:off x="2743200" y="3543840"/>
              <a:ext cx="3962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9"/>
            <p:cNvSpPr/>
            <p:nvPr/>
          </p:nvSpPr>
          <p:spPr>
            <a:xfrm flipH="1">
              <a:off x="2743200" y="3543840"/>
              <a:ext cx="12960" cy="60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0"/>
            <p:cNvSpPr/>
            <p:nvPr/>
          </p:nvSpPr>
          <p:spPr>
            <a:xfrm flipH="1">
              <a:off x="6692760" y="3543840"/>
              <a:ext cx="12600" cy="60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Text Box 13"/>
          <p:cNvSpPr/>
          <p:nvPr/>
        </p:nvSpPr>
        <p:spPr>
          <a:xfrm>
            <a:off x="76320" y="563868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Impact"/>
              </a:rPr>
              <a:t>Compare  Animal and Plant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228600" y="60199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Impact"/>
              </a:rPr>
              <a:t>What are the functions of cell organelles </a:t>
            </a:r>
            <a:r>
              <a:rPr b="1" lang="en-GB" sz="3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Eukaryotic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ell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FG02_04"/>
          <p:cNvPicPr/>
          <p:nvPr/>
        </p:nvPicPr>
        <p:blipFill>
          <a:blip r:embed="rId1"/>
          <a:stretch/>
        </p:blipFill>
        <p:spPr>
          <a:xfrm>
            <a:off x="533520" y="1320840"/>
            <a:ext cx="7619760" cy="5079960"/>
          </a:xfrm>
          <a:prstGeom prst="rect">
            <a:avLst/>
          </a:prstGeom>
          <a:ln w="0">
            <a:noFill/>
          </a:ln>
        </p:spPr>
      </p:pic>
      <p:sp>
        <p:nvSpPr>
          <p:cNvPr id="7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1294920"/>
            <a:ext cx="9144000" cy="520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eukaryotic cell has internal membranes, which partition the cell into compart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se membranes als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articipate in metabolis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many enzymes are built into membra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eneral structure of a biological membrane is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uble lay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phospholipids and diverse prote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type of membrane has a unique combination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ipi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tei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its specific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or example, those in the membranes of mitochondria function in cellular respi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838080" y="22824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Introduction: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ernal membranes compartmentalize the eukaryotic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D7180-2E97-4CDE-A02F-DD946E77EE8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Rounded Rectangle 1"/>
          <p:cNvSpPr/>
          <p:nvPr/>
        </p:nvSpPr>
        <p:spPr>
          <a:xfrm>
            <a:off x="5791320" y="6126120"/>
            <a:ext cx="2666880" cy="655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"/>
          <p:cNvPicPr/>
          <p:nvPr/>
        </p:nvPicPr>
        <p:blipFill>
          <a:blip r:embed="rId1"/>
          <a:srcRect l="0" t="0" r="0" b="4658"/>
          <a:stretch/>
        </p:blipFill>
        <p:spPr>
          <a:xfrm>
            <a:off x="152280" y="228600"/>
            <a:ext cx="8915400" cy="6031080"/>
          </a:xfrm>
          <a:prstGeom prst="rect">
            <a:avLst/>
          </a:prstGeom>
          <a:ln w="0">
            <a:noFill/>
          </a:ln>
        </p:spPr>
      </p:pic>
      <p:grpSp>
        <p:nvGrpSpPr>
          <p:cNvPr id="84" name="Group 10"/>
          <p:cNvGrpSpPr/>
          <p:nvPr/>
        </p:nvGrpSpPr>
        <p:grpSpPr>
          <a:xfrm>
            <a:off x="2438280" y="2413080"/>
            <a:ext cx="4686480" cy="3504960"/>
            <a:chOff x="2438280" y="2413080"/>
            <a:chExt cx="4686480" cy="3504960"/>
          </a:xfrm>
        </p:grpSpPr>
        <p:sp>
          <p:nvSpPr>
            <p:cNvPr id="85" name="Rectangle 6"/>
            <p:cNvSpPr/>
            <p:nvPr/>
          </p:nvSpPr>
          <p:spPr>
            <a:xfrm>
              <a:off x="4267080" y="5613480"/>
              <a:ext cx="1447920" cy="3045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7"/>
            <p:cNvSpPr/>
            <p:nvPr/>
          </p:nvSpPr>
          <p:spPr>
            <a:xfrm>
              <a:off x="5918040" y="5003640"/>
              <a:ext cx="114300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8"/>
            <p:cNvSpPr/>
            <p:nvPr/>
          </p:nvSpPr>
          <p:spPr>
            <a:xfrm>
              <a:off x="5676840" y="2413080"/>
              <a:ext cx="1447920" cy="3045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9"/>
            <p:cNvSpPr/>
            <p:nvPr/>
          </p:nvSpPr>
          <p:spPr>
            <a:xfrm>
              <a:off x="2438280" y="5257800"/>
              <a:ext cx="91440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Rounded Rectangle 7"/>
          <p:cNvSpPr/>
          <p:nvPr/>
        </p:nvSpPr>
        <p:spPr>
          <a:xfrm>
            <a:off x="6289560" y="5410080"/>
            <a:ext cx="2667240" cy="849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lant &amp; Animal Ce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370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Simila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th are eukaryotic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th contain similar orga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th are surrounded by cel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lant &amp; Animal Ce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3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lants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 wall – provides strength &amp; rigidity and is not found in animal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chloroplasts that is photosynthetic and are not found in animal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3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nimals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ganelle lysosomes, centriols and flagella are not found in pl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trioles have important role in cell divi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16761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ff"/>
                </a:solidFill>
                <a:latin typeface="Impact"/>
              </a:rPr>
              <a:t>The Cell Organell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2:07:29Z</dcterms:created>
  <dc:creator>Ash Ahm</dc:creator>
  <dc:description/>
  <dc:language>en-US</dc:language>
  <cp:lastModifiedBy>ralajmi</cp:lastModifiedBy>
  <dcterms:modified xsi:type="dcterms:W3CDTF">2014-02-02T04:44:11Z</dcterms:modified>
  <cp:revision>289</cp:revision>
  <dc:subject/>
  <dc:title>The Cell Organel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22D614AE-CDD3-489C-87D2-3106EC884FA3</vt:lpwstr>
  </property>
  <property fmtid="{D5CDD505-2E9C-101B-9397-08002B2CF9AE}" pid="3" name="ArticulatePath">
    <vt:lpwstr>Lecture 6</vt:lpwstr>
  </property>
</Properties>
</file>