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AAEE-245D-4657-8D78-945BAEB82D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C79-15FD-4FC4-AD5B-22D4A23F073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9495-1D1B-4AE4-9B2A-6F4607C2E7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4898-6637-41F8-B3A0-32A5F87F77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A239-EE72-45FC-BA9B-F23E67B40B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53FB-133B-4C87-B127-D24506DE534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C5F1-71EB-45E3-94D9-51F60292F55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63E5-18D1-4BD0-9C75-2E905692EF1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45E-9935-486B-BA1C-49A17C095A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9022-A684-4DB7-8C72-8A2D3B37829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785-07FF-42E7-B345-15DBF50DC8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9A25-18B2-48FE-B0C2-B5D0040A61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5453-F8DE-4721-8AA1-661AA62A1B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584A-8299-407B-BB23-FF46206931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50AC-F3D0-4823-A6F0-4DFD924B71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C799-052E-4CA0-BE74-2E4D5D8F5D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A5C6-0E4E-4ABB-9E7B-227A7ABCEA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2B7F-9C42-48C9-9525-1E1C66783B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54E7-4398-4913-90EB-6A2157ED9F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DE9-76EE-4C20-A1C3-E2AB76A5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568-BDF3-40C2-8A40-0EBA04D4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27D3-805F-4334-BAF2-820E7314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AB4-92E7-4D76-844C-50D21687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F7D-2383-4C59-93ED-300DA0D2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0BEF-6CD0-452D-AB32-563AA954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480-C341-4B04-BB28-E6FD397E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AAC4-ECC1-4B37-9F34-CBE0720B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199-E2CE-4AA8-BA5E-352429E4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C61-5681-4F9E-A1B2-324BC54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97E-AB7A-4AFD-A7D2-E90C5E3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B42-A422-4697-B1A7-EF0641D7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2BA9-14CC-49DC-B893-606A673663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9F9-FD9F-41D0-AD40-3C427AFE92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7926480" y="0"/>
            <a:ext cx="1141200" cy="144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8160" y="38160"/>
            <a:ext cx="1359000" cy="127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A025"/>
          <p:cNvPicPr/>
          <p:nvPr/>
        </p:nvPicPr>
        <p:blipFill>
          <a:blip r:embed="rId4"/>
          <a:stretch/>
        </p:blipFill>
        <p:spPr>
          <a:xfrm>
            <a:off x="3581280" y="76320"/>
            <a:ext cx="1981440" cy="676080"/>
          </a:xfrm>
          <a:prstGeom prst="rect">
            <a:avLst/>
          </a:prstGeom>
          <a:ln w="0">
            <a:noFill/>
          </a:ln>
        </p:spPr>
      </p:pic>
      <p:sp>
        <p:nvSpPr>
          <p:cNvPr id="53" name="Line 10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5">
            <a:lum contrast="6000"/>
          </a:blip>
          <a:srcRect l="17187" t="10961" r="18751" b="13563"/>
          <a:stretch/>
        </p:blipFill>
        <p:spPr>
          <a:xfrm>
            <a:off x="1143000" y="1752480"/>
            <a:ext cx="251460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2367000" y="852480"/>
            <a:ext cx="51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Cell Molecules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continuo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40F4-8FE5-47BF-A28D-B21FE82D9B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920" y="659880"/>
            <a:ext cx="8534160" cy="44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3- Enanti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lecules that are mirror imag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ntiomers are possible if there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oms or groups of atoms bonded to a carb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lik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-handed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-hand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ne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 activ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ther ina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51093" r="13692" b="4724"/>
          <a:stretch/>
        </p:blipFill>
        <p:spPr>
          <a:xfrm>
            <a:off x="3581280" y="2413080"/>
            <a:ext cx="5334120" cy="3378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03120" y="632448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4.6c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C9FC-17CD-425E-919F-EE5A8FACB4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rcRect l="0" t="0" r="0" b="5320"/>
          <a:stretch/>
        </p:blipFill>
        <p:spPr>
          <a:xfrm>
            <a:off x="457200" y="3733920"/>
            <a:ext cx="7924680" cy="2795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25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al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the components of organic molecules that are most commonly involved in chemical reactions, and give each molecule its unique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Functional groups are attachments that replace one or more hydrogen atoms to the carbon skeleton of the hydrocarb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the basic structure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estoster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male hormone)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tradi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female hormone) is iden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Functional groups contribute to the molecular diversity of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2134080" y="6400800"/>
            <a:ext cx="81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ge 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CF81-F852-4B2C-A080-9DC942DA4C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458200" cy="32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ix functional groups that are most important to the chemistry of lif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ydroxyl, carbonyl, carboxyl, amino, sulfhydryl, and phosph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are hydrophilic and increase solubility of organic compounds in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52640" y="6400800"/>
            <a:ext cx="81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age 5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7EBD-020F-4149-AD88-C1F8D24874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560" y="709200"/>
            <a:ext cx="838188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1- Hydroxyl group (-O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hydrogen atom forms a covalent bond with an oxygen which forms a covalent bond to the carbon skele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ganic compounds with hydroxyl groups are alcohols and their names typically end 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-ol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09480" y="3087720"/>
            <a:ext cx="8229600" cy="20937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A82D-D8E7-413A-9D1B-2FC7A979880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2- Carbonyl group (=C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an oxygen atom joined to the carbon skeleton by a double b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the carbonyl group is on the end of the skeleton, the compound i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delhyd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then the compound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et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228600" y="2892600"/>
            <a:ext cx="8686800" cy="33559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8F0A-C456-415F-820E-A22A0F6CC3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04920" y="563040"/>
            <a:ext cx="8610480" cy="21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3- carboxyl group (-COOH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carbon atom with a double bond with an oxygen atom and a single bond to a hydroxyl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carboxyl group acts as it releases hydrogen as an ion (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04920" y="2816280"/>
            <a:ext cx="8610480" cy="26701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DCCA-ED26-4417-AA04-FABF87153D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53416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4- Amino group (-NH</a:t>
            </a:r>
            <a:r>
              <a:rPr b="1" lang="en-US" sz="3200" spc="-1" strike="noStrike" u="sng" baseline="-25000">
                <a:solidFill>
                  <a:srgbClr val="ff0000"/>
                </a:solidFill>
                <a:uFillTx/>
                <a:latin typeface="Arial"/>
              </a:rPr>
              <a:t>2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nitrogen atom attached to two hydrogen atoms and the carbon skele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rganic compounds with amino group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min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amino group acts as a base because ammonia can pick up a hydrogen ion (H</a:t>
            </a:r>
            <a:r>
              <a:rPr b="0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 from the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mino acids, the building blocks of proteins, have amino and carb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3260880"/>
            <a:ext cx="9144000" cy="2911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F050-6300-45EE-971D-1C5212C09A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51920" y="888480"/>
            <a:ext cx="8915400" cy="21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5- Sulfhydryl group (-S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ulfur atom bonded to a hydrogen atom and to the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is group resembles a hydroxyl group in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rganic molecules with sulfhydryl groups ar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ol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ulfhydryl groups help stabilize the structure of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3403440"/>
            <a:ext cx="9144000" cy="2082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911C-6571-489F-B138-6D62141E7B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534160" cy="315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6- Phosphate group (-OPO</a:t>
            </a:r>
            <a:r>
              <a:rPr b="1" lang="en-US" sz="3200" spc="-1" strike="noStrike" u="sng" baseline="-25000">
                <a:solidFill>
                  <a:srgbClr val="ff0000"/>
                </a:solidFill>
                <a:uFillTx/>
                <a:latin typeface="Arial"/>
              </a:rPr>
              <a:t>3</a:t>
            </a:r>
            <a:r>
              <a:rPr b="1" lang="en-US" sz="3200" spc="-1" strike="noStrike" u="sng" baseline="30000">
                <a:solidFill>
                  <a:srgbClr val="ff0000"/>
                </a:solidFill>
                <a:uFillTx/>
                <a:latin typeface="Arial"/>
              </a:rPr>
              <a:t>2-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s of phosphorus bound to four oxygen atoms (three with single bonds and one with a double bo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hosphate group connects to the carbon backbone via one of its oxy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hosphate groups are anions with two negative charges as two protons have dissociated from the oxygen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e function of phosphate groups is to transfer energy between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3838680"/>
            <a:ext cx="9144000" cy="21049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457200" y="64771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5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14E-7A39-4B32-A1AC-D7319584C6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725400"/>
            <a:ext cx="81532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has a variety of unusual properties because of attractions between its polar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lightly negative regions of one molecule are attracted to the slightly positive regions of nearby molecules, forming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hydrogen bo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water molecu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form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nds with up to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our neighb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8320" y="3273480"/>
            <a:ext cx="4343400" cy="3294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152280" y="6384960"/>
            <a:ext cx="1828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1, Page 4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582-2E66-49B2-A387-4D9EF4989F2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990720"/>
            <a:ext cx="9144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ution </a:t>
            </a:r>
            <a:r>
              <a:rPr b="1" lang="ar-EG" sz="2800" spc="-1" strike="noStrike" u="sng">
                <a:solidFill>
                  <a:srgbClr val="ff0000"/>
                </a:solidFill>
                <a:uFillTx/>
                <a:latin typeface="Arial"/>
              </a:rPr>
              <a:t>المحلول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liquid that is a completely homogeneous mixt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of two or more sub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 sugar cube in a glass of water will eventually dissolve to form a uniform mixture of sugar and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vent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ـذيب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issolving 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solute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ذاب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substance that is dis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 the above  example,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ater is the solvent,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ugar is the solu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aqueous solution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المحلول المائى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solution in which water is the solv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Water is the solvent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6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E56C-203F-480B-9534-5478291125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3717"/>
          <a:stretch/>
        </p:blipFill>
        <p:spPr>
          <a:xfrm>
            <a:off x="3200400" y="1141560"/>
            <a:ext cx="5943600" cy="54878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131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is an effective solvent because it forms hydrogen bonds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rg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pola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val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lecu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7315200" y="63244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7, Page 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0880" y="1752480"/>
            <a:ext cx="3429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or exampl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hen a crystal of salt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NaC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is placed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a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m hydrogen bonds with parti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egative 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gions of water molecules. While,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l- an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or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gen bonds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artial positive 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drogen reg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t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FC3E-01DF-40F1-B19D-D641BA78C4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560" y="749160"/>
            <a:ext cx="8458200" cy="49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y substance that has an affinity for water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stances that have no affinity for water are. These substances are dominated by non-ionic and nonpolar covalent bo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re are no consistent regions with partial or full charges, water molecules cannot form hydrogen bonds with these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ydrophobic molecules are major ingredients of cell membr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CBEF-0457-4F1E-974B-0520955CE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91540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a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 substance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hydrogen 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ncentration in a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hydrochloric acid is added to water, hydrogen ions dissociate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فص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chloride 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HCl -&gt; H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Cl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ddition of an acid makes a solution more aci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b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any substance th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du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hydrogen ion concentration in a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bases redu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rectly by accepting hydrogen 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bases reduc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rectly by dissociating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mbines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ctr">
              <a:lnSpc>
                <a:spcPct val="8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OH -&gt; 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+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-&gt;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lutions with mo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e basic sol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75960" y="75960"/>
            <a:ext cx="87627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rganisms are sensitive to changes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467480" y="655308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7C48-DAB8-4B44-8869-65E1FA8E16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5960" y="825120"/>
            <a:ext cx="4724280" cy="46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neutral solution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H =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for p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he pH scale is based on [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 values for [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can be easily calculated from the product relationshi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have pH values less than 7 an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as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lutions have pH values more than 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biological fluids have pH values in the rang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 to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mall change in pH actually indicates a change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0" t="0" r="0" b="5575"/>
          <a:stretch/>
        </p:blipFill>
        <p:spPr>
          <a:xfrm>
            <a:off x="4700520" y="0"/>
            <a:ext cx="44434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152280" y="640080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3.9, Page 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B16-8CBE-48E7-85A1-5BA1636141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458200" cy="318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maintain cellular pH values at a constant level, biological fluids have buff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ffer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sist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ـُوازن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 to the pH of a solution when 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r OH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is added to the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uffers accept hydrogen ions from the solution when they are in excess and donate hydrogen ions when they have been deplete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e important buffer in human blood and other biological solutions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rbonic acid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11059" r="0" b="17793"/>
          <a:stretch/>
        </p:blipFill>
        <p:spPr>
          <a:xfrm>
            <a:off x="0" y="3730680"/>
            <a:ext cx="822960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B5C3-9CEC-4766-9779-4078EE06F8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69770"/>
          <a:stretch/>
        </p:blipFill>
        <p:spPr>
          <a:xfrm>
            <a:off x="3733920" y="1866960"/>
            <a:ext cx="5410080" cy="2023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328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som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ompounds that have the same molecular formula but different structures, and therefore, different chemical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but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isobuta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have the same molecular formula C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ut butane has a straight skeleton and isobutane has a branched skele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ructural isom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The two butanes are,                                                                                 molecules with the same                                                                           molecular formula but differ                                                                                  in the covalent arrangement                                                                              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7320" y="655308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4.6a, Page 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85800" y="3962520"/>
            <a:ext cx="3124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- Geometric isom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ompounds with the same covalent partnerships that differ in their arrangement around a carbon-carbon double b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2"/>
          <a:srcRect l="0" t="30236" r="0" b="48838"/>
          <a:stretch/>
        </p:blipFill>
        <p:spPr>
          <a:xfrm>
            <a:off x="3770280" y="4267080"/>
            <a:ext cx="529740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2-19T19:18:27Z</dcterms:modified>
  <cp:revision>419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