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7B86-2A36-429B-8506-8B978722CF9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0306-FFDA-4109-9AE7-A5DC8384C8A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D506-652A-49F7-A9A8-C209356B1F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AFD9-0483-424A-A440-1E78042DF64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36DE-ABB5-425E-816A-E58336919C5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CEDC-28CB-4153-9CE6-051E40CA8C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DDDF-FF4C-40CD-A30F-8FD65379A0A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A7B8-5230-42CF-A29D-BE6425105A9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4ABC-48B5-474A-AF39-5C58B067368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DA17-6FF9-4DE1-BDE7-7B92D0A57D3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81E7-C03B-4979-99FD-BE23F166020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9588-17F0-48E3-9BCC-ED064B7C43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FF77-2882-4DEB-B0C1-E1D0EEB8D4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2C56-50FC-4B0A-8A09-B62BD1B1049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0D9B-1FBC-4936-90A2-AB99BA2EAE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9C56-6B3C-4579-A429-86E6BF4E06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29CF-2938-468B-AE9B-BFC643CAB67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EEC5-EEAE-4BF7-8F42-498E277498B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B627-390F-436F-88A9-BC24121FC58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508-B565-4F86-979E-208787CB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544-0D91-41C9-8D1F-F2DA7EEE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177-E4EF-4E84-B95C-1566B422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256-A46E-42A3-958F-B63A5F72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C99-A8A7-4A2D-AEF5-1C3E1D1F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6C0-F169-4DF4-9F18-E48051F7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9C7-ACE6-4421-8BC8-3A837F9C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B6D-2A9E-4427-B063-87A69A69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CC1-29BC-4F4E-B277-EEC0A208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5A4-A00C-4DA9-A966-A2F619A0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648-4395-424D-8963-BB6C8ECF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D7B-A398-4843-AD3D-7A218743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66B5-D55C-4E78-B168-B558034549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C15E-5D22-479A-928F-EDBFBE2911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7926480" y="0"/>
            <a:ext cx="114120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025"/>
          <p:cNvPicPr/>
          <p:nvPr/>
        </p:nvPicPr>
        <p:blipFill>
          <a:blip r:embed="rId4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3" name="Line 10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"/>
          <p:cNvPicPr/>
          <p:nvPr/>
        </p:nvPicPr>
        <p:blipFill>
          <a:blip r:embed="rId5">
            <a:lum contrast="6000"/>
          </a:blip>
          <a:srcRect l="17187" t="10961" r="18751" b="13563"/>
          <a:stretch/>
        </p:blipFill>
        <p:spPr>
          <a:xfrm>
            <a:off x="1143000" y="1752480"/>
            <a:ext cx="2514600" cy="192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2367000" y="852480"/>
            <a:ext cx="51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Cell Molecules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ontinuo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66E0-5BB5-4174-8B8D-E9E03F6BEA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920" y="659880"/>
            <a:ext cx="8534160" cy="440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- Enantio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molecules that are mirror images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ntiomers are possible if there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oms or groups of atoms bonded to a carb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lik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handed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-han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one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ly activ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inac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51093" r="13692" b="4724"/>
          <a:stretch/>
        </p:blipFill>
        <p:spPr>
          <a:xfrm>
            <a:off x="3581280" y="2413080"/>
            <a:ext cx="5334120" cy="3378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303120" y="632448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g. 4.6c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1771-C229-4A64-9DDB-8898AE9C48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rcRect l="0" t="0" r="0" b="5320"/>
          <a:stretch/>
        </p:blipFill>
        <p:spPr>
          <a:xfrm>
            <a:off x="457200" y="3733920"/>
            <a:ext cx="7924680" cy="2795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763120" cy="25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nctional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the components of organic molecules that are most commonly involved in chemical reactions, and give each molecule its unique prope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unctional groups are attachments that replace one or more hydrogen atoms to the carbon skeleton of the hydrocarb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, the basic structure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est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male hormone)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stradi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emale hormone) is iden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Functional groups contribute to the molecular diversit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134080" y="6400800"/>
            <a:ext cx="81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age 5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0044-FEC7-4BD0-89CD-536A1C0B70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1920" y="1447920"/>
            <a:ext cx="8458200" cy="32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six functional groups that are most important to the chemistry of lif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ydroxyl, carbonyl, carboxyl, amino, sulfhydryl, and phosph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are hydrophilic and increase solubility of organic compounds in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52640" y="6400800"/>
            <a:ext cx="81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age 5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2E36-9C70-401D-964C-8E6E10026F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560" y="709200"/>
            <a:ext cx="8381880" cy="21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- Hydroxyl group (-OH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hydrogen atom forms a covalent bond with an oxygen which forms a covalent bond to the carbon skele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rganic compounds with hydroxyl groups are alcohols and their names typically end in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-ol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09480" y="3087720"/>
            <a:ext cx="8229600" cy="20937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457200" y="64771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55BA-E623-4BAF-B25D-C2C5235EDE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2- Carbonyl group (=C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s of an oxygen atom joined to the carbon skeleton by a double b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the carbonyl group is on the end of the skeleton, the compound is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delhyd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not, then the compound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et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28600" y="2892600"/>
            <a:ext cx="8686800" cy="3355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457200" y="64771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EC15-9110-4449-AAE1-A0E60C1266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563040"/>
            <a:ext cx="86104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3- carboxyl group (-COOH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carbon atom with a double bond with an oxygen atom and a single bond to a hydroxyl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carboxyl group acts as it releases hydrogen as an ion (H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04920" y="2816280"/>
            <a:ext cx="8610480" cy="2670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457200" y="64771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5626-A710-49E6-9F15-02E67DB67C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4- Amino group (-NH</a:t>
            </a:r>
            <a:r>
              <a:rPr b="1" lang="en-US" sz="3200" spc="-1" strike="noStrike" u="sng" baseline="-25000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nitrogen atom attached to two hydrogen atoms and the carbon skele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rganic compounds with amino groups a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min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amino group acts as a base because ammonia can pick up a hydrogen ion (H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 from the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mino acids, the building blocks of proteins, have amino and carboxy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3260880"/>
            <a:ext cx="9144000" cy="29113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457200" y="64771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D75C-47E4-4B32-8B3C-CB8607E538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1920" y="888480"/>
            <a:ext cx="8915400" cy="21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5- Sulfhydryl group (-SH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ulfur atom bonded to a hydrogen atom and to the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is group resembles a hydroxyl group in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rganic molecules with sulfhydryl groups a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ol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lfhydryl groups help stabilize the structure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3403440"/>
            <a:ext cx="9144000" cy="20829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457200" y="64771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CEB7-535F-4936-8071-46E1477808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315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6- Phosphate group (-OPO</a:t>
            </a:r>
            <a:r>
              <a:rPr b="1" lang="en-US" sz="3200" spc="-1" strike="noStrike" u="sng" baseline="-25000">
                <a:solidFill>
                  <a:srgbClr val="ff0000"/>
                </a:solidFill>
                <a:uFillTx/>
                <a:latin typeface="Arial"/>
              </a:rPr>
              <a:t>3</a:t>
            </a:r>
            <a:r>
              <a:rPr b="1" lang="en-US" sz="3200" spc="-1" strike="noStrike" u="sng" baseline="30000">
                <a:solidFill>
                  <a:srgbClr val="ff0000"/>
                </a:solidFill>
                <a:uFillTx/>
                <a:latin typeface="Arial"/>
              </a:rPr>
              <a:t>2-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s of phosphorus bound to four oxygen atoms (three with single bonds and one with a double bo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 phosphate group connects to the carbon backbone via one of its oxygen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hosphate groups are anions with two negative charges as two protons have dissociated from the oxygen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ne function of phosphate groups is to transfer energy between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3838680"/>
            <a:ext cx="9144000" cy="2104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457200" y="64771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08A9-2674-4214-8C18-4B9B6B42FD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" y="725400"/>
            <a:ext cx="81532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has a variety of unusual properties because of attractions between its polar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lightly negative regions of one molecule are attracted to the slightly positive regions of nearby molecules, form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ydrogen bo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water molecul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form hyd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nds with up to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our neighb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8320" y="3273480"/>
            <a:ext cx="4343400" cy="3294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52280" y="638496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1, Page 4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0DA0-6B5D-4962-8659-31538764F2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990720"/>
            <a:ext cx="914400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solution </a:t>
            </a:r>
            <a:r>
              <a:rPr b="1" lang="ar-EG" sz="2800" spc="-1" strike="noStrike" u="sng">
                <a:solidFill>
                  <a:srgbClr val="ff0000"/>
                </a:solidFill>
                <a:uFillTx/>
                <a:latin typeface="Arial"/>
              </a:rPr>
              <a:t>المحلول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liquid that is a completely homogeneous mixtu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of two or more sub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 sugar cube in a glass of water will eventually dissolve to form a uniform mixture of sugar and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solvent </a:t>
            </a:r>
            <a:r>
              <a:rPr b="0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المـذيب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dissolving ag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solute </a:t>
            </a:r>
            <a:r>
              <a:rPr b="0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المذاب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substance that is dis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n the above  example,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ater is the solvent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ugar is the solut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aqueous solution </a:t>
            </a:r>
            <a:r>
              <a:rPr b="0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المحلول المائى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solution in which water is the solv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860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Water is the solvent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87B5-35C6-4912-BFAC-169175F655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0" b="3717"/>
          <a:stretch/>
        </p:blipFill>
        <p:spPr>
          <a:xfrm>
            <a:off x="3200400" y="1141560"/>
            <a:ext cx="5943600" cy="5487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58200" cy="131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is an effective solvent because it forms hydrogen bonds wit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rg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ola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val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lecul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632448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7, Page 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80880" y="1752480"/>
            <a:ext cx="342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 exampl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hen a crystal of salt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aC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is plac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wa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a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m hydrogen bonds with partial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egative oxy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regions of water molecules. While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l- an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gen bonds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artial positive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ydrogen reg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ter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E9A6-5B0D-4195-818C-F4A29AA3A1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560" y="749160"/>
            <a:ext cx="8458200" cy="49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ny substance that has an affinity for water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stances that have no affinity for water are. These substances are dominated by non-ionic and nonpolar covalent b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re are no consistent regions with partial or full charges, water molecules cannot form hydrogen bonds with these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ydrophobic molecules are major ingredients of cell membr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94DF-4EE2-4DFF-897E-F444A8BDD2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89154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e ac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 substance t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centration in a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hydrochloric acid is added to water, hydrogen ions dissociate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فص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hloride 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Cl -&gt;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Cl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ddition of an acid makes a solution more acid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e b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ny substance t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du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hydrogen ion concentration in a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bases reduc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rectly by accepting hydrogen 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bases reduc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rectly by dissociating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combines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OH -&gt; N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+ 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+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-&gt; 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lutions with mo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basic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rganisms are sensitive to changes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46748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6495-464D-415D-AC01-A6EAD9EBF2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5960" y="825120"/>
            <a:ext cx="4724280" cy="467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neutral solution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H =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for p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[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he pH scale is based on [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, values for [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can be easily calculated from the product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id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lutions have pH values less than 7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a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lutions have pH values more than 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iological fluids have pH values in the rang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 to 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all change in pH actually indicates a change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rcRect l="0" t="0" r="0" b="5575"/>
          <a:stretch/>
        </p:blipFill>
        <p:spPr>
          <a:xfrm>
            <a:off x="4700520" y="0"/>
            <a:ext cx="44434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152280" y="640080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9, Page 4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8378-D316-448F-B8EE-0275F9BE67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58200" cy="318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maintain cellular pH values at a constant level, biological fluids have buff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ffer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sist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ـُوازن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nges  to the pH of a solution when H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r OH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s added to the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ffers accept hydrogen ions from the solution when they are in excess and donate hydrogen ions when they have been deplete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important buffer in human blood and other biological solutions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rbonic ac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0" t="11059" r="0" b="17793"/>
          <a:stretch/>
        </p:blipFill>
        <p:spPr>
          <a:xfrm>
            <a:off x="0" y="3730680"/>
            <a:ext cx="8229600" cy="2822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ED91-FB53-44F4-8353-B829ECF519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69770"/>
          <a:stretch/>
        </p:blipFill>
        <p:spPr>
          <a:xfrm>
            <a:off x="3733920" y="1866960"/>
            <a:ext cx="5410080" cy="2023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328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som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ompounds that have the same molecular formula but different structures, and therefore, different chemical prope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buta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sobuta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molecular formula C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butane has a straight skeleton and isobutane has a branched skele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uctural is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The two butanes are,                                                                                 molecules with the same                                                                           molecular formula but differ                                                                                  in the covalent arrangement                                                                              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7320" y="655308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4.6a, Page 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85800" y="3962520"/>
            <a:ext cx="3124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2- Geometric isom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ompounds with the same covalent partnerships that differ in their arrangement around a carbon-carbon double b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2"/>
          <a:srcRect l="0" t="30236" r="0" b="48838"/>
          <a:stretch/>
        </p:blipFill>
        <p:spPr>
          <a:xfrm>
            <a:off x="3770280" y="4267080"/>
            <a:ext cx="529740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Ahmed</cp:lastModifiedBy>
  <dcterms:modified xsi:type="dcterms:W3CDTF">2009-02-19T19:18:27Z</dcterms:modified>
  <cp:revision>419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