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98F0-5970-4C7D-9FB2-4E9E0B2E147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E168-997A-4AA6-9997-874E08358D8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9117-33A6-44CB-8C13-30113032A99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2810-5F28-48A7-8C88-1C0F7CE61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7CDB-19F2-4AA6-80B0-4FDDC83C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2488-9B59-4738-A9E6-9D4AFEE55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52B9-E7E1-4AC0-9F70-902032EA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26A5-6544-44BF-AA4A-34E6824F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FC85-1110-4317-A003-D7BE995C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3510-BB06-4A5C-A577-39A1AC11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889D-C3D3-42FF-A38A-CC57FE60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0697-4A53-42FA-A881-22F437B9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3EE2-C94D-4DBF-A1CD-CE4B880F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5E18-2F97-474D-AE15-34ECCB08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5D76-6029-4DEB-9FED-A9429768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11A0-1A71-42CE-BF9F-2CBF6FEBC8E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3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666880" y="685800"/>
            <a:ext cx="3962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pperplate Gothic Bold"/>
              </a:rPr>
              <a:t>B- Eukaryotic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002440" y="0"/>
            <a:ext cx="1141560" cy="144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025"/>
          <p:cNvPicPr/>
          <p:nvPr/>
        </p:nvPicPr>
        <p:blipFill>
          <a:blip r:embed="rId2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52" name="Line 9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"/>
          <p:cNvPicPr/>
          <p:nvPr/>
        </p:nvPicPr>
        <p:blipFill>
          <a:blip r:embed="rId3"/>
          <a:stretch/>
        </p:blipFill>
        <p:spPr>
          <a:xfrm>
            <a:off x="0" y="1371600"/>
            <a:ext cx="4836960" cy="548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"/>
          <p:cNvPicPr/>
          <p:nvPr/>
        </p:nvPicPr>
        <p:blipFill>
          <a:blip r:embed="rId4"/>
          <a:srcRect l="0" t="0" r="0" b="3080"/>
          <a:stretch/>
        </p:blipFill>
        <p:spPr>
          <a:xfrm>
            <a:off x="4800600" y="1371600"/>
            <a:ext cx="4343400" cy="5486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5"/>
          <a:srcRect l="18593" t="8074" r="4053" b="0"/>
          <a:stretch/>
        </p:blipFill>
        <p:spPr>
          <a:xfrm>
            <a:off x="46080" y="19080"/>
            <a:ext cx="124920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554120"/>
            <a:ext cx="91440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most of the genes in an eukaryotic cell as it is the 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ository for genetic materi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is separated from the cytoplasm by a double membran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nuclear envelo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directs activities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allow large macromolecules and particles to pass throu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ar membrane is maintaining the shape of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295280" y="1522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 The nucleus: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tains the cell’s genetic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2A18-EDC2-46DB-9757-351BE7B11A4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rcRect l="3497" t="0" r="0" b="9000"/>
          <a:stretch/>
        </p:blipFill>
        <p:spPr>
          <a:xfrm>
            <a:off x="4876920" y="0"/>
            <a:ext cx="419076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5_10a"/>
          <p:cNvPicPr/>
          <p:nvPr/>
        </p:nvPicPr>
        <p:blipFill>
          <a:blip r:embed="rId2"/>
          <a:srcRect l="0" t="11669" r="0" b="16669"/>
          <a:stretch/>
        </p:blipFill>
        <p:spPr>
          <a:xfrm>
            <a:off x="12600" y="990720"/>
            <a:ext cx="486432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62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atin fiber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is made up of DNA  and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cell prepares to divide, the chromatin fibers coil up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 condens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be seen a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eukaryotic species has a characteristic number of chrom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ypical human cell has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46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sex cells 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ame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ggs and sperm) have only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3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directs protein synthesis by synthesizing messenger RNA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RNA travels to the cytoplasm and combines with ribosomes to translate its genetic message into the primary structure of a specific prot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dark region involved in production of rib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-protein complex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osed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wo subun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arge and small) that join and attach to messenger RN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arry out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, it is the site of protein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 assembly begin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s completed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05_19"/>
          <p:cNvPicPr/>
          <p:nvPr/>
        </p:nvPicPr>
        <p:blipFill>
          <a:blip r:embed="rId1"/>
          <a:srcRect l="0" t="11669" r="0" b="15000"/>
          <a:stretch/>
        </p:blipFill>
        <p:spPr>
          <a:xfrm>
            <a:off x="1066680" y="3862440"/>
            <a:ext cx="6629400" cy="29955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Ribosomes:  build the cell’s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2280" y="31320"/>
            <a:ext cx="8839440" cy="71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ribosomal RNA (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s synthesized and assembled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the cytoplasm to for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ibosomal subun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units passout through the nuclear pores to the cytoplasm where they combine to form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s that synthesize large quantities of proteins (e.g., pancreas) have large numbers of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ypes of Ribosom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ee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suspended in the cytosol and synthesize proteins that functi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thin the cytoso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und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attached to the outside of the endoplasmic reticul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se synthesize proteins that are either included into membranes or for secretion outside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66104" t="40612" r="2541" b="8186"/>
          <a:stretch/>
        </p:blipFill>
        <p:spPr>
          <a:xfrm>
            <a:off x="5943600" y="2286000"/>
            <a:ext cx="281952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5"/>
          <p:cNvGrpSpPr/>
          <p:nvPr/>
        </p:nvGrpSpPr>
        <p:grpSpPr>
          <a:xfrm>
            <a:off x="3429000" y="1600200"/>
            <a:ext cx="2514600" cy="1066680"/>
            <a:chOff x="3429000" y="1600200"/>
            <a:chExt cx="2514600" cy="1066680"/>
          </a:xfrm>
        </p:grpSpPr>
        <p:sp>
          <p:nvSpPr>
            <p:cNvPr id="57" name="Oval 11"/>
            <p:cNvSpPr/>
            <p:nvPr/>
          </p:nvSpPr>
          <p:spPr>
            <a:xfrm>
              <a:off x="3429000" y="1600200"/>
              <a:ext cx="251460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2"/>
            <p:cNvSpPr/>
            <p:nvPr/>
          </p:nvSpPr>
          <p:spPr>
            <a:xfrm>
              <a:off x="3581280" y="1676520"/>
              <a:ext cx="2210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Eu = 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Karyon = Nucle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3"/>
          <p:cNvSpPr/>
          <p:nvPr/>
        </p:nvSpPr>
        <p:spPr>
          <a:xfrm>
            <a:off x="2209680" y="22860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B- The Eu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523880" y="4221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Animal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715000" y="41450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2743200" y="2743200"/>
            <a:ext cx="3962520" cy="1401120"/>
            <a:chOff x="2743200" y="2743200"/>
            <a:chExt cx="3962520" cy="1401120"/>
          </a:xfrm>
        </p:grpSpPr>
        <p:sp>
          <p:nvSpPr>
            <p:cNvPr id="63" name="Line 7"/>
            <p:cNvSpPr/>
            <p:nvPr/>
          </p:nvSpPr>
          <p:spPr>
            <a:xfrm>
              <a:off x="4648320" y="2743200"/>
              <a:ext cx="0" cy="80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8"/>
            <p:cNvSpPr/>
            <p:nvPr/>
          </p:nvSpPr>
          <p:spPr>
            <a:xfrm>
              <a:off x="2743200" y="3543840"/>
              <a:ext cx="396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9"/>
            <p:cNvSpPr/>
            <p:nvPr/>
          </p:nvSpPr>
          <p:spPr>
            <a:xfrm flipH="1">
              <a:off x="2743200" y="3543840"/>
              <a:ext cx="1296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0"/>
            <p:cNvSpPr/>
            <p:nvPr/>
          </p:nvSpPr>
          <p:spPr>
            <a:xfrm flipH="1">
              <a:off x="6692760" y="3543840"/>
              <a:ext cx="1260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13"/>
          <p:cNvSpPr/>
          <p:nvPr/>
        </p:nvSpPr>
        <p:spPr>
          <a:xfrm>
            <a:off x="76320" y="56386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Compare  Animal and 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228600" y="6019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What are the functions of cell organelles </a:t>
            </a:r>
            <a:r>
              <a:rPr b="1" lang="en-GB" sz="3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Eukaryotic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ell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FG02_04"/>
          <p:cNvPicPr/>
          <p:nvPr/>
        </p:nvPicPr>
        <p:blipFill>
          <a:blip r:embed="rId1"/>
          <a:stretch/>
        </p:blipFill>
        <p:spPr>
          <a:xfrm>
            <a:off x="533520" y="1320840"/>
            <a:ext cx="7619760" cy="5079960"/>
          </a:xfrm>
          <a:prstGeom prst="rect">
            <a:avLst/>
          </a:prstGeom>
          <a:ln w="0">
            <a:noFill/>
          </a:ln>
        </p:spPr>
      </p:pic>
      <p:sp>
        <p:nvSpPr>
          <p:cNvPr id="7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914400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ukaryotic cell has internal membranes, which partition the cell into compart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membranes als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ticipate in metabolis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many enzymes are built into membra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eneral structure of a biological membrane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uble lay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phospholipids and diverse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type of membrane has a unique combination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its specific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or example, those in the membranes of mitochondria function in cellula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838080" y="2282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troduction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rnal membranes compartmentalize the eukaryotic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D029-E783-42FA-97E7-CEED819B6B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ounded Rectangle 1"/>
          <p:cNvSpPr/>
          <p:nvPr/>
        </p:nvSpPr>
        <p:spPr>
          <a:xfrm>
            <a:off x="5791320" y="6126120"/>
            <a:ext cx="2666880" cy="655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rcRect l="0" t="0" r="0" b="4658"/>
          <a:stretch/>
        </p:blipFill>
        <p:spPr>
          <a:xfrm>
            <a:off x="152280" y="228600"/>
            <a:ext cx="8915400" cy="603108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10"/>
          <p:cNvGrpSpPr/>
          <p:nvPr/>
        </p:nvGrpSpPr>
        <p:grpSpPr>
          <a:xfrm>
            <a:off x="2438280" y="2413080"/>
            <a:ext cx="4686480" cy="3504960"/>
            <a:chOff x="2438280" y="2413080"/>
            <a:chExt cx="4686480" cy="3504960"/>
          </a:xfrm>
        </p:grpSpPr>
        <p:sp>
          <p:nvSpPr>
            <p:cNvPr id="85" name="Rectangle 6"/>
            <p:cNvSpPr/>
            <p:nvPr/>
          </p:nvSpPr>
          <p:spPr>
            <a:xfrm>
              <a:off x="4267080" y="56134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7"/>
            <p:cNvSpPr/>
            <p:nvPr/>
          </p:nvSpPr>
          <p:spPr>
            <a:xfrm>
              <a:off x="5918040" y="5003640"/>
              <a:ext cx="11430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"/>
            <p:cNvSpPr/>
            <p:nvPr/>
          </p:nvSpPr>
          <p:spPr>
            <a:xfrm>
              <a:off x="5676840" y="24130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9"/>
            <p:cNvSpPr/>
            <p:nvPr/>
          </p:nvSpPr>
          <p:spPr>
            <a:xfrm>
              <a:off x="2438280" y="5257800"/>
              <a:ext cx="9144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ounded Rectangle 7"/>
          <p:cNvSpPr/>
          <p:nvPr/>
        </p:nvSpPr>
        <p:spPr>
          <a:xfrm>
            <a:off x="6289560" y="5410080"/>
            <a:ext cx="2667240" cy="849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ant &amp; Animal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370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imila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are eukaryotic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contain similar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are surrounded by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ant &amp; Animal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lant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 wall – provides strength &amp; rigidity and is not found in animal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chloroplasts that is photosynthetic and are not found in animal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imal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elle lysosomes, centriols and flagella are not found in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ioles have important role in cell div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16761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Impact"/>
              </a:rPr>
              <a:t>The Cell Organel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HP</cp:lastModifiedBy>
  <dcterms:modified xsi:type="dcterms:W3CDTF">2014-01-07T15:42:44Z</dcterms:modified>
  <cp:revision>289</cp:revision>
  <dc:subject/>
  <dc:title>The Cell Organel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22D614AE-CDD3-489C-87D2-3106EC884FA3</vt:lpwstr>
  </property>
  <property fmtid="{D5CDD505-2E9C-101B-9397-08002B2CF9AE}" pid="3" name="ArticulatePath">
    <vt:lpwstr>Lecture 6</vt:lpwstr>
  </property>
</Properties>
</file>