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0D64-6254-4A66-8FE9-E8C1643C39C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6BDC-F20B-49E1-BB6E-7359CE21CA1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B3DC-DBCC-4778-B6F4-A1E7A5E5328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200A-572E-49CD-AE4C-19CA55A4A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E340-DB91-4424-9AA9-C50AFFED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A4E6-A0FE-4A7A-B981-5EBEFB18E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F074-4262-433B-BD61-24CA41B5B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0BC5-885C-40EB-BBBA-5C9B3A90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E6B1-BA5E-455F-BE69-CB88A7A8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FF76-B0AB-47A0-B8D4-C5540551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2C5B-0FFE-49F2-B2C7-AEA722D8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D97A-A7E0-42F4-AF46-7E4CA5BA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8F24-045C-4DDF-802E-76479B63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D931-2347-48B8-994A-F34C80BC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D9D7-5DDA-4D26-BEE1-0203506F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C0AF-1B35-4E4B-8659-905DAAD305B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66ff3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666880" y="685800"/>
            <a:ext cx="3962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pperplate Gothic Bold"/>
              </a:rPr>
              <a:t>B- Eukaryotic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002440" y="0"/>
            <a:ext cx="1141560" cy="1447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025"/>
          <p:cNvPicPr/>
          <p:nvPr/>
        </p:nvPicPr>
        <p:blipFill>
          <a:blip r:embed="rId2"/>
          <a:stretch/>
        </p:blipFill>
        <p:spPr>
          <a:xfrm>
            <a:off x="3581280" y="76320"/>
            <a:ext cx="1981440" cy="676080"/>
          </a:xfrm>
          <a:prstGeom prst="rect">
            <a:avLst/>
          </a:prstGeom>
          <a:ln w="0">
            <a:noFill/>
          </a:ln>
        </p:spPr>
      </p:pic>
      <p:sp>
        <p:nvSpPr>
          <p:cNvPr id="52" name="Line 9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"/>
          <p:cNvPicPr/>
          <p:nvPr/>
        </p:nvPicPr>
        <p:blipFill>
          <a:blip r:embed="rId3"/>
          <a:stretch/>
        </p:blipFill>
        <p:spPr>
          <a:xfrm>
            <a:off x="0" y="1371600"/>
            <a:ext cx="4836960" cy="5486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"/>
          <p:cNvPicPr/>
          <p:nvPr/>
        </p:nvPicPr>
        <p:blipFill>
          <a:blip r:embed="rId4"/>
          <a:srcRect l="0" t="0" r="0" b="3080"/>
          <a:stretch/>
        </p:blipFill>
        <p:spPr>
          <a:xfrm>
            <a:off x="4800600" y="1371600"/>
            <a:ext cx="4343400" cy="5486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5"/>
          <a:srcRect l="18593" t="8074" r="4053" b="0"/>
          <a:stretch/>
        </p:blipFill>
        <p:spPr>
          <a:xfrm>
            <a:off x="46080" y="19080"/>
            <a:ext cx="124920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554120"/>
            <a:ext cx="914400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contains most of the genes in an eukaryotic cell as it is the 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ository for genetic materi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is separated from the cytoplasm by a double membran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nuclear envelo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directs activities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allow large macromolecules and particles to pass throug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ar membrane is maintaining the shape of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295280" y="1522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 The nucleus: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ntains the cell’s genetic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E34B-5148-42D5-A8D0-7F32173A844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rcRect l="3497" t="0" r="0" b="9000"/>
          <a:stretch/>
        </p:blipFill>
        <p:spPr>
          <a:xfrm>
            <a:off x="4876920" y="0"/>
            <a:ext cx="419076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5_10a"/>
          <p:cNvPicPr/>
          <p:nvPr/>
        </p:nvPicPr>
        <p:blipFill>
          <a:blip r:embed="rId2"/>
          <a:srcRect l="0" t="11669" r="0" b="16669"/>
          <a:stretch/>
        </p:blipFill>
        <p:spPr>
          <a:xfrm>
            <a:off x="12600" y="990720"/>
            <a:ext cx="486432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62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contai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hromatin fiber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ich is made up of DNA  and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cell prepares to divide, the chromatin fibers coil up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 condens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be seen a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hromosomes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eukaryotic species has a characteristic number of chrom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ypical human cell has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46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sex cells 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ame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ggs and sperm) have only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3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directs protein synthesis by synthesizing messenger RNA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RNA travels to the cytoplasm and combines with ribosomes to translate its genetic message into the primary structure of a specific prote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 dark region involved in production of rib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-protein complex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osed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wo subuni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large and small) that join and attach to messenger RN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arry out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, it is the site of protein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 assembly begins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is completed in the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05_19"/>
          <p:cNvPicPr/>
          <p:nvPr/>
        </p:nvPicPr>
        <p:blipFill>
          <a:blip r:embed="rId1"/>
          <a:srcRect l="0" t="11669" r="0" b="15000"/>
          <a:stretch/>
        </p:blipFill>
        <p:spPr>
          <a:xfrm>
            <a:off x="1066680" y="3862440"/>
            <a:ext cx="6629400" cy="29955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 Ribosomes:  build the cell’s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2280" y="31320"/>
            <a:ext cx="8839440" cy="71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ribosomal RNA (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is synthesized and assembled 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the cytoplasm to for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ibosomal subuni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units passout through the nuclear pores to the cytoplasm where they combine to form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s that synthesize large quantities of proteins (e.g., pancreas) have large numbers of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ypes of Ribosom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ree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suspended in the cytosol and synthesize proteins that functi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ithin the cytoso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und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attached to the outside of the endoplasmic reticul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se synthesize proteins that are either included into membranes or for secretion outside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66104" t="40612" r="2541" b="8186"/>
          <a:stretch/>
        </p:blipFill>
        <p:spPr>
          <a:xfrm>
            <a:off x="5943600" y="2286000"/>
            <a:ext cx="281952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15"/>
          <p:cNvGrpSpPr/>
          <p:nvPr/>
        </p:nvGrpSpPr>
        <p:grpSpPr>
          <a:xfrm>
            <a:off x="3429000" y="1600200"/>
            <a:ext cx="2514600" cy="1066680"/>
            <a:chOff x="3429000" y="1600200"/>
            <a:chExt cx="2514600" cy="1066680"/>
          </a:xfrm>
        </p:grpSpPr>
        <p:sp>
          <p:nvSpPr>
            <p:cNvPr id="57" name="Oval 11"/>
            <p:cNvSpPr/>
            <p:nvPr/>
          </p:nvSpPr>
          <p:spPr>
            <a:xfrm>
              <a:off x="3429000" y="1600200"/>
              <a:ext cx="2514600" cy="10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2"/>
            <p:cNvSpPr/>
            <p:nvPr/>
          </p:nvSpPr>
          <p:spPr>
            <a:xfrm>
              <a:off x="3581280" y="1676520"/>
              <a:ext cx="22100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Eu = 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Karyon = Nucle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3"/>
          <p:cNvSpPr/>
          <p:nvPr/>
        </p:nvSpPr>
        <p:spPr>
          <a:xfrm>
            <a:off x="2209680" y="22860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Arial"/>
              </a:rPr>
              <a:t>B- The Eu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523880" y="4221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Animal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5715000" y="414504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6"/>
          <p:cNvGrpSpPr/>
          <p:nvPr/>
        </p:nvGrpSpPr>
        <p:grpSpPr>
          <a:xfrm>
            <a:off x="2743200" y="2743200"/>
            <a:ext cx="3962520" cy="1401120"/>
            <a:chOff x="2743200" y="2743200"/>
            <a:chExt cx="3962520" cy="1401120"/>
          </a:xfrm>
        </p:grpSpPr>
        <p:sp>
          <p:nvSpPr>
            <p:cNvPr id="63" name="Line 7"/>
            <p:cNvSpPr/>
            <p:nvPr/>
          </p:nvSpPr>
          <p:spPr>
            <a:xfrm>
              <a:off x="4648320" y="2743200"/>
              <a:ext cx="0" cy="80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8"/>
            <p:cNvSpPr/>
            <p:nvPr/>
          </p:nvSpPr>
          <p:spPr>
            <a:xfrm>
              <a:off x="2743200" y="3543840"/>
              <a:ext cx="396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9"/>
            <p:cNvSpPr/>
            <p:nvPr/>
          </p:nvSpPr>
          <p:spPr>
            <a:xfrm flipH="1">
              <a:off x="2743200" y="3543840"/>
              <a:ext cx="1296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0"/>
            <p:cNvSpPr/>
            <p:nvPr/>
          </p:nvSpPr>
          <p:spPr>
            <a:xfrm flipH="1">
              <a:off x="6692760" y="3543840"/>
              <a:ext cx="1260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13"/>
          <p:cNvSpPr/>
          <p:nvPr/>
        </p:nvSpPr>
        <p:spPr>
          <a:xfrm>
            <a:off x="76320" y="56386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</a:rPr>
              <a:t>Compare  Animal and 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228600" y="6019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</a:rPr>
              <a:t>What are the functions of cell organelles </a:t>
            </a:r>
            <a:r>
              <a:rPr b="1" lang="en-GB" sz="3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Eukaryotic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ell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FG02_04"/>
          <p:cNvPicPr/>
          <p:nvPr/>
        </p:nvPicPr>
        <p:blipFill>
          <a:blip r:embed="rId1"/>
          <a:stretch/>
        </p:blipFill>
        <p:spPr>
          <a:xfrm>
            <a:off x="533520" y="1320840"/>
            <a:ext cx="7619760" cy="5079960"/>
          </a:xfrm>
          <a:prstGeom prst="rect">
            <a:avLst/>
          </a:prstGeom>
          <a:ln w="0">
            <a:noFill/>
          </a:ln>
        </p:spPr>
      </p:pic>
      <p:sp>
        <p:nvSpPr>
          <p:cNvPr id="7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1294920"/>
            <a:ext cx="9144000" cy="52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ukaryotic cell has internal membranes, which partition the cell into compart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membranes als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rticipate in metabolis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many enzymes are built into membra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eneral structure of a biological membrane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uble lay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phospholipids and diverse prote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type of membrane has a unique combination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p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its specific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or example, those in the membranes of mitochondria function in cellular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838080" y="2282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ntroduction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ernal membranes compartmentalize the eukaryotic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989A-B609-4EEC-AA76-DF371BBDF8E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ounded Rectangle 1"/>
          <p:cNvSpPr/>
          <p:nvPr/>
        </p:nvSpPr>
        <p:spPr>
          <a:xfrm>
            <a:off x="5791320" y="6126120"/>
            <a:ext cx="2666880" cy="655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rcRect l="0" t="0" r="0" b="4658"/>
          <a:stretch/>
        </p:blipFill>
        <p:spPr>
          <a:xfrm>
            <a:off x="152280" y="228600"/>
            <a:ext cx="8915400" cy="603108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10"/>
          <p:cNvGrpSpPr/>
          <p:nvPr/>
        </p:nvGrpSpPr>
        <p:grpSpPr>
          <a:xfrm>
            <a:off x="2438280" y="2413080"/>
            <a:ext cx="4686480" cy="3504960"/>
            <a:chOff x="2438280" y="2413080"/>
            <a:chExt cx="4686480" cy="3504960"/>
          </a:xfrm>
        </p:grpSpPr>
        <p:sp>
          <p:nvSpPr>
            <p:cNvPr id="85" name="Rectangle 6"/>
            <p:cNvSpPr/>
            <p:nvPr/>
          </p:nvSpPr>
          <p:spPr>
            <a:xfrm>
              <a:off x="4267080" y="5613480"/>
              <a:ext cx="144792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7"/>
            <p:cNvSpPr/>
            <p:nvPr/>
          </p:nvSpPr>
          <p:spPr>
            <a:xfrm>
              <a:off x="5918040" y="5003640"/>
              <a:ext cx="11430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8"/>
            <p:cNvSpPr/>
            <p:nvPr/>
          </p:nvSpPr>
          <p:spPr>
            <a:xfrm>
              <a:off x="5676840" y="2413080"/>
              <a:ext cx="144792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9"/>
            <p:cNvSpPr/>
            <p:nvPr/>
          </p:nvSpPr>
          <p:spPr>
            <a:xfrm>
              <a:off x="2438280" y="5257800"/>
              <a:ext cx="9144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ounded Rectangle 7"/>
          <p:cNvSpPr/>
          <p:nvPr/>
        </p:nvSpPr>
        <p:spPr>
          <a:xfrm>
            <a:off x="6289560" y="5410080"/>
            <a:ext cx="2667240" cy="849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lant &amp; Animal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370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imila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are eukaryotic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contain similar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are surrounded by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lant &amp; Animal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lants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 wall – provides strength &amp; rigidity and is not found in animal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chloroplasts that is photosynthetic and are not found in animal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imals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elle lysosomes, centriols and flagella are not found in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ioles have important role in cell div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16761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Impact"/>
              </a:rPr>
              <a:t>The Cell Organel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HP</cp:lastModifiedBy>
  <dcterms:modified xsi:type="dcterms:W3CDTF">2014-01-07T15:42:44Z</dcterms:modified>
  <cp:revision>289</cp:revision>
  <dc:subject/>
  <dc:title>The Cell Organel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22D614AE-CDD3-489C-87D2-3106EC884FA3</vt:lpwstr>
  </property>
  <property fmtid="{D5CDD505-2E9C-101B-9397-08002B2CF9AE}" pid="3" name="ArticulatePath">
    <vt:lpwstr>Lecture 6</vt:lpwstr>
  </property>
</Properties>
</file>