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7CD-5D6C-4CB8-8DBC-D98E4300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47F-3FFE-4CA8-AC3B-3B93A3AA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39F-AA1F-4CDB-AA91-CFA787F7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E84-8693-49CB-98FD-067141E0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430-24A1-45BF-807B-FC7894D7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B79-F8BC-4015-B461-5B06E29F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2B6-F653-4A75-A36F-5461A0D4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188-A4D5-422D-A824-886A371F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70A-AB2F-4352-81FF-9F8962A3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929-CA65-4C53-9273-68E86A3C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B2D-C3CA-4F7D-8956-88747C9A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281-BB73-4873-8761-81D903A4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B5DD-2121-4F64-8ECA-3AEA2D119AF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521320" cy="12049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طرق العيش في البكتيريا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of living in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560" y="1557360"/>
            <a:ext cx="83581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ان تصنف البكتيريا نظرا لمتطلبات الاكسجين إ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dering the oxygen demands of bacteria, it can be classified int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3071880"/>
            <a:ext cx="2714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erobes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y require free supply of oxy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2786040" y="3071880"/>
            <a:ext cx="3071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e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They grow in complete absence of oxy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6000840" y="3071880"/>
            <a:ext cx="3071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. Facultative ae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y can live either in presence or absence of oxyge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7"/>
          <p:cNvCxnSpPr/>
          <p:nvPr/>
        </p:nvCxnSpPr>
        <p:spPr>
          <a:xfrm flipH="1">
            <a:off x="1571400" y="2213640"/>
            <a:ext cx="26438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9"/>
          <p:cNvCxnSpPr/>
          <p:nvPr/>
        </p:nvCxnSpPr>
        <p:spPr>
          <a:xfrm>
            <a:off x="4214880" y="2214720"/>
            <a:ext cx="720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11"/>
          <p:cNvCxnSpPr/>
          <p:nvPr/>
        </p:nvCxnSpPr>
        <p:spPr>
          <a:xfrm>
            <a:off x="4214880" y="2214720"/>
            <a:ext cx="3286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" name="Subtitle 2"/>
          <p:cNvSpPr/>
          <p:nvPr/>
        </p:nvSpPr>
        <p:spPr>
          <a:xfrm>
            <a:off x="714240" y="3071880"/>
            <a:ext cx="128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و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3678120" y="3071880"/>
            <a:ext cx="1287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هو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6597720" y="3000240"/>
            <a:ext cx="1806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وائية إختي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 of living in Bacte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2640" y="3860280"/>
            <a:ext cx="8229600" cy="263700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we consider the mode of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nutr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acteria can be divided into two categori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utotrophic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y can build up complex organic substances such as carbohydrates from simple inorganic sources (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wate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eterotrophic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y cannot build up carbohydrates from simple inorganic sources. They depend on ready made organic materials derived from plants , animals of humans. They can live on such compounds , break it down , enzymatical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539640" y="1052640"/>
            <a:ext cx="8229600" cy="2592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مكن ان تصنف البكتيريا إلى قسمين من ناحية </a:t>
            </a:r>
            <a:r>
              <a:rPr b="0" lang="ar-SA" sz="1800" spc="-1" strike="noStrike">
                <a:solidFill>
                  <a:srgbClr val="92d050"/>
                </a:solidFill>
                <a:latin typeface="Calibri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: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ذاتية التغذية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utotro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بكتيريا التي تستطيع بناء مواد عضوية معقدة مثل الكربوهيدرات من مصادر غير عضوية بسيطة مثل الماء        وثاني اكسيد الكربو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غير ذاتي التغذية (متغاير التغذية)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eterotroph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ي البكتيريا التي لاتستيطيع بناء الكربوهيدارت من المصادر الغير عضوية البسيطة وهي تعتمد على اخذها من النبات  والحيوان والانسان ، وهي تستطيع العيش على مركبات معقدة وتكسيرها إلى جزيئات ابسط بواسطة أنزيمات معينة تساعدها في ذلك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بكتيريا ذاتية التغذية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: Autotrophic Bac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271476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be divided into two typ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: Photo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II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mo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Straight Arrow Connector 4"/>
          <p:cNvCxnSpPr/>
          <p:nvPr/>
        </p:nvCxnSpPr>
        <p:spPr>
          <a:xfrm flipH="1">
            <a:off x="2499840" y="3499200"/>
            <a:ext cx="16437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6"/>
          <p:cNvCxnSpPr/>
          <p:nvPr/>
        </p:nvCxnSpPr>
        <p:spPr>
          <a:xfrm>
            <a:off x="4143240" y="3499920"/>
            <a:ext cx="214416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Rectangle 1"/>
          <p:cNvSpPr/>
          <p:nvPr/>
        </p:nvSpPr>
        <p:spPr>
          <a:xfrm>
            <a:off x="641160" y="5027760"/>
            <a:ext cx="3248640" cy="4597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ذاتية التغذية الضوئ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83240" y="5027760"/>
            <a:ext cx="3417840" cy="4597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469960"/>
            <a:ext cx="8229600" cy="365580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lvl="1" marL="9716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hotoautotroph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contain in their cells a chlorophyll known as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bacterial chlorophyl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which they can perform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hotosynthe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Here, the energy used in building up processes is derived from light. As an example of such bacteria is the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green sulphur bacter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600" spc="-1" strike="noStrike">
                <a:solidFill>
                  <a:srgbClr val="7030a0"/>
                </a:solidFill>
                <a:latin typeface="Calibri"/>
              </a:rPr>
              <a:t>Light Energ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6CO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+ 12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                             C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12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+ 6 H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 +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S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                         </a:t>
            </a:r>
            <a:r>
              <a:rPr b="0" lang="en-US" sz="1400" spc="-1" strike="noStrike">
                <a:solidFill>
                  <a:srgbClr val="00b050"/>
                </a:solidFill>
                <a:latin typeface="Calibri"/>
              </a:rPr>
              <a:t>Green sulphur bac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4"/>
          <p:cNvCxnSpPr/>
          <p:nvPr/>
        </p:nvCxnSpPr>
        <p:spPr>
          <a:xfrm flipV="1">
            <a:off x="2340000" y="5280840"/>
            <a:ext cx="1728000" cy="1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7"/>
          <p:cNvCxnSpPr/>
          <p:nvPr/>
        </p:nvCxnSpPr>
        <p:spPr>
          <a:xfrm flipV="1">
            <a:off x="8501040" y="471420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Content Placeholder 2"/>
          <p:cNvSpPr/>
          <p:nvPr/>
        </p:nvSpPr>
        <p:spPr>
          <a:xfrm>
            <a:off x="468360" y="208080"/>
            <a:ext cx="8229600" cy="19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- ذاتية التغذية الضوئ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ي البكتيريا التي تحتوي على الكلوروفيل الذي يعرف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بالكلوروفيل البكتير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ذي يدخل في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عملية البناء الضوئ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ويستمد الطاقة من الضوء مثال على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green sulphur bacte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ذل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5"/>
          <p:cNvSpPr/>
          <p:nvPr/>
        </p:nvSpPr>
        <p:spPr>
          <a:xfrm flipH="1">
            <a:off x="468360" y="4437000"/>
            <a:ext cx="8229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3357720"/>
            <a:ext cx="8229600" cy="300024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lvl="1" marL="971640" indent="-514440" algn="just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. Chemo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the cells lack chlorophll. Accordingly the source of energy should be something else than light. The energy used here is released from chemical reactions carried out by such bacte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611280" y="189000"/>
            <a:ext cx="8229600" cy="300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71640" indent="-514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- ذاتية التغذية الكيميائية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 algn="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في هذا النوع تفتقر الخلايا إلى الكلوروفيل وبناء على ذلك ينبغي ان يكون مصدر الطاقة غير الضوء. الطاقة المستخدمة هنا يتم تحريرها من التفاعلات الكيمائية التي تقوم بها هذه البكتيري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examples we hav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Nitrosomona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mmonia or ammonium salts to nitrites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N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­3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3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                 2 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2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o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Nitrobac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itrites to nitrates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                 2 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Thiobacillus thiooxida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ulphur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S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3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2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O                                        2 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S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تستخدم الطاقة المنطلقة من أي تفاعلات الأكسدة  بواسطة كائنات معينة تستطيع بناء الكربوهيدرات العضوية من المصادر غير عضوية بسيط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nergy released from any of these oxidation reactions is utilized by the specific organism in building up organic carbohydrates from the simple inorganic sour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5"/>
          <p:cNvCxnSpPr/>
          <p:nvPr/>
        </p:nvCxnSpPr>
        <p:spPr>
          <a:xfrm>
            <a:off x="3071880" y="2714760"/>
            <a:ext cx="1929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7"/>
          <p:cNvCxnSpPr/>
          <p:nvPr/>
        </p:nvCxnSpPr>
        <p:spPr>
          <a:xfrm>
            <a:off x="3000240" y="3357720"/>
            <a:ext cx="2144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Straight Arrow Connector 9"/>
          <p:cNvCxnSpPr/>
          <p:nvPr/>
        </p:nvCxnSpPr>
        <p:spPr>
          <a:xfrm>
            <a:off x="3500280" y="4285800"/>
            <a:ext cx="21441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نا سوف نأخذ ثلاثة امثلة لبكتيريا تستخدم تفاعلات الاكسد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بكتيريا متباينة التغذي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terotrophic Bac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eterotrophs live either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5"/>
          <p:cNvCxnSpPr/>
          <p:nvPr/>
        </p:nvCxnSpPr>
        <p:spPr>
          <a:xfrm flipH="1">
            <a:off x="1213920" y="2143080"/>
            <a:ext cx="292968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7"/>
          <p:cNvCxnSpPr/>
          <p:nvPr/>
        </p:nvCxnSpPr>
        <p:spPr>
          <a:xfrm flipH="1">
            <a:off x="3928320" y="2143080"/>
            <a:ext cx="214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9"/>
          <p:cNvCxnSpPr/>
          <p:nvPr/>
        </p:nvCxnSpPr>
        <p:spPr>
          <a:xfrm>
            <a:off x="4143240" y="2143080"/>
            <a:ext cx="31442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itle 1"/>
          <p:cNvSpPr/>
          <p:nvPr/>
        </p:nvSpPr>
        <p:spPr>
          <a:xfrm>
            <a:off x="285840" y="321480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asi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s, animals and human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ausing serious dis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2581200" y="3143160"/>
            <a:ext cx="27147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Saprophy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ad organic matt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5143680" y="3214800"/>
            <a:ext cx="35715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ymbio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th other living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haring benefit, e.g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hizobiu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(nodule bacteria) which lives in symbiosis with the roots of legumes forming root nod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can fix nitrogen and build proteins and other nitrogenous compounds to be partially delivered, to the higher plant and get in return the carbohydrates from the lat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6949080" y="3071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كاف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472200" y="314316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رم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56840" y="300024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طف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5:37:25Z</dcterms:created>
  <dc:creator>DTK</dc:creator>
  <dc:description/>
  <dc:language>en-US</dc:language>
  <cp:lastModifiedBy>Naiyf Alharbi</cp:lastModifiedBy>
  <cp:lastPrinted>2013-09-29T06:59:00Z</cp:lastPrinted>
  <dcterms:modified xsi:type="dcterms:W3CDTF">2014-06-04T12:10:20Z</dcterms:modified>
  <cp:revision>22</cp:revision>
  <dc:subject/>
  <dc:title>Mode of living in Bacteria</dc:title>
</cp:coreProperties>
</file>