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781D-741A-4152-B6F3-E2DEB0BFB9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E095-401E-4629-9E49-C29316E475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FF96-4319-4A06-9414-FAD9C6DDAF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B538-764D-4BDE-A91E-3496CCC065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9E5-A892-4E62-9BEC-5BD3C0D9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A61-CCFD-4C7D-8BBF-6FE8CE4F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A39-244A-4B33-A014-D20EF331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931-6F97-41C5-B942-7338A9EB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608-E261-4267-B02D-38F27FFD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3D7-563A-4E3E-9436-79E73B11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5DD-1540-4C41-B097-73D21867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3FC-3CBD-4D55-B5B7-E1B4AB15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94F-6FD7-493D-BD33-D861A240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5E0-8455-45A6-AE47-3396591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1E7-429F-4D84-8129-7AFE2C6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7D4-B7B1-497A-BDED-558DF2C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654F-70F6-4B72-A0B6-325D61CA2D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 or nuclear membran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A01C-10A4-4AB9-90B8-B5BA2F0E8C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: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: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666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16856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FEED-4EBC-4675-B68D-B8AB89B67E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4-10-11T19:55:01Z</dcterms:modified>
  <cp:revision>289</cp:revision>
  <dc:subject/>
  <dc:title>The Cell Organelles</dc:title>
</cp:coreProperties>
</file>