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34CA-398F-4287-8817-8E6A0FF9EF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1D8-78A5-433A-947B-30A8C7FE22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76F8-9F7B-48F2-A7F3-877EA0A022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4D6-A7AD-4D10-8B07-2A2C34358B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CB2-19AE-4E74-A30C-FC3B48D7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09B-4D89-400B-98BF-D60CDBB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895-28C4-45EA-93BA-2B273452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371-96F1-416C-B46B-50BCF28B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12A-FBC2-4ADB-A134-C2B6136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661-2434-4A3E-B5EC-99EABF6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B9F-41F2-4B8F-B899-E6A00A4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D1E-2C9E-43DA-94E6-A9717CE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A24-E83A-4340-AFE3-DFFCFDA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F69-7768-4574-B820-73C55DE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87E-19AE-4982-8461-9CC6D4D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563-1474-4FA9-9B28-0CFDBF3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EC5-7ACF-4850-B8DB-73E9598BB2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 or nuclear membran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BFE5-3C85-4CDF-A340-A533381C32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: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: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16856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6551-535F-4ABC-9DF6-B35B92577B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10-11T19:55:01Z</dcterms:modified>
  <cp:revision>289</cp:revision>
  <dc:subject/>
  <dc:title>The Cell Organelles</dc:title>
</cp:coreProperties>
</file>