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9FAF-ECBC-4941-A7FF-D9898B421C2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D693-3A0F-490F-81AB-13ACFF2DE1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453A-DA41-4880-90A2-85AA2E7070D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88A-A175-4EAE-AFE8-D7C09362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035-5DA3-4F77-AE98-EAB60EFD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D06-7A38-43AA-B73C-3B4353E7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3B35-EB6E-44CA-8BD2-B1CD144E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844-6F16-42B3-85D6-39EE107F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417-2977-427C-8E1E-FEB4916D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CD9-6738-44AF-9214-7A67F7CC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A00-1C4B-4CD3-9F0B-B26BD26E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DB6-CA8E-4011-93D0-1FDF4DDF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CE5-647D-4D27-9C8B-F6072940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866-883F-4686-ABBE-843A9CBE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A64-8118-4BB0-80E7-4C36F8E0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E766-8953-4B78-8662-AD3092BB5C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0811-8825-4B50-8CBE-8D09C4BFD6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out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 =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 =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209680" y="228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B- The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G02_04"/>
          <p:cNvPicPr/>
          <p:nvPr/>
        </p:nvPicPr>
        <p:blipFill>
          <a:blip r:embed="rId1"/>
          <a:stretch/>
        </p:blipFill>
        <p:spPr>
          <a:xfrm>
            <a:off x="533520" y="132084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70E7-2BC4-4331-BEB9-F1F86B01CF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42:44Z</dcterms:modified>
  <cp:revision>289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