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812-9F0E-4136-AC29-5F6DBB59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EE0-79A7-46FF-9C9D-5A7A60D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56-F4EF-48CE-AD3D-0AF04850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686-DE23-4E98-8670-8AFD7834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7B6-FC1C-48E1-8204-AEA4B34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E86-A7E1-476C-AA84-504B7285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E5B-3953-484A-92E5-8795050E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3C4-5190-4F58-9DFB-D245AE8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3BC-461C-4270-B650-AD2B433A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EB3-8EFF-4895-9FFF-8D25062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5AE-240C-4287-9975-2EEABC8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26D-96A2-46AF-9827-67BFF56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8F21-EFBC-4A39-8415-145557859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668-9105-4F67-9F40-EA9A0722E7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1920" y="1371240"/>
            <a:ext cx="899172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facilitated transport proteins can move solutes against their concentration gradient, from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ss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re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ctive transport requires metabol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ve transport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in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ضَ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solutes against their concentration gradient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إنحدار التركيز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4920" y="3505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critic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الغ الأه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cell to maintain its in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centrations of small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performed by specific proteins embedded 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membrane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port protein (T.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960" y="1181160"/>
            <a:ext cx="4343400" cy="36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dium-potassium pump actively maintains the gradient of sodium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potassium ion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cross the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imal cell has higher concentrations of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ower concentrations of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ide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dium-potassium pump (T. protein) uses the energy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n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ump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 Na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out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 K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209680" y="304920"/>
            <a:ext cx="5867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Transport of small 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52280" y="4822920"/>
            <a:ext cx="4572000" cy="1981080"/>
            <a:chOff x="152280" y="4822920"/>
            <a:chExt cx="4572000" cy="1981080"/>
          </a:xfrm>
        </p:grpSpPr>
        <p:sp>
          <p:nvSpPr>
            <p:cNvPr id="50" name="Rectangle 11"/>
            <p:cNvSpPr/>
            <p:nvPr/>
          </p:nvSpPr>
          <p:spPr>
            <a:xfrm>
              <a:off x="228600" y="482292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1752480" y="489888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3429000" y="535608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1981080" y="517212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152280" y="596592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228600" y="520380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057400" y="58896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5"/>
          <p:cNvSpPr/>
          <p:nvPr/>
        </p:nvSpPr>
        <p:spPr>
          <a:xfrm>
            <a:off x="228600" y="482292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1600200" y="543240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1828800" y="61945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1295280" y="55087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9"/>
          <p:cNvGrpSpPr/>
          <p:nvPr/>
        </p:nvGrpSpPr>
        <p:grpSpPr>
          <a:xfrm>
            <a:off x="1219320" y="4822920"/>
            <a:ext cx="1295280" cy="609480"/>
            <a:chOff x="1219320" y="4822920"/>
            <a:chExt cx="1295280" cy="609480"/>
          </a:xfrm>
        </p:grpSpPr>
        <p:sp>
          <p:nvSpPr>
            <p:cNvPr id="62" name="Text Box 17"/>
            <p:cNvSpPr/>
            <p:nvPr/>
          </p:nvSpPr>
          <p:spPr>
            <a:xfrm>
              <a:off x="1219320" y="4822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1828800" y="5127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0"/>
          <p:cNvSpPr/>
          <p:nvPr/>
        </p:nvSpPr>
        <p:spPr>
          <a:xfrm>
            <a:off x="4800600" y="1378080"/>
            <a:ext cx="4267080" cy="54100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181480" y="3664080"/>
            <a:ext cx="381024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2"/>
          <p:cNvGrpSpPr/>
          <p:nvPr/>
        </p:nvGrpSpPr>
        <p:grpSpPr>
          <a:xfrm>
            <a:off x="5181480" y="3664080"/>
            <a:ext cx="1676520" cy="1218960"/>
            <a:chOff x="5181480" y="3664080"/>
            <a:chExt cx="1676520" cy="1218960"/>
          </a:xfrm>
        </p:grpSpPr>
        <p:sp>
          <p:nvSpPr>
            <p:cNvPr id="67" name="Line 23"/>
            <p:cNvSpPr/>
            <p:nvPr/>
          </p:nvSpPr>
          <p:spPr>
            <a:xfrm>
              <a:off x="5181480" y="36640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5181480" y="48830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7315200" y="3664080"/>
            <a:ext cx="1676520" cy="1218960"/>
            <a:chOff x="7315200" y="3664080"/>
            <a:chExt cx="1676520" cy="1218960"/>
          </a:xfrm>
        </p:grpSpPr>
        <p:sp>
          <p:nvSpPr>
            <p:cNvPr id="70" name="Line 26"/>
            <p:cNvSpPr/>
            <p:nvPr/>
          </p:nvSpPr>
          <p:spPr>
            <a:xfrm>
              <a:off x="7315200" y="36640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7315200" y="48830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8"/>
          <p:cNvGrpSpPr/>
          <p:nvPr/>
        </p:nvGrpSpPr>
        <p:grpSpPr>
          <a:xfrm>
            <a:off x="7086240" y="3511440"/>
            <a:ext cx="533160" cy="1447560"/>
            <a:chOff x="7086240" y="3511440"/>
            <a:chExt cx="533160" cy="1447560"/>
          </a:xfrm>
        </p:grpSpPr>
        <p:sp>
          <p:nvSpPr>
            <p:cNvPr id="73" name="AutoShape 29"/>
            <p:cNvSpPr/>
            <p:nvPr/>
          </p:nvSpPr>
          <p:spPr>
            <a:xfrm flipH="1">
              <a:off x="7085880" y="3511440"/>
              <a:ext cx="53316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900"/>
                </a:gs>
                <a:gs pos="50000">
                  <a:srgbClr val="00ff00"/>
                </a:gs>
                <a:gs pos="100000">
                  <a:srgbClr val="003900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0"/>
            <p:cNvSpPr/>
            <p:nvPr/>
          </p:nvSpPr>
          <p:spPr>
            <a:xfrm rot="5400000">
              <a:off x="7149600" y="45399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1"/>
            <p:cNvSpPr/>
            <p:nvPr/>
          </p:nvSpPr>
          <p:spPr>
            <a:xfrm rot="5400000">
              <a:off x="7175160" y="4159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32"/>
            <p:cNvSpPr/>
            <p:nvPr/>
          </p:nvSpPr>
          <p:spPr>
            <a:xfrm rot="5400000">
              <a:off x="7162200" y="377784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3"/>
          <p:cNvGrpSpPr/>
          <p:nvPr/>
        </p:nvGrpSpPr>
        <p:grpSpPr>
          <a:xfrm>
            <a:off x="6553080" y="3511440"/>
            <a:ext cx="533520" cy="1447560"/>
            <a:chOff x="6553080" y="3511440"/>
            <a:chExt cx="533520" cy="1447560"/>
          </a:xfrm>
        </p:grpSpPr>
        <p:sp>
          <p:nvSpPr>
            <p:cNvPr id="78" name="AutoShape 34"/>
            <p:cNvSpPr/>
            <p:nvPr/>
          </p:nvSpPr>
          <p:spPr>
            <a:xfrm>
              <a:off x="6553080" y="3511440"/>
              <a:ext cx="53352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900"/>
                </a:gs>
                <a:gs pos="50000">
                  <a:srgbClr val="00ff00"/>
                </a:gs>
                <a:gs pos="100000">
                  <a:srgbClr val="003900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5"/>
            <p:cNvSpPr/>
            <p:nvPr/>
          </p:nvSpPr>
          <p:spPr>
            <a:xfrm flipH="1" rot="16200000">
              <a:off x="6869520" y="45399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36"/>
            <p:cNvSpPr/>
            <p:nvPr/>
          </p:nvSpPr>
          <p:spPr>
            <a:xfrm flipH="1" rot="16200000">
              <a:off x="6844320" y="4159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7"/>
            <p:cNvSpPr/>
            <p:nvPr/>
          </p:nvSpPr>
          <p:spPr>
            <a:xfrm flipH="1" rot="16200000">
              <a:off x="6856560" y="377784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8"/>
          <p:cNvSpPr/>
          <p:nvPr/>
        </p:nvSpPr>
        <p:spPr>
          <a:xfrm rot="2040600">
            <a:off x="6921000" y="5339880"/>
            <a:ext cx="3812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5181480" y="5264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Cellu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7772400" y="25970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Protein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1"/>
          <p:cNvSpPr/>
          <p:nvPr/>
        </p:nvSpPr>
        <p:spPr>
          <a:xfrm flipH="1">
            <a:off x="7391520" y="2978280"/>
            <a:ext cx="457200" cy="99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 flipV="1">
            <a:off x="5715000" y="4425480"/>
            <a:ext cx="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791320" y="6243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638680" y="14540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ut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5"/>
          <p:cNvSpPr/>
          <p:nvPr/>
        </p:nvSpPr>
        <p:spPr>
          <a:xfrm>
            <a:off x="7162920" y="473076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5105520" y="22924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5257800" y="29782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943600" y="313056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6172200" y="259704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 rot="19942200">
            <a:off x="7314840" y="22924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 rot="1722000">
            <a:off x="5714640" y="221616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1.11111E-006 L -0.00139 -0.16667 E">
                                      <p:cBhvr>
                                        <p:cTn id="90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6667 L -0.01111 -0.4 E">
                                      <p:cBhvr>
                                        <p:cTn id="100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7B22-F953-4E24-ACB5-5E5F1719D0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260280"/>
            <a:ext cx="9144000" cy="5910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39"/>
          <a:stretch/>
        </p:blipFill>
        <p:spPr>
          <a:xfrm>
            <a:off x="76320" y="11160"/>
            <a:ext cx="9067680" cy="5627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04920" y="5791320"/>
            <a:ext cx="86868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th diffusion and facilitated diffusion are forms of passive transport of molecules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down their concentration gradien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while active transport requires an investment of energy to move molecules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against their concentration gradien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81480" y="30481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roles of membran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80773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molecules and water enter or leave the cell through the lipid bilayer or by transport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molecules, such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ysaccharides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poprotein particl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 the membrane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ية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خراج الخل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ransport vesicle budded fro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شأ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lgi apparatus is moved by                                                   the cytoskeleton to the plasma                                                        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two membranes come in                                                  conta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ام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bilayers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pil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فر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to                                                            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molecules are transpor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066680" y="152280"/>
            <a:ext cx="74678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- Transport of large molecule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p51"/>
          <p:cNvPicPr/>
          <p:nvPr/>
        </p:nvPicPr>
        <p:blipFill>
          <a:blip r:embed="rId1"/>
          <a:srcRect l="0" t="55831" r="9853" b="0"/>
          <a:stretch/>
        </p:blipFill>
        <p:spPr>
          <a:xfrm>
            <a:off x="4952880" y="3576600"/>
            <a:ext cx="4038840" cy="282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0C27-4E14-405C-AE6D-FEC0DE3F1F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797" t="4975" r="8622" b="69334"/>
          <a:stretch/>
        </p:blipFill>
        <p:spPr>
          <a:xfrm>
            <a:off x="304920" y="3809880"/>
            <a:ext cx="868680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960" y="182844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)- Phagocytosi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بتلاع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d 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ellular ea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. The cell engulf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َبْلَ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article by extending pseudopodia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قدام كاذب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it and packaging it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ـُغلف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large vacu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ntents of the vacuole are digested when the vacuole fuses with a lys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04920" y="492120"/>
            <a:ext cx="83818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- End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دخال الخل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ell brings in macromolecules and particulate matter by forming new vesicles from the plasma membra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include the following: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)- Pinocytosi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رب الخ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drinking”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ll creates a vesicle around dro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tracellular flu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ائل الموجود خارج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is is a non-specific proc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ة غير متخصص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0" t="36212" r="26037" b="38437"/>
          <a:stretch/>
        </p:blipFill>
        <p:spPr>
          <a:xfrm>
            <a:off x="0" y="3276720"/>
            <a:ext cx="9105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811E-9BC4-426D-893A-45A6B2C63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523880" y="4038480"/>
            <a:ext cx="5790960" cy="636840"/>
            <a:chOff x="1523880" y="4038480"/>
            <a:chExt cx="5790960" cy="636840"/>
          </a:xfrm>
        </p:grpSpPr>
        <p:sp>
          <p:nvSpPr>
            <p:cNvPr id="117" name="Line 6"/>
            <p:cNvSpPr/>
            <p:nvPr/>
          </p:nvSpPr>
          <p:spPr>
            <a:xfrm>
              <a:off x="5410080" y="40384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1523880" y="4218120"/>
              <a:ext cx="579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731484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426708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152388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>
            <a:off x="762120" y="4670280"/>
            <a:ext cx="15238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581280" y="4621320"/>
            <a:ext cx="14479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in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248520" y="4648320"/>
            <a:ext cx="2133360" cy="50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eceptor-med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85800" y="5105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llular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352680" y="5105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llular dr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324480" y="51814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ive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3124080" y="380880"/>
            <a:ext cx="2819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Impact"/>
              </a:rPr>
              <a:t>Cell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172200" y="14479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971800" y="14479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620120" y="2286000"/>
            <a:ext cx="114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172200" y="2286000"/>
            <a:ext cx="1219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Facilit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273400"/>
            <a:ext cx="1219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4343400" y="228600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olecules/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4495680" y="2755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2666880" y="273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172200" y="2743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7543800" y="273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457200" y="3586320"/>
            <a:ext cx="14479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x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648320" y="3591000"/>
            <a:ext cx="16761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1219320" y="3048120"/>
            <a:ext cx="4190760" cy="546120"/>
            <a:chOff x="1219320" y="3048120"/>
            <a:chExt cx="4190760" cy="546120"/>
          </a:xfrm>
        </p:grpSpPr>
        <p:sp>
          <p:nvSpPr>
            <p:cNvPr id="142" name="Line 37"/>
            <p:cNvSpPr/>
            <p:nvPr/>
          </p:nvSpPr>
          <p:spPr>
            <a:xfrm>
              <a:off x="3428640" y="30481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8"/>
            <p:cNvSpPr/>
            <p:nvPr/>
          </p:nvSpPr>
          <p:spPr>
            <a:xfrm>
              <a:off x="1219320" y="3365640"/>
              <a:ext cx="419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9"/>
            <p:cNvSpPr/>
            <p:nvPr/>
          </p:nvSpPr>
          <p:spPr>
            <a:xfrm>
              <a:off x="1219320" y="336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0"/>
            <p:cNvSpPr/>
            <p:nvPr/>
          </p:nvSpPr>
          <p:spPr>
            <a:xfrm>
              <a:off x="5410080" y="336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886200" y="914400"/>
            <a:ext cx="3200400" cy="533520"/>
            <a:chOff x="3886200" y="914400"/>
            <a:chExt cx="3200400" cy="533520"/>
          </a:xfrm>
        </p:grpSpPr>
        <p:sp>
          <p:nvSpPr>
            <p:cNvPr id="147" name="Line 41"/>
            <p:cNvSpPr/>
            <p:nvPr/>
          </p:nvSpPr>
          <p:spPr>
            <a:xfrm>
              <a:off x="4572000" y="914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2"/>
            <p:cNvSpPr/>
            <p:nvPr/>
          </p:nvSpPr>
          <p:spPr>
            <a:xfrm>
              <a:off x="3886200" y="11430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3"/>
            <p:cNvSpPr/>
            <p:nvPr/>
          </p:nvSpPr>
          <p:spPr>
            <a:xfrm>
              <a:off x="3886200" y="114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4"/>
            <p:cNvSpPr/>
            <p:nvPr/>
          </p:nvSpPr>
          <p:spPr>
            <a:xfrm>
              <a:off x="7086600" y="114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3276720" y="1905120"/>
            <a:ext cx="1828800" cy="380880"/>
            <a:chOff x="3276720" y="1905120"/>
            <a:chExt cx="1828800" cy="380880"/>
          </a:xfrm>
        </p:grpSpPr>
        <p:sp>
          <p:nvSpPr>
            <p:cNvPr id="152" name="Line 45"/>
            <p:cNvSpPr/>
            <p:nvPr/>
          </p:nvSpPr>
          <p:spPr>
            <a:xfrm>
              <a:off x="4191120" y="190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3276720" y="21337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7"/>
            <p:cNvSpPr/>
            <p:nvPr/>
          </p:nvSpPr>
          <p:spPr>
            <a:xfrm>
              <a:off x="327672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9"/>
            <p:cNvSpPr/>
            <p:nvPr/>
          </p:nvSpPr>
          <p:spPr>
            <a:xfrm>
              <a:off x="510552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8"/>
          <p:cNvGrpSpPr/>
          <p:nvPr/>
        </p:nvGrpSpPr>
        <p:grpSpPr>
          <a:xfrm>
            <a:off x="6553080" y="1905120"/>
            <a:ext cx="1828800" cy="380880"/>
            <a:chOff x="6553080" y="1905120"/>
            <a:chExt cx="1828800" cy="380880"/>
          </a:xfrm>
        </p:grpSpPr>
        <p:sp>
          <p:nvSpPr>
            <p:cNvPr id="157" name="Line 50"/>
            <p:cNvSpPr/>
            <p:nvPr/>
          </p:nvSpPr>
          <p:spPr>
            <a:xfrm>
              <a:off x="7467480" y="190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1"/>
            <p:cNvSpPr/>
            <p:nvPr/>
          </p:nvSpPr>
          <p:spPr>
            <a:xfrm>
              <a:off x="6553080" y="21337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2"/>
            <p:cNvSpPr/>
            <p:nvPr/>
          </p:nvSpPr>
          <p:spPr>
            <a:xfrm>
              <a:off x="655308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3"/>
            <p:cNvSpPr/>
            <p:nvPr/>
          </p:nvSpPr>
          <p:spPr>
            <a:xfrm>
              <a:off x="838188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53"/>
          <p:cNvSpPr/>
          <p:nvPr/>
        </p:nvSpPr>
        <p:spPr>
          <a:xfrm>
            <a:off x="522720" y="6019920"/>
            <a:ext cx="78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passive1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8:22:17Z</dcterms:created>
  <dc:creator>User</dc:creator>
  <dc:description/>
  <dc:language>en-US</dc:language>
  <cp:lastModifiedBy>hossam ebaid</cp:lastModifiedBy>
  <dcterms:modified xsi:type="dcterms:W3CDTF">2016-10-09T17:17:17Z</dcterms:modified>
  <cp:revision>1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A0CC54FC-6393-4DE0-97A4-B26B64B6E27C</vt:lpwstr>
  </property>
  <property fmtid="{D5CDD505-2E9C-101B-9397-08002B2CF9AE}" pid="3" name="ArticulatePath">
    <vt:lpwstr>Lecture 10</vt:lpwstr>
  </property>
</Properties>
</file>