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107D-3FC1-4932-A079-590D1456EFC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7427-BCAA-4FED-85EE-296D1BB980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2D81-22CD-4906-93F6-8C229D72B6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94D-A9E3-417E-B496-9FD4056A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471-DEDA-4950-BDF3-06C327F3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906-7BE4-42B5-BD77-4E950815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8E8-7DF1-4EC5-A028-17426397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8AD-1FDC-4C66-BBD4-F50878E3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7EA-A04D-47B1-A023-52A8C65A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DE1-E613-46F4-BD64-A2B3549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5B5-8B6E-469C-B20C-B0088729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2DDF-2BD5-454C-8D67-F578DCD0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80A-3B1F-4A75-A3F1-E09D1FE5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B1A-2DD9-480D-A895-E1035D03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0BE-E0C2-4AC0-9202-63BDF6B2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6A63-83D8-4D57-9194-3DD2A0A471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A025"/>
          <p:cNvPicPr/>
          <p:nvPr/>
        </p:nvPicPr>
        <p:blipFill>
          <a:blip r:embed="rId2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4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5"/>
          <a:srcRect l="18593" t="8074" r="4053" b="0"/>
          <a:stretch/>
        </p:blipFill>
        <p:spPr>
          <a:xfrm>
            <a:off x="46080" y="19080"/>
            <a:ext cx="12492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554120"/>
            <a:ext cx="91440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 as it is the 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ository for genetic mater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nuclear envelo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directs activities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 large macromolecules and particles to pass thr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ar membrane is maintaining the shape of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3AF3-A21C-47F3-A6A7-FE1B9A201E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4876920" y="0"/>
            <a:ext cx="419076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5_10a"/>
          <p:cNvPicPr/>
          <p:nvPr/>
        </p:nvPicPr>
        <p:blipFill>
          <a:blip r:embed="rId2"/>
          <a:srcRect l="0" t="11669" r="0" b="16669"/>
          <a:stretch/>
        </p:blipFill>
        <p:spPr>
          <a:xfrm>
            <a:off x="12600" y="990720"/>
            <a:ext cx="4864320" cy="4343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81880" cy="62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contai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atin fiber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is made up of DNA  and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cell prepares to divide, the chromatin fibers coil up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conden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be seen 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hrom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human cell h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sex cells 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ame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ggs and sperm) have on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-protein complex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sed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wo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arge and small) that join and attach to messenger RN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it is the 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assembly begin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completed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5_19"/>
          <p:cNvPicPr/>
          <p:nvPr/>
        </p:nvPicPr>
        <p:blipFill>
          <a:blip r:embed="rId1"/>
          <a:srcRect l="0" t="11669" r="0" b="15000"/>
          <a:stretch/>
        </p:blipFill>
        <p:spPr>
          <a:xfrm>
            <a:off x="1066680" y="3862440"/>
            <a:ext cx="6629400" cy="2995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Ribosomes:  build the cell’s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2280" y="31320"/>
            <a:ext cx="8839440" cy="71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passout through the nuclear pores to the cytoplasm where they combine to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that synthesize large quantities of proteins (e.g., pancreas) have large numbers of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s of Riboso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uspended in the cytosol and synthesize proteins that func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attached to the outside of the endoplasmic ret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se synthesize proteins that are either included into membranes or for secretion outside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66104" t="40612" r="2541" b="8186"/>
          <a:stretch/>
        </p:blipFill>
        <p:spPr>
          <a:xfrm>
            <a:off x="5943600" y="2286000"/>
            <a:ext cx="281952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5"/>
          <p:cNvGrpSpPr/>
          <p:nvPr/>
        </p:nvGrpSpPr>
        <p:grpSpPr>
          <a:xfrm>
            <a:off x="3429000" y="1600200"/>
            <a:ext cx="2514600" cy="1066680"/>
            <a:chOff x="3429000" y="1600200"/>
            <a:chExt cx="2514600" cy="1066680"/>
          </a:xfrm>
        </p:grpSpPr>
        <p:sp>
          <p:nvSpPr>
            <p:cNvPr id="57" name="Oval 11"/>
            <p:cNvSpPr/>
            <p:nvPr/>
          </p:nvSpPr>
          <p:spPr>
            <a:xfrm>
              <a:off x="3429000" y="1600200"/>
              <a:ext cx="25146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"/>
            <p:cNvSpPr/>
            <p:nvPr/>
          </p:nvSpPr>
          <p:spPr>
            <a:xfrm>
              <a:off x="3581280" y="1676520"/>
              <a:ext cx="2210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Eu = 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Karyon = Nucle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3"/>
          <p:cNvSpPr/>
          <p:nvPr/>
        </p:nvSpPr>
        <p:spPr>
          <a:xfrm>
            <a:off x="2209680" y="228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B- The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523880" y="4221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5715000" y="41450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2743200" y="2743200"/>
            <a:ext cx="3962520" cy="1401120"/>
            <a:chOff x="2743200" y="2743200"/>
            <a:chExt cx="3962520" cy="1401120"/>
          </a:xfrm>
        </p:grpSpPr>
        <p:sp>
          <p:nvSpPr>
            <p:cNvPr id="63" name="Line 7"/>
            <p:cNvSpPr/>
            <p:nvPr/>
          </p:nvSpPr>
          <p:spPr>
            <a:xfrm>
              <a:off x="4648320" y="27432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2743200" y="35438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H="1">
              <a:off x="2743200" y="35438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H="1">
              <a:off x="6692760" y="35438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13"/>
          <p:cNvSpPr/>
          <p:nvPr/>
        </p:nvSpPr>
        <p:spPr>
          <a:xfrm>
            <a:off x="76320" y="5638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Compare  Animal and 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28600" y="60199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What are the functions of cell organelles </a:t>
            </a:r>
            <a:r>
              <a:rPr b="1" lang="en-GB" sz="3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Eukaryotic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el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FG02_04"/>
          <p:cNvPicPr/>
          <p:nvPr/>
        </p:nvPicPr>
        <p:blipFill>
          <a:blip r:embed="rId1"/>
          <a:stretch/>
        </p:blipFill>
        <p:spPr>
          <a:xfrm>
            <a:off x="533520" y="1320840"/>
            <a:ext cx="7619760" cy="507996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294920"/>
            <a:ext cx="9144000" cy="52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the cell into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membranes als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icipate in metabolis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many enzymes are built int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eneral structure of a biological membrane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 lay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phospholipids and divers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 of membrane has a unique combin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ts specif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Introduction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nal membranes compartmentalize the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DA08-1F7A-4FEE-BE46-73D4C54160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le 1"/>
          <p:cNvSpPr/>
          <p:nvPr/>
        </p:nvSpPr>
        <p:spPr>
          <a:xfrm>
            <a:off x="5791320" y="6126120"/>
            <a:ext cx="2666880" cy="655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8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ounded Rectangle 7"/>
          <p:cNvSpPr/>
          <p:nvPr/>
        </p:nvSpPr>
        <p:spPr>
          <a:xfrm>
            <a:off x="6289560" y="5410080"/>
            <a:ext cx="2667240" cy="849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37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eukaryotic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contain similar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are surrounded by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lant &amp; Animal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lant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wall – provides strength &amp; rigidity and is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chloroplasts that is photosynthetic and are not found in animal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imals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elle lysosomes, centriols and flagella are not found in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 have important role in cell di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42:44Z</dcterms:modified>
  <cp:revision>289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22D614AE-CDD3-489C-87D2-3106EC884FA3</vt:lpwstr>
  </property>
  <property fmtid="{D5CDD505-2E9C-101B-9397-08002B2CF9AE}" pid="3" name="ArticulatePath">
    <vt:lpwstr>Lecture 6</vt:lpwstr>
  </property>
</Properties>
</file>