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873F-A1CF-49F0-86FD-87688E6BDB8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6DD1-FD7A-4414-AB77-69CFD5707DB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CD91-53E6-4FA9-9CB0-83E0D80D575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062-DF3F-4027-8D72-AC5EA14D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46D-34E9-4586-BD86-12B24686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38C-EAC3-45C8-B68D-5D60EAAA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E10-8F7A-463E-99E2-C1DDACF6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5F65-2BD2-4F18-9EFF-7FBF5AF8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37A4-4915-4EF7-9F15-98918497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90F5-A351-4BD4-86A2-71448811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6DE-A1CC-44ED-8ACF-D64ECD1B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8B6D-E7BF-46D5-B844-C3761D91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1395-53DE-4F5D-95A8-8804F30B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78A9-E720-42CC-8C2A-BD9A06FD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E47-969B-4EEF-A5A1-9A7CFD62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0709-5F8B-46DB-9D89-D47AAE0822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025"/>
          <p:cNvPicPr/>
          <p:nvPr/>
        </p:nvPicPr>
        <p:blipFill>
          <a:blip r:embed="rId2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4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5"/>
          <a:srcRect l="18593" t="8074" r="4053" b="0"/>
          <a:stretch/>
        </p:blipFill>
        <p:spPr>
          <a:xfrm>
            <a:off x="46080" y="19080"/>
            <a:ext cx="124920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54120"/>
            <a:ext cx="91440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 as it is the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sitory for genetic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nuclear envelo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irects activiti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large macromolecules and particles to pas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membrane is maintaining the shape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0506-C112-4E0A-9ADC-FD28D5BBD3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4876920" y="0"/>
            <a:ext cx="419076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5_10a"/>
          <p:cNvPicPr/>
          <p:nvPr/>
        </p:nvPicPr>
        <p:blipFill>
          <a:blip r:embed="rId2"/>
          <a:srcRect l="0" t="11669" r="0" b="16669"/>
          <a:stretch/>
        </p:blipFill>
        <p:spPr>
          <a:xfrm>
            <a:off x="12600" y="990720"/>
            <a:ext cx="4864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is made up of DNA  and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ell prepares to divide, the chromatin fibers coil up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conden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be seen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sex cells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ggs and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-protein comple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rge and small) that join and attach to messenger R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t is the 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assembly begin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completed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5_19"/>
          <p:cNvPicPr/>
          <p:nvPr/>
        </p:nvPicPr>
        <p:blipFill>
          <a:blip r:embed="rId1"/>
          <a:srcRect l="0" t="11669" r="0" b="15000"/>
          <a:stretch/>
        </p:blipFill>
        <p:spPr>
          <a:xfrm>
            <a:off x="1066680" y="3862440"/>
            <a:ext cx="6629400" cy="2995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Ribosomes:  build the cell’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31320"/>
            <a:ext cx="8839440" cy="71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passout through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e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uspended in the cytosol and synthesize proteins that func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in the cytos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ttached to the outside of the endoplasmic ret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se synthesize proteins that are either included into membranes or for secretion outside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66104" t="40612" r="2541" b="8186"/>
          <a:stretch/>
        </p:blipFill>
        <p:spPr>
          <a:xfrm>
            <a:off x="5943600" y="228600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5"/>
          <p:cNvGrpSpPr/>
          <p:nvPr/>
        </p:nvGrpSpPr>
        <p:grpSpPr>
          <a:xfrm>
            <a:off x="3429000" y="1600200"/>
            <a:ext cx="2514600" cy="1066680"/>
            <a:chOff x="3429000" y="1600200"/>
            <a:chExt cx="2514600" cy="1066680"/>
          </a:xfrm>
        </p:grpSpPr>
        <p:sp>
          <p:nvSpPr>
            <p:cNvPr id="57" name="Oval 11"/>
            <p:cNvSpPr/>
            <p:nvPr/>
          </p:nvSpPr>
          <p:spPr>
            <a:xfrm>
              <a:off x="3429000" y="1600200"/>
              <a:ext cx="25146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"/>
            <p:cNvSpPr/>
            <p:nvPr/>
          </p:nvSpPr>
          <p:spPr>
            <a:xfrm>
              <a:off x="3581280" y="167652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Eu = 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Karyon =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3"/>
          <p:cNvSpPr/>
          <p:nvPr/>
        </p:nvSpPr>
        <p:spPr>
          <a:xfrm>
            <a:off x="2209680" y="2286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B- The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23880" y="4221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715000" y="41450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2743200" y="2743200"/>
            <a:ext cx="3962520" cy="1401120"/>
            <a:chOff x="2743200" y="2743200"/>
            <a:chExt cx="3962520" cy="1401120"/>
          </a:xfrm>
        </p:grpSpPr>
        <p:sp>
          <p:nvSpPr>
            <p:cNvPr id="63" name="Line 7"/>
            <p:cNvSpPr/>
            <p:nvPr/>
          </p:nvSpPr>
          <p:spPr>
            <a:xfrm>
              <a:off x="4648320" y="27432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2743200" y="35438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H="1">
              <a:off x="2743200" y="35438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6692760" y="35438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3"/>
          <p:cNvSpPr/>
          <p:nvPr/>
        </p:nvSpPr>
        <p:spPr>
          <a:xfrm>
            <a:off x="76320" y="5638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Compare  Animal and 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2860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What are the functions of cell organelles </a:t>
            </a:r>
            <a:r>
              <a:rPr b="1" lang="en-GB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Eukaryotic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FG02_04"/>
          <p:cNvPicPr/>
          <p:nvPr/>
        </p:nvPicPr>
        <p:blipFill>
          <a:blip r:embed="rId1"/>
          <a:stretch/>
        </p:blipFill>
        <p:spPr>
          <a:xfrm>
            <a:off x="533520" y="1320840"/>
            <a:ext cx="7619760" cy="507996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membranes als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icipate in metabolis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tructure of a biological membrane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 lay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phospholipids and divers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membrane has a unique combin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ts 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roductio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nal membranes compartmentalize the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E31A-D5A3-4DBF-9733-2318573C54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1"/>
          <p:cNvSpPr/>
          <p:nvPr/>
        </p:nvSpPr>
        <p:spPr>
          <a:xfrm>
            <a:off x="5791320" y="6126120"/>
            <a:ext cx="2666880" cy="65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85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ounded Rectangle 7"/>
          <p:cNvSpPr/>
          <p:nvPr/>
        </p:nvSpPr>
        <p:spPr>
          <a:xfrm>
            <a:off x="6289560" y="5410080"/>
            <a:ext cx="2667240" cy="849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37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contain similar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surrounded by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lant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wall – provides strength &amp; rigidity and is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chloroplasts that is photosynthetic and are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imal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elle lysosomes, centriols and flagella are not found in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s have important role in cell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Impact"/>
              </a:rPr>
              <a:t>The Cell 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42:44Z</dcterms:modified>
  <cp:revision>289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22D614AE-CDD3-489C-87D2-3106EC884FA3</vt:lpwstr>
  </property>
  <property fmtid="{D5CDD505-2E9C-101B-9397-08002B2CF9AE}" pid="3" name="ArticulatePath">
    <vt:lpwstr>Lecture 6</vt:lpwstr>
  </property>
</Properties>
</file>