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005-5285-4403-8557-71EFC2FE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60B-897D-4E02-96B1-F480BF9B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4B8-7EE0-4005-A9DF-C5A0265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5AB-34DA-4EC2-879F-80109020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139D-8028-49B9-9108-38E34479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A2A4-7874-4F27-8349-F37086C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D64B-F565-453B-A291-2CF9509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F0D8-081F-4367-9D63-A71B8651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A83-1E5F-433B-9F04-D6894991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F67-0021-4087-BEDA-67F74F8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B0E5-C330-4736-8765-7C3469A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5D1-64E7-4750-8A4D-1606287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6543-2D7F-4684-A2A4-A9344AC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80A-570A-4A49-A51B-237C26C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824C-B11B-4473-AD34-C429614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44BF-AE8F-41BA-B187-F6A29FEB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B5FC-A993-43D3-A94D-5C0A8F9C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7BAD-C159-416D-855B-8CBC80B4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194D-A787-4A47-890F-FD3DA5B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9C6D-BF0E-4717-9DD2-084DEF4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BFCE-F50F-4A13-8A1B-53CCB2D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402B-C0C8-4AFE-9C8A-4426A58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936-2F24-4C88-A2D5-7BA4369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8A1B-9176-4315-9E3F-13BDC98A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D677-65FD-4F4B-B098-A51534D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FCF5-55DA-44BB-BDD6-19D4938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C6B1-94B2-43DA-AD8C-B2397F4B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E163-5AD3-4C90-A992-0BF8B2A9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F843-EFE0-4EE0-AE05-832F238A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08BD-FFE0-48C7-AD9D-1D77015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84F6-B5E9-4B8A-AC99-AEE80C5D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C62F-E7E6-48FA-AC6B-A3C24CC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ACE6-6F74-420A-90A5-D1AEAFE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46E-4E04-495A-860E-390FB20F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1BAE-77F1-4036-A209-981ABFC6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18BD-83CA-4D16-B09D-7043B7EC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CB63-A8D2-4A20-85B3-FD3BA0B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6AC4-D351-4234-B7A6-035B20A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0242-3A0F-40E1-B444-0124894D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C775-E8F2-4D12-807E-B322B68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D78B-371E-47A5-8059-1A89DDB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0A6A-97F1-4595-86EA-0AA44F1F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D421-8BE0-4764-9A2E-67A26CC7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017-6F1D-4CAF-B068-91DC2F4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A17-DD2B-4D10-A8E3-8A5EA8C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DA5-28EC-4FDC-A45A-08C8459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EBB-B1CB-4154-AF59-D58A8FC1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172-F391-40D4-BADC-D86ED09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2- </a:t>
            </a:r>
            <a:fld id="{6DFEFE40-7307-43B5-9B72-E0424BF229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4D6C-7073-45AF-924C-7D2C023249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Slide 12- </a:t>
            </a:r>
            <a:fld id="{4B27DCA0-308F-479F-92D3-33709E07EA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2- </a:t>
            </a:r>
            <a:fld id="{30C6B37E-26F7-4F0C-9A4E-639C723A4A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</a:rPr>
              <a:t>Lec 6: Practical Database Design Methodology and Use of UML Diagra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105D-8E8E-4DE9-A54A-5CAD66CC32B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202248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Phases of database design and implementation for large databases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13" descr="_x0011_31755_FIG1601.gif 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2556000" y="343080"/>
            <a:ext cx="6083280" cy="605772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31900594-A035-4CB7-B19E-C2308F7ECD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Database Design and Implementation Process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ments  Collections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eptual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ice of a DB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Model Mapping (Logical Database Desig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al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base System Implementation and Tu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A2D28E7-91CB-4455-A106-5EC7F5EA4F5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83059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-Requirements  Collections and Analysis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ying Us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ng with users to gather requir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ime consuming BUT very importa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ry expensive to fix requirements er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135609D-B768-41C4-A363-59901D8C1E0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2- Conceptual Database Desig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a conceptual schema for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volves two parallel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ceptual Schema Desig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action and Application Desig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lete understanding of the database structure, semantics, interrelationships and constra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rves as a stable description of the database cont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understanding crucial for the users and desig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rammatic description serves as an excellent communication t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DDBDE145-7218-4A19-8823-88779A40978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esired Characteristics of Conceptual Data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v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ble to distinguish different types of data, relationships and constrai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plicity and Understandabi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sy to understa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nim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mall number of distinct basic concep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rammatic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agrammatic notation for representing conceptu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l unambiguous specification of da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E530EB1-E362-44E5-8050-810202EB6D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pproaches to Conceptual Schema Desig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ntralized Schema Design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known as one-shot approa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quirements of different applications and user groups are merged into a single set of requirements and a single schema is design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me consuming, places the burden on DBA to reconcile conflic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ew Integration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hema is designed for each user group or appl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se schemas are then merged into a global conceptual schema during the view integration ph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e pract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69680119-CB3C-47AC-AC38-4ACCC5D0FBF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rategies for Schema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600200"/>
            <a:ext cx="311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p Down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art with a schema containing high-level abstractions and then apply successive top-down refinem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F50ED8AE-7F46-4868-B240-E1B27D207E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fig12_02"/>
          <p:cNvPicPr/>
          <p:nvPr/>
        </p:nvPicPr>
        <p:blipFill>
          <a:blip r:embed="rId1"/>
          <a:stretch/>
        </p:blipFill>
        <p:spPr>
          <a:xfrm>
            <a:off x="3657600" y="1600200"/>
            <a:ext cx="495288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es for Schema Design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9400" y="1600200"/>
            <a:ext cx="273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-Up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with a schema containing basics abstractions and then combine or add to these abst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23E6AB7-3699-4FA2-888A-C4CBA0FDA6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fig12_03"/>
          <p:cNvPicPr/>
          <p:nvPr/>
        </p:nvPicPr>
        <p:blipFill>
          <a:blip r:embed="rId1"/>
          <a:stretch/>
        </p:blipFill>
        <p:spPr>
          <a:xfrm>
            <a:off x="3505320" y="1600200"/>
            <a:ext cx="52941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es for Schema Design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ide-out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with central set of concepts and then spread outward by considering new concepts in the vicinity of existing 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ed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combination of top-down and bottom-up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B971E1E-E26F-45B0-A1DF-681CFF7C01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hema Integ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fying correspondence and conflict among different schem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ming confli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ynonyms: The same concept but different nam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63520" indent="-205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.g. entity types CUSTOMER and CLI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monyms: Different concepts but same na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63520" indent="-205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.g. entity type PART as computer parts and furniture part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e Conflicts: Representing the same concept by different modeling constru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DEPARTMENT may be an entity type and an attrib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main Conflicts: Attribute has different doma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so known as value set conflic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SSN as an integer and as a character str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flict among constraints: Two schemas impose different constra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different key of  an entity type in different schem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603546B-7EFA-4538-9BBD-21A3D4D9049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System Life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ses of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ML Diagr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tional R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395"/>
                </a:solidFill>
                <a:latin typeface="Arial"/>
              </a:rPr>
              <a:t>Slide 12- </a:t>
            </a:r>
            <a:fld id="{E453EEF5-E304-4924-948D-F75B548295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hema Integration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ing views to conform to one ano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ifying schemas to conform to one anoth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rging of 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rging Schemas to create a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fying mappings between views and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ime consuming and diffic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tructur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mplifying and restructuring to remove any redundan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177A2C2-0FF1-4BCA-8371-BA1BEFCE696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2734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Modifying views to conform before integration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6" descr="_x0012_31755_FIG1604a.gif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2981160" y="695160"/>
            <a:ext cx="5908680" cy="540072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F18C2D70-9790-4D20-A59E-1F5CA22A168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4" descr="_x0012_31755_FIG1604b.gif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649440" y="1935000"/>
            <a:ext cx="7845120" cy="43894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46A8AD9C-A84E-4D9C-BB7D-EB556861EAD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grated schema after merging views 1 and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4" descr="_x0011_31755_FIG1605.gif 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457200" y="2619360"/>
            <a:ext cx="8229600" cy="302112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87ECB8D6-2B24-43F8-91D4-23922D4D277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nary Ladder Integ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imilar schemas are integrated first and the resulting schema is then integrated with another sch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cess is repeated until all schemas are integr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-ary Integ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views are integrated in one procedure after analysis and specification of their correspond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quires computerized tools for large desig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D53732EF-8768-4A5A-B309-62300E3F1B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ary Balanced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irs of schemas are integrated first and the resulting schemas are then paired for further integr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process is repeated until a final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xed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hemas are partitioned into groups based on their similarity and each group is integrated separ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process is repeated until a final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D030DDDB-B8F7-4B35-B680-1D36DDAC3A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ACA64DE-CC7C-42DB-B865-40F351951DD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fig12_06"/>
          <p:cNvPicPr/>
          <p:nvPr/>
        </p:nvPicPr>
        <p:blipFill>
          <a:blip r:embed="rId1"/>
          <a:stretch/>
        </p:blipFill>
        <p:spPr>
          <a:xfrm>
            <a:off x="1523880" y="1600200"/>
            <a:ext cx="563904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ac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characteristics of known database transactions in a DB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 of Trans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trieval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sed to retrieve d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pdate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date d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xed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bination of update and retriev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chniques for Specifying Trans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put/outp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unctional Behavi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87B906F-3E7F-4A60-A00D-87E67F81CC7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3-Choice of DBM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factors to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chnical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e of DBMS: Relational, object-relational, object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orage Struc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chitectural o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conomic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quisition, maintenance, training and operating cos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tabase creation and conversion co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zational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ganizational philosoph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ional or Object Orient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endor Preferen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miliarity of staff with the syst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vailability of vendor servi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12294A2A-D188-48B2-9AD9-6F649866B24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4-Logical Database Desig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form the Schema from high-level data model into the data model of the selected DB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of external schemas for specific appl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ystem-independent mapp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BMS independent mapp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iloring the schemas to a specific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justing the schemas obtained in step 1 to conform to the specific implementation features of the data model used in the selected DB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DL statements in the language of the chosen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C59717A-754F-4B1A-88EB-8D7A87C699C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rganizational Context for using Database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olidation and integration of data across 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tenance of complex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plicity of developing new appl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 indepen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tecting application programs from changes in the underlying logical organization and in the physical access paths and storage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Sche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ow the same data to be used for multiple applications with each application having its own view of the da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C44FFBE5-0265-4369-AE7C-55018417D9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5-Physical Database Desig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ign the specifications for the stored database in terms of physical storage structures, record placements and index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ign Crite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lapsed Time between submitting a database transaction for execution and receiving a respon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ace Utiliz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orage space used by database files and their access path structu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action throughp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erage number of transactions/min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ust be measured under peak cond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itial determination of storage structures and access paths for database f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0479CB8-D773-4AC6-8B3A-AF1A37F471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6- Database System Implementation and Tun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ring this phase database and application programs are implemented, tested and deplo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base Tu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and Performance Monito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 index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ning is a continuous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8813B2F1-7715-4BF1-8B12-D2CF5302CD2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ML Dia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pture the static structure of the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classes, Interfaces, dependencies, generalizations and other relationshi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jec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ow a set of objects and their relationshi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nen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ow the organizations and dependencies among software compon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ploymen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the distribution of components across the hardware top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C1352CFA-C5CB-4F07-A52B-25DC0EFEDF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ass diagra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2" descr="Pink tissue paper"/>
          <p:cNvPicPr/>
          <p:nvPr/>
        </p:nvPicPr>
        <p:blipFill>
          <a:blip r:embed="rId1"/>
          <a:srcRect l="20268" t="20910" r="19243" b="21675"/>
          <a:stretch/>
        </p:blipFill>
        <p:spPr>
          <a:xfrm>
            <a:off x="641520" y="1700280"/>
            <a:ext cx="7283160" cy="432108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1B46CA0-59A2-4E36-8EC3-A23537FDBD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9428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bjec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Picture 2" descr="Pink tissue paper"/>
          <p:cNvPicPr/>
          <p:nvPr/>
        </p:nvPicPr>
        <p:blipFill>
          <a:blip r:embed="rId1"/>
          <a:srcRect l="27443" t="42236" r="28470" b="24959"/>
          <a:stretch/>
        </p:blipFill>
        <p:spPr>
          <a:xfrm>
            <a:off x="636480" y="2205000"/>
            <a:ext cx="8050320" cy="374508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C38EA169-BD81-4984-B70B-2290BC39CA7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923400"/>
            <a:ext cx="779616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omponen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Content Placeholder 4" descr="p8.jpg"/>
          <p:cNvPicPr/>
          <p:nvPr/>
        </p:nvPicPr>
        <p:blipFill>
          <a:blip r:embed="rId1"/>
          <a:stretch/>
        </p:blipFill>
        <p:spPr>
          <a:xfrm>
            <a:off x="1619280" y="1916280"/>
            <a:ext cx="5622840" cy="333360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1E1D742-C4A4-4315-9598-EE31917D93D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74916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ploymen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Content Placeholder 4" descr="p9.jpg"/>
          <p:cNvPicPr/>
          <p:nvPr/>
        </p:nvPicPr>
        <p:blipFill>
          <a:blip r:embed="rId1"/>
          <a:stretch/>
        </p:blipFill>
        <p:spPr>
          <a:xfrm>
            <a:off x="1116000" y="1741320"/>
            <a:ext cx="6908760" cy="401328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4BF8571-49E5-405C-AAEF-97042CC45F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el the functional interactions between users and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cribe scenarios of u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rve as a communication tool between users and develop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interactions between various objects over ti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late uses cases and class diagra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6C999AA-C629-4F17-98C1-7AFA29770EE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9428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 Case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0" name="Picture 2" descr="Pink tissue paper"/>
          <p:cNvPicPr/>
          <p:nvPr/>
        </p:nvPicPr>
        <p:blipFill>
          <a:blip r:embed="rId1"/>
          <a:srcRect l="26418" t="35673" r="22317" b="15113"/>
          <a:stretch/>
        </p:blipFill>
        <p:spPr>
          <a:xfrm>
            <a:off x="1547640" y="2205000"/>
            <a:ext cx="6210360" cy="37260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69B95BE7-2782-4DE7-9A43-A1CAD682AD1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equence Diagram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3" name="Content Placeholder 4" descr="p5.jpg"/>
          <p:cNvPicPr/>
          <p:nvPr/>
        </p:nvPicPr>
        <p:blipFill>
          <a:blip r:embed="rId1"/>
          <a:stretch/>
        </p:blipFill>
        <p:spPr>
          <a:xfrm>
            <a:off x="947880" y="1530360"/>
            <a:ext cx="6475320" cy="487044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20770D2-B1E2-406E-8C17-10AD0333F9E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ormation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System includes all resources involved in the collection, management, use and dissemination of the information resources of the organ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consider two systems life cyc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cro Lif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formation System Life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 Lif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atabase System Life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096A4B8-3EAA-497E-A4C3-A24FE27949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boratio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interactions between objects as a series of sequenced messag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echart Dia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cribe how an object’s state changes in response to external ev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sist of states, transitions, actions, activities and ev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636665D2-1048-496C-BEA1-1D62FD3D6B2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39760" y="8366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ollaboration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Content Placeholder 4" descr="p3.jpg"/>
          <p:cNvPicPr/>
          <p:nvPr/>
        </p:nvPicPr>
        <p:blipFill>
          <a:blip r:embed="rId1"/>
          <a:stretch/>
        </p:blipFill>
        <p:spPr>
          <a:xfrm>
            <a:off x="755640" y="1533600"/>
            <a:ext cx="6775560" cy="532440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4F89518-C1BD-46DD-8F22-5F84585AF79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atechart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02C53E6-92E9-4306-8B91-D3C1FC8C1CE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9" descr="fig12_10"/>
          <p:cNvPicPr/>
          <p:nvPr/>
        </p:nvPicPr>
        <p:blipFill>
          <a:blip r:embed="rId1"/>
          <a:stretch/>
        </p:blipFill>
        <p:spPr>
          <a:xfrm>
            <a:off x="380880" y="1676520"/>
            <a:ext cx="8153640" cy="46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ity Diagr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l the flow of control from activity to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wcharts with st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6FD6C4B-10AA-40D5-831D-6EA07FF9FB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activity_diagram.gif"/>
          <p:cNvPicPr/>
          <p:nvPr/>
        </p:nvPicPr>
        <p:blipFill>
          <a:blip r:embed="rId1"/>
          <a:stretch/>
        </p:blipFill>
        <p:spPr>
          <a:xfrm>
            <a:off x="4419720" y="2565360"/>
            <a:ext cx="4114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ational Ros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ML based modeling tool for designing datab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E62D4E5-4BBF-4456-B99F-B9C586A95B8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5185CAC-9022-414B-B61C-EFC020D855B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fig12_13"/>
          <p:cNvPicPr/>
          <p:nvPr/>
        </p:nvPicPr>
        <p:blipFill>
          <a:blip r:embed="rId1"/>
          <a:stretch/>
        </p:blipFill>
        <p:spPr>
          <a:xfrm>
            <a:off x="1676520" y="1604880"/>
            <a:ext cx="56386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fig12_14"/>
          <p:cNvPicPr/>
          <p:nvPr/>
        </p:nvPicPr>
        <p:blipFill>
          <a:blip r:embed="rId1"/>
          <a:stretch/>
        </p:blipFill>
        <p:spPr>
          <a:xfrm>
            <a:off x="1676520" y="1523880"/>
            <a:ext cx="7086600" cy="49975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39760" y="1600200"/>
            <a:ext cx="250344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deling ER diagrams in UML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 schema from the company example in chapter 3 can be drawn in Rational Rose using UML no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20B49F9-DBBA-4D4D-A1E6-5388F75F124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s the data model and database synchroniz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ives the option of updating the model or changing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Extensive Domain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ows database designers to create a standard set of user-defined typ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Converting between logical and object model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easy communication between various developing and design t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vides a common tool and platform to designers and develop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tional Rose Web Publis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FFC2B384-CDF8-4D0F-8626-EC218552A4D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Information System Life Cycl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sibility An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lyzing potential application are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ntifying the economics of information gathering and dissem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rforming cost benefit stud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 up priorities among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quirement Collection and An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tailed Requirements Colle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action with Us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ign of Database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ign of programs that use and process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22E692A-5278-49E4-B941-28DF8C0245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Information System Life Cycle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ormation system is implemen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base is loaded &amp; its transactions are implemented and tes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lidation and Acceptance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ing against user’s requirem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ing against performance cri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ployment, Operation and Mainte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conver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ystem mainten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rformance monitor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base tu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DDF72DC-0C3D-4894-9B79-EB7EA998E78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base System Lif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fining scope of database system, its users and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base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ogical and physical design of the database system on the chosen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base 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fying conceptual, external and internal database defini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ing empty database fi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lementing software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66FD71A-28C5-4707-98AD-D9BFA538EDD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atabase System Life Cycle (contd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ading or data conver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ting the datab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conver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ing applications to the new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ing and va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nning the new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ing and mainten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mainte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BA8B559-78D6-49B4-8AD2-7A1261919B3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base Design Proces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the logical and physical structure of one or more databases to accommodate the information needs of the users in an organization for a defined set of applic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tisfy the content requir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easy structuring of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port processing requirements and performance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4D2F6539-A46D-4F6B-B4B7-6645212EAA1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5800" y="1747800"/>
            <a:ext cx="80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10-23T12:08:46Z</dcterms:modified>
  <cp:revision>115</cp:revision>
  <dc:subject>Practical Database Design Methodology and Use of UML Diagrams</dc:subject>
  <dc:title>Chapter 12</dc:title>
</cp:coreProperties>
</file>