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382-5B15-4862-A499-48E24612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1CF-6F8F-436B-A2E1-6B2C61EE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02D-125F-4CAD-A17C-0AF12D65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04E-E0E1-4934-B16E-D31F8D49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72A2-2AB3-48EF-9C53-B30A828B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8092-C3F0-47C9-A75D-A444225D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BA1D-2152-4E51-BBA3-E4323E25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28D5-676B-4A63-BE9C-D163E25C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56DD-E696-4E48-8936-26D72FE1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3F2E-D0CD-4C71-BEA3-B061467C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2AD3-C7D4-4801-8025-31BBB34C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1E3-D25E-4E55-BBB1-62D822D7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F05-6ECF-4A60-8444-268A9E9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4B59-F571-4665-8194-E4E05A28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4B08-B19F-44D1-ADDA-F7925D3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1D21-18ED-49D3-8E44-771452D2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FF2C-6FC0-4C4D-BE32-EF02D7D5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DAC2-79FF-4E7A-82B8-E7FCCCC5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5E63-24E8-4575-94D9-710635CD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1BC1-50ED-495F-A042-097A2C31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2D1E0-79B3-4610-A60A-317D408E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7D6E-C085-4EDD-848A-2C82211A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887-F3D3-4C42-A7FA-812EB0FE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F391-2242-4A31-9F1A-5E59D54A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1E750-4264-4BAA-A3C4-53D69B42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C947-0E80-443B-BB19-9BDA1E3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3C053-13DF-4399-B97E-BC3FA5F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961A-DF47-4589-8FC9-11811539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3B7C-0D22-4115-96E3-1DA43596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FC03-015A-479B-903C-1F907E02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38C8E-1241-4305-A477-3B1F7BA2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080D-0AD1-4402-979A-342F12F2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6101-DDC6-4302-A70B-358E7E9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33E-EBF6-4FA9-B4A8-428B7EBE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833C-42F6-4DFA-AAE2-A0A96E6F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C033-D7E0-49D6-9D20-5113DEC2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F34F-5415-4BE4-94BB-F9443F07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FD35-847F-4549-806A-469CD54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51C3D-CDCF-4F0D-8B72-EF81E73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AB651-9A19-4A3B-ADFD-640B5BBB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E6E3-8ECE-42D8-BA70-E31C9FE2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7A0E-E180-4F36-B7B8-39D23B36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7465-EE21-4A58-8DDC-A4E34DC5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EF7-C4D0-47FA-9F09-B5A783DA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503-4645-4F9E-85C2-2B36E67D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E76-E3DF-4C65-BDA6-AE04E81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09B-89B3-4C49-8A61-35E144D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068-9554-48A1-AF3F-58BFFD0C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23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Slide 12- </a:t>
            </a:r>
            <a:fld id="{D3DA43EC-01E3-4A63-BC0E-DECEE1C2AB1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046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66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68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6" descr="elmasri_thumb"/>
          <p:cNvPicPr/>
          <p:nvPr/>
        </p:nvPicPr>
        <p:blipFill>
          <a:blip r:embed="rId5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23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3979-BFA3-4F58-9FAB-69205114182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2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2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23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Slide 12- </a:t>
            </a:r>
            <a:fld id="{02645F74-2CF8-4894-AA01-9C14F29AB26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nip and Round Single Corner Rectangle 20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Triangle 2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3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23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Slide 12- </a:t>
            </a:r>
            <a:fld id="{27A9D4C2-BFFE-4B05-8666-69D8061A247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1c6f7"/>
                </a:solidFill>
                <a:latin typeface="Constantia"/>
              </a:rPr>
              <a:t>Lec 6: Practical Database Design Methodology and Use of UML Diagra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D997-D285-4A2F-A989-6497599BB57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202248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Phases of database design and implementation for large databases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13" descr="_x0011_31755_FIG1601.gif                                              0001035B_x0006_Eeyore                         B91DCF3B:"/>
          <p:cNvPicPr/>
          <p:nvPr/>
        </p:nvPicPr>
        <p:blipFill>
          <a:blip r:embed="rId1"/>
          <a:stretch/>
        </p:blipFill>
        <p:spPr>
          <a:xfrm>
            <a:off x="2556000" y="343080"/>
            <a:ext cx="6083280" cy="6057720"/>
          </a:xfrm>
          <a:prstGeom prst="rect">
            <a:avLst/>
          </a:prstGeom>
          <a:ln w="0">
            <a:noFill/>
          </a:ln>
        </p:spPr>
      </p:pic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</a:t>
            </a:r>
            <a:fld id="{E8525A03-6F52-4366-A865-31EC75327FF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hases of Database Design and Implementation Process 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ments  Collections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eptual Database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ice of a DB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Model Mapping (Logical Database Desig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ysical Database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base System Implementation and Tu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AC6F039B-3663-46C5-89D1-3DE4911651F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83059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1-Requirements  Collections and Analysis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ying Us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ng with users to gather require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ime consuming BUT very importa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ry expensive to fix requirements err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BDF0E04D-A75B-4E76-BC03-26FDCB90F79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2- Conceptual Database Desig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duce a conceptual schema for the datab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volves two parallel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ceptual Schema Desig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nsaction and Application Desig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lete understanding of the database structure, semantics, interrelationships and constrai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rves as a stable description of the database cont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od understanding crucial for the users and desig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rammatic description serves as an excellent communication t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B9E0CAFC-9B17-485B-9D1D-F527EDC7CE6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esired Characteristics of Conceptual Data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ve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ble to distinguish different types of data, relationships and constrai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mplicity and Understandabi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sy to understan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nim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mall number of distinct basic concep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rammatic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agrammatic notation for representing conceptu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l unambiguous specification of da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238F331A-2000-4291-A7D9-DAE735731AE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pproaches to Conceptual Schema Desig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ntralized Schema Design Approa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 known as one-shot approa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quirements of different applications and user groups are merged into a single set of requirements and a single schema is design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ime consuming, places the burden on DBA to reconcile conflic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ew Integration Approa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chema is designed for each user group or appl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se schemas are then merged into a global conceptual schema during the view integration ph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re pract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3D242EEA-2FEE-46B9-BE64-1DB18C845EE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rategies for Schema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600200"/>
            <a:ext cx="311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p Down Strate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art with a schema containing high-level abstractions and then apply successive top-down refinem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7E56C37F-6DBE-4CD2-B52C-C92B02A4E9F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fig12_02"/>
          <p:cNvPicPr/>
          <p:nvPr/>
        </p:nvPicPr>
        <p:blipFill>
          <a:blip r:embed="rId1"/>
          <a:stretch/>
        </p:blipFill>
        <p:spPr>
          <a:xfrm>
            <a:off x="3657600" y="1600200"/>
            <a:ext cx="495288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es for Schema Design (contd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9400" y="1600200"/>
            <a:ext cx="2732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tom-Up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rt with a schema containing basics abstractions and then combine or add to these abstr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A138C28A-1D9B-41BA-947C-D92FF267083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fig12_03"/>
          <p:cNvPicPr/>
          <p:nvPr/>
        </p:nvPicPr>
        <p:blipFill>
          <a:blip r:embed="rId1"/>
          <a:stretch/>
        </p:blipFill>
        <p:spPr>
          <a:xfrm>
            <a:off x="3505320" y="1600200"/>
            <a:ext cx="52941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es for Schema Design (contd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ide-out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rt with central set of concepts and then spread outward by considering new concepts in the vicinity of existing 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xed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a combination of top-down and bottom-up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CA1B7AC8-E5A2-44C3-9E53-2E74FE13D51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hema Integ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dentifying correspondence and conflict among different schem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ming conflic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ynonyms: The same concept but different nam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63520" indent="-2052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.g. entity types CUSTOMER and CLIEN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omonyms: Different concepts but same nam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63520" indent="-2052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.g. entity type PART as computer parts and furniture part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ype Conflicts: Representing the same concept by different modeling construc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.g. DEPARTMENT may be an entity type and an attrib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main Conflicts: Attribute has different doma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so known as value set conflic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.g. SSN as an integer and as a character str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flict among constraints: Two schemas impose different constrai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.g. different key of  an entity type in different schem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8FB3DF46-CF02-4E41-A283-4265E855C11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 System Life 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ses of Database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ML Diagra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tional Ro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395"/>
                </a:solidFill>
                <a:latin typeface="Arial"/>
              </a:rPr>
              <a:t>Slide 12- </a:t>
            </a:r>
            <a:fld id="{06A6E588-FC18-4FB4-9937-DAF234D76D7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hema Integration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ing views to conform to one anot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difying schemas to conform to one anoth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rging of vie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erging Schemas to create a glob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ecifying mappings between views and glob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ime consuming and diffic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tructur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implifying and restructuring to remove any redundan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C9FB8673-50B6-4F24-A810-ABA1A89D12F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22734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Modifying views to conform before integration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6" descr="_x0012_31755_FIG1604a.gif                                             0001035B_x0006_Eeyore                         B91DCF3B:"/>
          <p:cNvPicPr/>
          <p:nvPr/>
        </p:nvPicPr>
        <p:blipFill>
          <a:blip r:embed="rId1"/>
          <a:stretch/>
        </p:blipFill>
        <p:spPr>
          <a:xfrm>
            <a:off x="2981160" y="695160"/>
            <a:ext cx="5908680" cy="540072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</a:t>
            </a:r>
            <a:fld id="{2EAB7F87-E299-4DB1-9AD7-779BBE235CB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4" descr="_x0012_31755_FIG1604b.gif                                             0001035B_x0006_Eeyore                         B91DCF3B:"/>
          <p:cNvPicPr/>
          <p:nvPr/>
        </p:nvPicPr>
        <p:blipFill>
          <a:blip r:embed="rId1"/>
          <a:stretch/>
        </p:blipFill>
        <p:spPr>
          <a:xfrm>
            <a:off x="649440" y="1935000"/>
            <a:ext cx="7845120" cy="438948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</a:t>
            </a:r>
            <a:fld id="{C04D7A3A-D1A5-4104-9691-BE8901238BA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grated schema after merging views 1 and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4" descr="_x0011_31755_FIG1605.gif                                              0001035B_x0006_Eeyore                         B91DCF3B:"/>
          <p:cNvPicPr/>
          <p:nvPr/>
        </p:nvPicPr>
        <p:blipFill>
          <a:blip r:embed="rId1"/>
          <a:stretch/>
        </p:blipFill>
        <p:spPr>
          <a:xfrm>
            <a:off x="457200" y="2619360"/>
            <a:ext cx="8229600" cy="302112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</a:t>
            </a:r>
            <a:fld id="{174C2AD1-C332-4428-B34D-A470352C6EE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iew Integration Strategi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nary Ladder Integ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similar schemas are integrated first and the resulting schema is then integrated with another sche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ocess is repeated until all schemas are integr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-ary Integ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views are integrated in one procedure after analysis and specification of their correspond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quires computerized tools for large desig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36A12447-D4CC-47FD-9B90-257110F4988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iew Integration Strategies 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ary Balanced Strate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airs of schemas are integrated first and the resulting schemas are then paired for further integr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process is repeated until a final glob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xed Strate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chemas are partitioned into groups based on their similarity and each group is integrated separatel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process is repeated until a final global sch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AFB872E2-F0CD-4B11-A5AB-1186072ECEE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iew Integration Strategies 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A9EFECDF-7CD3-480E-BB72-B8769A3BE74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fig12_06"/>
          <p:cNvPicPr/>
          <p:nvPr/>
        </p:nvPicPr>
        <p:blipFill>
          <a:blip r:embed="rId1"/>
          <a:stretch/>
        </p:blipFill>
        <p:spPr>
          <a:xfrm>
            <a:off x="1523880" y="1600200"/>
            <a:ext cx="5639040" cy="48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ansaction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 characteristics of known database transactions in a DB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s of Trans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trieval Transa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sed to retrieve d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pdate Transa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date d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xed Transa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bination of update and retriev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chniques for Specifying Trans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put/outpu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unctional Behavi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316B0752-B5BB-4F28-A3E8-CCF80DC1563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3-Choice of DBM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factors to cons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chnical Facto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ype of DBMS: Relational, object-relational, object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orage Structu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chitectural o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conomic Facto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quisition, maintenance, training and operating cos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tabase creation and conversion co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zational Facto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ganizational philosoph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75400" indent="-20736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lational or Object Orient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75400" indent="-20736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endor Preferen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amiliarity of staff with the syste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vailability of vendor servi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268ACCCF-3FC4-42F3-A598-9986F6CAD2A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4-Logical Database Desig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form the Schema from high-level data model into the data model of the selected DB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 of external schemas for specific applic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st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ystem-independent mapp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BMS independent mapp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iloring the schemas to a specific DB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justing the schemas obtained in step 1 to conform to the specific implementation features of the data model used in the selected DB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DL statements in the language of the chosen DB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D79EBC8E-C8D4-4868-9E1E-678C7E55DFC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rganizational Context for using Database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olidation and integration of data across organiz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intenance of complex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mplicity of developing new applic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ta indepen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tecting application programs from changes in the underlying logical organization and in the physical access paths and storage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 Sche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ow the same data to be used for multiple applications with each application having its own view of the da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156477E8-5B90-4318-A585-11657D6DE37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5-Physical Database Desig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sign the specifications for the stored database in terms of physical storage structures, record placements and index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sign Crite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se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lapsed Time between submitting a database transaction for execution and receiving a respon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ace Utiliz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orage space used by database files and their access path structu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nsaction throughpu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verage number of transactions/min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ust be measured under peak condi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itial determination of storage structures and access paths for database fi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E49A82D7-5088-4A22-830C-56D09657CC6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6- Database System Implementation and Tun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ring this phase database and application programs are implemented, tested and deploy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base Tu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 and Performance Monito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ta index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organiz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ning is a continuous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F02BCBFD-068B-4637-8DDE-257A9D6DAAD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ML Diagr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ss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pture the static structure of the syste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resent classes, Interfaces, dependencies, generalizations and other relationshi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bject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how a set of objects and their relationshi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onent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how the organizations and dependencies among software compon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ployment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resent the distribution of components across the hardware top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8EB3397E-446B-4F2A-8853-BC5292FF5E2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ass diagram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Picture 2" descr="Pink tissue paper"/>
          <p:cNvPicPr/>
          <p:nvPr/>
        </p:nvPicPr>
        <p:blipFill>
          <a:blip r:embed="rId1"/>
          <a:srcRect l="20268" t="20910" r="19243" b="21675"/>
          <a:stretch/>
        </p:blipFill>
        <p:spPr>
          <a:xfrm>
            <a:off x="641520" y="1700280"/>
            <a:ext cx="7283160" cy="4321080"/>
          </a:xfrm>
          <a:prstGeom prst="rect">
            <a:avLst/>
          </a:prstGeom>
          <a:ln w="0">
            <a:noFill/>
          </a:ln>
        </p:spPr>
      </p:pic>
      <p:sp>
        <p:nvSpPr>
          <p:cNvPr id="31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89FBEEE6-840E-43BA-9DCD-919CDADD892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94284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bject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Picture 2" descr="Pink tissue paper"/>
          <p:cNvPicPr/>
          <p:nvPr/>
        </p:nvPicPr>
        <p:blipFill>
          <a:blip r:embed="rId1"/>
          <a:srcRect l="27443" t="42236" r="28470" b="24959"/>
          <a:stretch/>
        </p:blipFill>
        <p:spPr>
          <a:xfrm>
            <a:off x="636480" y="2205000"/>
            <a:ext cx="8050320" cy="3745080"/>
          </a:xfrm>
          <a:prstGeom prst="rect">
            <a:avLst/>
          </a:prstGeom>
          <a:ln w="0">
            <a:noFill/>
          </a:ln>
        </p:spPr>
      </p:pic>
      <p:sp>
        <p:nvSpPr>
          <p:cNvPr id="31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2826F05A-7CAF-4A30-AB45-B565CA3D65C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923400"/>
            <a:ext cx="779616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omponent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Content Placeholder 4" descr="p8.jpg"/>
          <p:cNvPicPr/>
          <p:nvPr/>
        </p:nvPicPr>
        <p:blipFill>
          <a:blip r:embed="rId1"/>
          <a:stretch/>
        </p:blipFill>
        <p:spPr>
          <a:xfrm>
            <a:off x="1619280" y="1916280"/>
            <a:ext cx="5622840" cy="333360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7053615C-0538-466F-8740-0213D80D3F5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74916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eployment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4" name="Content Placeholder 4" descr="p9.jpg"/>
          <p:cNvPicPr/>
          <p:nvPr/>
        </p:nvPicPr>
        <p:blipFill>
          <a:blip r:embed="rId1"/>
          <a:stretch/>
        </p:blipFill>
        <p:spPr>
          <a:xfrm>
            <a:off x="1116000" y="1741320"/>
            <a:ext cx="6908760" cy="4013280"/>
          </a:xfrm>
          <a:prstGeom prst="rect">
            <a:avLst/>
          </a:prstGeom>
          <a:ln w="0">
            <a:noFill/>
          </a:ln>
        </p:spPr>
      </p:pic>
      <p:sp>
        <p:nvSpPr>
          <p:cNvPr id="32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E6A54CB1-5412-4D7C-B549-DFECCA7E2E0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UML Diagrams (contd.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del the functional interactions between users and syste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scribe scenarios of u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rve as a communication tool between users and develop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resent interactions between various objects over ti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late uses cases and class diagra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86646BA8-240B-4C96-A050-8D7B68D84DB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7280" y="94284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 Case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0" name="Picture 2" descr="Pink tissue paper"/>
          <p:cNvPicPr/>
          <p:nvPr/>
        </p:nvPicPr>
        <p:blipFill>
          <a:blip r:embed="rId1"/>
          <a:srcRect l="26418" t="35673" r="22317" b="15113"/>
          <a:stretch/>
        </p:blipFill>
        <p:spPr>
          <a:xfrm>
            <a:off x="1547640" y="2205000"/>
            <a:ext cx="6210360" cy="372600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3286345A-0370-4BDB-8139-F83C82AA997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equence Diagram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3" name="Content Placeholder 4" descr="p5.jpg"/>
          <p:cNvPicPr/>
          <p:nvPr/>
        </p:nvPicPr>
        <p:blipFill>
          <a:blip r:embed="rId1"/>
          <a:stretch/>
        </p:blipFill>
        <p:spPr>
          <a:xfrm>
            <a:off x="947880" y="1530360"/>
            <a:ext cx="6475320" cy="487044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1D83DA9F-9D98-4128-84CA-5ECCF805E6F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formation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 System includes all resources involved in the collection, management, use and dissemination of the information resources of the organ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consider two systems life cycl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cro Life Cy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nformation System Life Cyc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cro Life Cy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atabase System Life Cyc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7A63CFE-87EF-4A5B-9E0F-29866F8A49F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UML Diagrams (contd.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aboratio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resent interactions between objects as a series of sequenced messag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techart Dia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scribe how an object’s state changes in response to external ev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sist of states, transitions, actions, activities and ev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7556FC81-0D64-4EE6-B5DD-AED5DA6DF78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39760" y="83664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ollaboration Diagram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9" name="Content Placeholder 4" descr="p3.jpg"/>
          <p:cNvPicPr/>
          <p:nvPr/>
        </p:nvPicPr>
        <p:blipFill>
          <a:blip r:embed="rId1"/>
          <a:stretch/>
        </p:blipFill>
        <p:spPr>
          <a:xfrm>
            <a:off x="755640" y="1533600"/>
            <a:ext cx="6775560" cy="532440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E361A6CC-4509-4DB3-A133-692C3C7FBDB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atechart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BE5673AB-6B90-4721-82AD-F59B854F0F5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9" descr="fig12_10"/>
          <p:cNvPicPr/>
          <p:nvPr/>
        </p:nvPicPr>
        <p:blipFill>
          <a:blip r:embed="rId1"/>
          <a:stretch/>
        </p:blipFill>
        <p:spPr>
          <a:xfrm>
            <a:off x="380880" y="1676520"/>
            <a:ext cx="8153640" cy="46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UML Diagrams (contd.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ity Diagra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l the flow of control from activity to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owcharts with st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4790CC3-F9DC-4768-90A7-A7F7523FE13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activity_diagram.gif"/>
          <p:cNvPicPr/>
          <p:nvPr/>
        </p:nvPicPr>
        <p:blipFill>
          <a:blip r:embed="rId1"/>
          <a:stretch/>
        </p:blipFill>
        <p:spPr>
          <a:xfrm>
            <a:off x="4419720" y="2565360"/>
            <a:ext cx="41148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ational Ros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ML based modeling tool for designing datab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17800BB4-7779-4010-9ECD-3D9C8CD5CCE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(contd.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F243193-5369-464C-B123-6E998ED2499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fig12_13"/>
          <p:cNvPicPr/>
          <p:nvPr/>
        </p:nvPicPr>
        <p:blipFill>
          <a:blip r:embed="rId1"/>
          <a:stretch/>
        </p:blipFill>
        <p:spPr>
          <a:xfrm>
            <a:off x="1676520" y="1604880"/>
            <a:ext cx="56386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8" descr="fig12_14"/>
          <p:cNvPicPr/>
          <p:nvPr/>
        </p:nvPicPr>
        <p:blipFill>
          <a:blip r:embed="rId1"/>
          <a:stretch/>
        </p:blipFill>
        <p:spPr>
          <a:xfrm>
            <a:off x="1676520" y="1523880"/>
            <a:ext cx="7086600" cy="49975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contd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39760" y="1600200"/>
            <a:ext cx="250344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deling ER diagrams in UML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 schema from the company example in chapter 3 can be drawn in Rational Rose using UML not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77A75074-A04D-44EB-A5D7-FC573009F60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eps the data model and database synchroniz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ives the option of updating the model or changing the datab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Extensive Domain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ows database designers to create a standard set of user-defined typ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ows Converting between logical and object model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ows easy communication between various developing and design te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vides a common tool and platform to designers and develop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tional Rose Web Publis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710F19BD-5F60-4F8F-B207-4216B137E1F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hases of Information System Life Cycl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sibility Analy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lyzing potential application are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ntifying the economics of information gathering and dissemin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erforming cost benefit stud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tting up priorities among applica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quirement Collection and Analy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tailed Requirements Colle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action with Us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sign of Database Syste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sign of programs that use and process the databa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68D9A5AD-47EF-4013-9E11-1BCD4BCC36F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hases of Information System Life Cycle (contd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ormation system is implement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base is loaded &amp; its transactions are implemented and test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lidation and Acceptance Tes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ing against user’s requirem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ing against performance crite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ployment, Operation and Mainte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 convers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ystem mainten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erformance monitor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base tu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BEAC845-9F66-4246-A405-DB809B29AE0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abase System Life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 defin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fining scope of database system, its users and applica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tabase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ogical and physical design of the database system on the chosen DB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tabase imple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ecifying conceptual, external and internal database defini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ing empty database fi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lementing software applica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5EAAB663-9FE8-46AF-9EA8-0134F7C8A44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atabase System Life Cycle (contd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ading or data conver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pulating the datab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conver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rting applications to the new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ing and valid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unning the new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itoring and mainten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 mainte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formance monito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6E0B879F-261C-467D-A2EB-CEE7F3EBAC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abase Design Proces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 the logical and physical structure of one or more databases to accommodate the information needs of the users in an organization for a defined set of applica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tisfy the content requir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easy structuring of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port processing requirements and performance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2- </a:t>
            </a:r>
            <a:fld id="{94B32894-D30F-4212-9CC2-4EED8B1D162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85800" y="1747800"/>
            <a:ext cx="80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461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User</cp:lastModifiedBy>
  <cp:lastPrinted>2001-11-04T00:51:13Z</cp:lastPrinted>
  <dcterms:modified xsi:type="dcterms:W3CDTF">2016-10-23T12:08:46Z</dcterms:modified>
  <cp:revision>115</cp:revision>
  <dc:subject>Practical Database Design Methodology and Use of UML Diagrams</dc:subject>
  <dc:title>Chapter 12</dc:title>
</cp:coreProperties>
</file>