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6BE-58D1-47F0-8FA6-945F48EB26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CDAC-4156-476E-A899-E7347543AD1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Header Placeholder 3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013-C7BD-42A2-B744-25EC607331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FDC-B444-48F7-BEB1-DD40433B74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2EA-BB7D-401D-8E9C-D6898A30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D65-7D17-4C15-B654-A382E652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C1F-6CAB-4FCD-9969-18DA2E82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8EE-9ADD-4BA3-AA7B-24888EA3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198E-EBB4-42E1-831A-8F5972DC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F179-0586-4E39-8C29-939C9146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F8F-4189-4867-90DD-C46C810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25E-ABF9-4FB5-86F1-5812FA5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10AF-356F-4C70-97E6-7E2E12A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A0F-D6E2-4E7F-B395-EC02EC7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1B9E-F09F-4AE8-A9E7-EB78B11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AD6-55FC-42FB-94E5-E7F9EE5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6F8-CC5B-4763-B128-1D41D63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10DB-9885-45E2-AFB5-26C64F0B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35B5-48C3-4F6A-BE92-0A8D3DB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0204-E623-4044-A405-9185454C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02B-A7BC-4623-9D6A-CAEAE721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7E8-B1AF-482C-AF01-F2772953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ED0-AE13-4CFC-B5A0-0B88687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703-5899-44E9-B470-18D698E2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A6C-A266-49E6-9805-1BCBBFC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2E1-2437-44EE-92C7-160BBF1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26E-D644-44CD-BA06-A4C0277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758-94CA-45A2-ADD0-FDC7227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EC3A-4E9F-4E90-B822-3DAA479A36F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338-676A-4D13-A56C-5621984CF78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3CF-B8B8-4240-8A89-AD7085AF0B5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87E-C38E-425C-968D-CA9C0847A051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BC2-74CC-4413-BA33-81BD7B8E220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e-school children growth &amp; development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6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3D2-F813-41BB-9E20-26F9E1701D7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gained about 4.4 lb (2 kg) and grown about 3 in. (8 cm) since turning 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s his or her address and phone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s to please others and have fri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5-year-olds can dress and undres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D03-E1C7-44F5-804A-CA4E011AF1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457200" y="838080"/>
            <a:ext cx="8153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By 5 years age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romoting Healthy Growth and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guide your children by talking and reading to them, providing opportunities for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82B9-A241-4795-B3F9-04B686EAD3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ing opportunities for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eating habi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FFD-7877-44C1-846B-749FAF85DF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72320" y="609480"/>
            <a:ext cx="61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omote physical development by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Promote cognitive development by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: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ing safe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who explore learn to master new skills and solv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ing a sense of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ense of trust lays the foundation for learning, social skills, adaptability, and emotional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E29D-4F5B-47DF-934A-5A4A7FF552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peer cont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learn to share, cooperate, and negot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ng self-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need guidance, clear lim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ing your child build self-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nts have the greatest influence on a child's belief about himself or her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F99-4EF6-4449-9666-40E108DE8D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8200" y="68580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romote emotional and social developmen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romote language development by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ing to your child at every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ing exposes your child to the sounds and rhythm of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opportunities to talk with others → helps a child to understand and use langu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D634-AFC3-45B0-BF25-289FD58A70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15364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Promote sensory and motor development by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a wide variety of experiences and play enviro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your child's senses by introducing new sights, smells, sounds, and tastes as often as you 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2AA5-2BB4-41B8-8274-52AEDF77EE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ABBD-EA14-43F0-BDFF-C616253C524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chool age children growth &amp; development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4665-1BF0-4213-A14A-07EEEFEF089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B69-651A-4096-B0E5-AF62D80518AE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o are school-age children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ol-age children are those 6 to 12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E039-6C15-430F-86B6-E77E66C85AE2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dy make-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's body continues to change as he grows ol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is the period where the body matures sexu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hair starts to grow--- develop breast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tru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may start as early as seven years of age in girls, and nine years of age in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3327-DC63-494C-94C1-7C3E5A6B328D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between the ages of  3 and 6 change dramatically in five major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otional , soci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ing and reasoning skills (called cognitive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y and motor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49C-4C8D-4891-9F91-294E44F9E6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053440" y="533520"/>
            <a:ext cx="54295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General development betw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ges 3 and 6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vement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othness and speed with physical activities allow him to participate in s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1C9-B2DF-46A1-AA22-F99A8634F082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ight and heigh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start of the school-age years, a child's height may be about 43 inches. Weight may be about 43 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, a child's height may reach 59 inches at age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ls are likely to weigh more than boys. Girls may weigh about 93 pounds while boys may weigh about 89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hysic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B6F-0F02-4DBB-95C4-ECE77C310A9B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ng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early as six years of age, child may be able to read single words and understand what he is rea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, he may be able to read fluently and pronounce words correc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BBE8-1065-4073-B0D2-7B3671574715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inking ski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school-age years, child begins to think logic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is able to follow more complex directions and rules, and solve some problems b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F2A-EBA2-4D42-BE2D-C708C0490180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ment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oughts and id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the school-age years, child may develop fears of the unkn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mi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child spends more time with his friends, the influence of family is not as strong as it used to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7E8E-F2EA-4327-8E4A-D61293B64D77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social changes occur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rien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is likely to have same-sex friends. He begins to share secrets with friends he can t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support him as he faces other stressful life experi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cho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chool, child becomes eager to learn new things on his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8905-F30A-487B-BB93-17D0DAB8ED32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motional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ild may get anxious because of school conce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ck of sl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eep problems may be caused by breathing problems, too much anxiety, or poor sleep scheduling and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230-29B2-440C-B8F5-109935882CCC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arning difficult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affecting the brai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lings of loneliness and rejection may also decrease child's desire to lea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662-4887-4BD6-BEC1-F201269F7CE5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oor nutrition or not enough physical activity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may prefer fast food or junk food, or lack physical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an result to being underweight, overweight, or at risk of growing over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conditions may lead to medical problems, such as diabetes, hypertension, and hyperlipid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3C16-768D-49DC-88F9-48EAB7D6B64B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hat problems may be seen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cial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seen in children with certain medical conditions, such as attention deficit hyperactive disorder (ADH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AC8-1FA1-42F8-A6DF-BEB785E7CBFD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hildren at this age play near each other rather than with each other (this is called parallel pla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5, most children seek and enjoy friendshi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year-olds start to recognize the differences between boys and gi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DD57-56A8-4F15-9C50-807C80B213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42520" y="685800"/>
            <a:ext cx="6310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Emotional and Social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How can we help child during the school-age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hild to exercise for at least one hour every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hild to try different creative activities. These may include working on a hobby or art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involved in child’s activities. Spend time with hi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child eats a variety of healthy foods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out may be used as a way to discipline chil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C66-12F8-4B11-B4BA-992D07762573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Physical development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s down from the rapid growth during infan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es from a simple to more complex understanding of time, letters, counting, and co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845-70BE-473D-B477-4D09BFBB41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2 → can say at least 50 wor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ge 3 → can speak between 150 and 200 words    → can follow two-part directions, such as "Wash your face and put your shoes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5-year-olds → can carry on a convers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3F5D-C021-40BA-A2E0-A4D87C5A1E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664000" y="685800"/>
            <a:ext cx="42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Languag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Sensory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learn to dress themselves and handle their toilet needs independ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7434-FF58-4D54-995C-AE3CC39C18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Milestones by 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50E3-8056-48A7-A4FF-96EACC390939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15328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By 3 years age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s 3-step instru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s his or her name, age, and sex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from you easil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terested in or has completed toilet training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4- to 5-word senten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mps, runs, climbs, pedals a tricycle, and kicks a 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C49-0E00-4CEC-A5EB-7D7E61F4C7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ined about 4.4 lb (2 kg) and grown about 3 in. (8 cm) since turning 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ay his or her name, identify some basic colors, and match things that are the s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imag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s in sentences with at least 5 or 6 words, tells sto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s on one foot, rides a tr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F26F-1CED-4C63-82DB-2B028C82E8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457200" y="838080"/>
            <a:ext cx="81532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By 4 years age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32:15Z</dcterms:created>
  <dc:creator>Maneer</dc:creator>
  <dc:description/>
  <dc:language>en-US</dc:language>
  <cp:lastModifiedBy>Othman Jawdat Taani</cp:lastModifiedBy>
  <dcterms:modified xsi:type="dcterms:W3CDTF">2017-09-17T07:29:11Z</dcterms:modified>
  <cp:revision>22</cp:revision>
  <dc:subject/>
  <dc:title>Pre-school children growth &amp; development</dc:title>
</cp:coreProperties>
</file>