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9476-0F00-4991-BF59-4E061187F9E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5E71-DF0F-4FF2-858D-B773D11116B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Header Placeholder 3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WTH &amp; DEVELOPMENT (NUR 35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24C5-7868-4D5D-9EBB-BF4084312A8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9DFB-C822-45BC-935D-45207FA7172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1D47-19FF-4855-BBC3-3046A453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D18B-306C-42F4-BA91-73DABD39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80CC-879B-49D1-81B0-6062A13F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7BEA-BB01-40C7-A213-DCA0B42E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F413-8B79-41D4-B2D3-B9D4688F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F27E-8E49-4C24-BBDB-FD031E1E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C42A-D682-4225-92E1-6886241E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2FB3-8D15-44B6-99A6-86417CAB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B292-58AA-4172-AFF0-6F9F5134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B058-761F-47F4-B4ED-7B4330C5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84C2-9814-4527-9B68-B73BCA7B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D055-307A-4C00-A52E-A1DD493B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2D1F-4161-475B-A1F3-E41DB3B6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3F51-DC38-4F42-8283-5434F6B7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9BB9-9CA2-40C5-B159-2C3CD8E1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7673-0E49-4CA1-BE73-3F9ADBE4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7919-D2A5-42F1-BF4D-86C6257A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48D1-984C-4EDE-9D29-79E9A7B9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DBAC-D308-41CC-AA07-42F93B5B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1D7D-5F1C-4B17-B2AF-F1C46761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D2B7-4B02-44AF-AA59-B3723150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CBB3-C4F5-4D59-B0A7-574724C7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65F9-B1BA-4D65-85B6-EEC89B66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09DF-F342-4D4C-8F49-2ADFA525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6301-4A3B-4198-A500-9AD13B8D7D1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B670-9E6B-4BD7-BB4B-A4C1727A4D54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9F6A-3425-4807-9D56-5AF19D76A8F8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7655-7D80-4A10-A401-6DEA628CCA88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6D66-97F6-408A-A7E7-E17E4766EDAF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123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Pre-school children growth &amp; development</a:t>
            </a:r>
            <a:br>
              <a:rPr sz="4400"/>
            </a:b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cture 6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7898-38F3-4F33-A2B4-CC7035597DD4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584000" y="1803240"/>
            <a:ext cx="609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man Growth and Development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UR 31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s gained about 4.4 lb (2 kg) and grown about 3 in. (8 cm) since turning 4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s his or her address and phone numb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s to please others and have frie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5-year-olds can dress and undress themse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9DA0-A1FF-4734-8557-1258A172AD9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457200" y="838080"/>
            <a:ext cx="81532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By 5 years age</a:t>
            </a: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Promoting Healthy Growth and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guide your children by talking and reading to them, providing opportunities for pl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3DD0-C874-4F07-B2D9-FD9250EEFDD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ering opportunities for exerci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lthy eating habi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4167-55DF-420A-A8D1-54445FFFBA6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372320" y="609480"/>
            <a:ext cx="618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Promote physical development by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33cc33"/>
                </a:solidFill>
                <a:latin typeface="Times New Roman"/>
              </a:rPr>
              <a:t>Promote cognitive development by</a:t>
            </a:r>
            <a:r>
              <a:rPr b="1" lang="en-US" sz="2900" spc="-1" strike="noStrike">
                <a:solidFill>
                  <a:srgbClr val="33cc33"/>
                </a:solidFill>
                <a:latin typeface="Times New Roman"/>
              </a:rPr>
              <a:t>: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ouraging safe expl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who explore learn to master new skills and solve probl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ouraging a sense of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sense of trust lays the foundation for learning, social skills, adaptability, and emotional develop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AFD0-40A4-4237-B353-5F4A296745E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33520" y="18288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ing peer conta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learn to share, cooperate, and negoti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ting self-contr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need guidance, clear limi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ing your child build self-este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ents have the greatest influence on a child's belief about himself or hersel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A122-8378-4DCB-914B-2C5BF178A7B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48200" y="685800"/>
            <a:ext cx="831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Promote emotional and social development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Promote language development by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ing to your child at every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ing exposes your child to the sounds and rhythm of langu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ing opportunities to talk with others → helps a child to understand and use langua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9FC6-25AB-4A29-8DEB-DBF2035D433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990720"/>
            <a:ext cx="8153640" cy="25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cc33"/>
                </a:solidFill>
                <a:latin typeface="Times New Roman"/>
              </a:rPr>
              <a:t>Promote sensory and motor development by</a:t>
            </a:r>
            <a:r>
              <a:rPr b="1" lang="en-US" sz="2900" spc="-1" strike="noStrike">
                <a:solidFill>
                  <a:srgbClr val="33cc33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ing a wide variety of experiences and play environ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imulate your child's senses by introducing new sights, smells, sounds, and tastes as often as you c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1BAE-BC3F-41E3-BDF4-6BAEC8720E6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703E-AFF2-4D9E-A8BB-86C633FCCA68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3123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School age children growth &amp; development</a:t>
            </a:r>
            <a:br>
              <a:rPr sz="4400"/>
            </a:b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cture 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5957-9643-47D7-A1D2-6414F74751C9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584000" y="1803240"/>
            <a:ext cx="609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man Growth and Development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UR 31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08DF-9210-412C-B4CC-8BFCCAA9FD29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Who are school-age children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?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ool-age children are those 6 to 12 years of 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5EAE-B710-440A-906F-679393EECEE3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What physical changes occur during the school-age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ody make-u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's body continues to change as he grows ol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erty is the period where the body matures sexua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dy hair starts to grow--- develop breasts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strua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erty may start as early as seven years of age in girls, and nine years of age in bo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7478-52C4-4961-9202-2D7C29ED83E0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between the ages of  3 and 6 change dramatically in five major are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otional , social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al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king and reasoning skills (called cognitive develop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ory and motor develop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204C-15BB-4CAF-B283-B7F68E6DD85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053440" y="533520"/>
            <a:ext cx="542952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General development betw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ages 3 and 6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What physical changes occur during the school-age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ovement skil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oothness and speed with physical activities allow him to participate in spo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02FB-CA4F-452F-85E2-7388A4B6E20E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eight and heigh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start of the school-age years, a child's height may be about 43 inches. Weight may be about 43 pou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r, a child's height may reach 59 inches at age 1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rls are likely to weigh more than boys. Girls may weigh about 93 pounds while boys may weigh about 89 p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What physical changes occur during the school-age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4204-C010-4520-835D-376E5F702518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What mental changes occur during the school-age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ading skil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early as six years of age, child may be able to read single words and understand what he is rea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r, he may be able to read fluently and pronounce words correct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C411-30E6-4CCF-9053-FD5239848FD5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What mental changes occur during the school-age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hinking skil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the school-age years, child begins to think logica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 is able to follow more complex directions and rules, and solve some problems bet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2F27-70A7-441F-9391-568D409150CB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What mental changes occur during the school-age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houghts and ide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ing the school-age years, child may develop fears of the unkn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amil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child spends more time with his friends, the influence of family is not as strong as it used to 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E36E-2856-4C95-8986-2A0081723927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What social changes occur during the school-age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riend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 is likely to have same-sex friends. He begins to share secrets with friends he can t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support him as he faces other stressful life experie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choo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school, child becomes eager to learn new things on his 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9CB1-B057-4C19-B9CB-ABACC74F449F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What problems may be seen during the school-age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motional proble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hild may get anxious because of school concer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ck of slee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eep problems may be caused by breathing problems, too much anxiety, or poor sleep scheduling and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FBE5-E605-436F-A014-F49233310441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What problems may be seen during the school-age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earning difficult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s affecting the brain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lings of loneliness and rejection may also decrease child's desire to lea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FF2A-5F0B-434E-853C-1397D1738E34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What problems may be seen during the school-age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oor nutrition or not enough physical activity: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 may prefer fast food or junk food, or lack physical activ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can result to being underweight, overweight, or at risk of growing overwe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se conditions may lead to medical problems, such as diabetes, hypertension, and hyperlipidem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B817-51B6-42C1-8967-D712F549E999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What problems may be seen during the school-age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ocial proble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seen in children with certain medical conditions, such as attention deficit hyperactive disorder (ADH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82F3-258C-44B8-9109-4DC1D7E1F2A3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hildren at this age play near each other rather than with each other (this is called parallel play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age 5, most children seek and enjoy friendship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-year-olds start to recognize the differences between boys and gir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25B3-1C66-4E65-93B7-B44DEC56B4D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1442520" y="685800"/>
            <a:ext cx="6310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Emotional and Social develop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How can we help child during the school-age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 child to exercise for at least one hour everyda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 child to try different creative activities. These may include working on a hobby or art proj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involved in child’s activities. Spend time with hi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sure child eats a variety of healthy foods each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ime out may be used as a way to discipline child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13C3-7B5A-4112-9EEA-8C0688019B07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1066680"/>
            <a:ext cx="8153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Physical development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ws down from the rapid growth during infanc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Cognitive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esses from a simple to more complex understanding of time, letters, counting, and col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F537-91C4-4B66-A584-A6981EA9430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age 2 → can say at least 50 word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age 3 → can speak between 150 and 200 words    → can follow two-part directions, such as "Wash your face and put your shoes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5-year-olds → can carry on a convers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7DC5-5371-4AE1-865F-B8D7EAD3FF9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664000" y="685800"/>
            <a:ext cx="421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Language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Sensory and motor ski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dually learn to dress themselves and handle their toilet needs independen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C203-F720-4DC1-B43B-681D9D45109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Milestones by 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F374-DF9C-4694-AEA9-21F797B9960B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153280" cy="4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By 3 years age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stands 3-step instru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s his or her name, age, and sex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s from you easily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interested in or has completed toilet training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4- to 5-word sentenc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mps, runs, climbs, pedals a tricycle, and kicks a bal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F6DD-9A2E-4441-8CE2-3FD67F63BC6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ined about 4.4 lb (2 kg) and grown about 3 in. (8 cm) since turning 3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say his or her name, identify some basic colors, and match things that are the sa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imag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aks in sentences with at least 5 or 6 words, tells stori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ps on one foot, rides a tri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7F31-82E5-484B-8BCF-D7886ED349F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itle 1"/>
          <p:cNvSpPr/>
          <p:nvPr/>
        </p:nvSpPr>
        <p:spPr>
          <a:xfrm>
            <a:off x="457200" y="838080"/>
            <a:ext cx="81532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By 4 years age</a:t>
            </a: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2:32:15Z</dcterms:created>
  <dc:creator>Maneer</dc:creator>
  <dc:description/>
  <dc:language>en-US</dc:language>
  <cp:lastModifiedBy>Othman Jawdat Taani</cp:lastModifiedBy>
  <dcterms:modified xsi:type="dcterms:W3CDTF">2017-09-17T07:29:11Z</dcterms:modified>
  <cp:revision>22</cp:revision>
  <dc:subject/>
  <dc:title>Pre-school children growth &amp; development</dc:title>
</cp:coreProperties>
</file>