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C03B-424F-43CA-BACC-2412FE484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D850-7852-4757-A728-02588B36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19A0-373D-4DDB-B167-348A7F933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F3C3-9E8A-4969-9734-6F2358610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2E5C-91F7-44BB-A1A1-C67E8F58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CAEE-1E1B-4349-AB19-DFA237F5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F402-78F2-45DC-A5C5-F1EC9374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21FC-C532-4E17-A635-BB02380F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D66E-D372-4BA7-A260-B17724C7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AD4B-A93D-4EBF-98FD-102E7A7D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FD7D-4BE5-4AE2-ADE7-EEF2E866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FAFF-A923-41E9-91FE-9475E88B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A429-B740-4748-8C85-6DE9D5F7F44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2/Renin-angiotensin-aldosterone_system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b/Renin-angiotensin_system_in_man_shadow.pn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Antihypertensive Ag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si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hypertensive Agents: Mechanism of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888920"/>
            <a:ext cx="7635600" cy="42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renergic 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pha1 Blockers (peripherally ac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the alpha1-adrenergic recep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: vasodilation , improve the flow of urin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ation of alpha1-adrenergic receptor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s hyperte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1240" y="571680"/>
            <a:ext cx="7648560" cy="13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hypertensive Agents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renergic Age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apeutic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pha1 blockers (peripherally act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ment of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ef of symptoms of B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of of severe CHF when us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cardiac glycosides and diure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457200" y="1873080"/>
            <a:ext cx="75438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Side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m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y mou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wsin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d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ip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ach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eep disturba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us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diac disturbances (palpitations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 INCIDENCE OF postural HYPO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Angiotensin-Converting Enzyme Inhib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ACE Inhibit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group of safe and effective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used as first-line agents for CH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yper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combined with a thiazide diuretic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calcium channel bloc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ntihypertensive Agents: Mechanism of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534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E Inhib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AS:  Renin Angiotensin-Aldostero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enzyme angiotensin I is converted to angiotensin II, the result is potent vasoconstriction and stimulation of aldoste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 of vasoconstriction:  increased systemic vascular resistance and increased afterlo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increased 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ntihypertensive Agents:  Mechanism of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 Inhib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 Inhibitors block the angiotensin-converting enzyme, thus preventing the formation of angiotensin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prevent the breakdown of the vasodilating substance, bradykin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:  decreased systemic vascular resistance (afterload), vasodilation, and therefore, decreased blood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File:Renin-angiotensin-aldosterone system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File:Renin-angiotensin system in man shadow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807732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Examples 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ACE Inhibito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topril (Capot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half-life, must be dosed more frequentl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lapril (Vasote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nly ACE inhibitor available in oral and parenteral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inopril (Prinivil and Zestril) and quinapril (Accupri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er agents, long half-lives, once-a-day do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4040" y="609120"/>
            <a:ext cx="81057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herapeutic Uses: ACE Inhib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092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s progression of left ventricular hypertrophy after an 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al protective effects in patients with diab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of choice in hypertensive patients with CH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ndalus"/>
                <a:ea typeface="Andalus"/>
              </a:rPr>
              <a:t>Lecture objective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At the end of this lecture the student well be abl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man Old Style"/>
              </a:rPr>
              <a:t>Describe how blood pressure control norm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man Old Style"/>
              </a:rPr>
              <a:t>List causes of hyperten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man Old Style"/>
              </a:rPr>
              <a:t>Give an example of drug that drugs which lower Bp through different mechan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man Old Style"/>
              </a:rPr>
              <a:t>Discuss nursing implication</a:t>
            </a:r>
            <a:r>
              <a:rPr b="0" lang="en-GB" sz="3200" spc="-1" strike="noStrike">
                <a:solidFill>
                  <a:srgbClr val="000000"/>
                </a:solidFill>
                <a:latin typeface="Bookman Old Style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694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ide Effects: ACE Inhib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3822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3822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ig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3822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zzin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3822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a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3822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d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3822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ired tas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822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y, nonproductive cough, reverses when therapy i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822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 first-dose hypotensive effect may occur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Calcium Channel Block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ium Channel Bloc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 smooth muscle relaxation by blocking the binding of calcium to its receptors, preventing muscle con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auses decreased peripheral smooth muscle tone, decreased systemic vascular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:  decreased blood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ium Channel Bloc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zothiazepi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ltiazem (Cardizem, Dilac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enylalkami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apamil (Calan, Isopt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hydropyridi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lodipine (Norvasc), bepridil (Vascor)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ardipine (Carde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fedipine (Procardia), nimodipine (Nimo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apeutic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cium Channel Bloc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g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srhythm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de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ium Channel Blo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diovas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ension, palpitations, tachycard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trointest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ipation, naus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sh, flushing, peripheral edema, dermat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Diur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 the plasma and extracellular fluid 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d prelo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d cardiac outp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d total peripheral re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all effec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d workload of the heart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decreased blood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 block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interfering SNS they certainly prevent the rise in COP, the ultimate goal of fall in blood pres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crease  renin relase kidn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ering B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amples B block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lective B block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enol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mol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 selecti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pranol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xprenol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bind alpha, B block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betal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de effec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th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rt fail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abe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llucin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hypertensive Agents:  Mechanism of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790640"/>
            <a:ext cx="78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odi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ly relaxes arteriolar smooth mus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d systemic vascular response, decreased afterload, 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PHERAL VASOD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Antihypertensive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tions used to treat hyper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hypertensive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odi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zoxide (Hyperst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alazine HCl (Apreso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oxidil (Loniten, Roga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dium nitroprusside (Nipride, Nitro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hypertensive Agents:  Therapeutic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odi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ment of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used in combination with other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dium nitroprusside and diazoxide IV are reserved for the management of hypertensive emer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hypertensive Agent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d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odi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alaz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zziness, headache, anxiety, tachycardia, nausea and vomiting, diarrhea, anemia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spnea, edema, nasal conges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dium nitroprussi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dycardia, hypotension, possibl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anide tox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hypertensive Agents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rsing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2200"/>
              </a:spcBef>
              <a:spcAft>
                <a:spcPts val="22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beginning therapy, obtain a thorough health history and head-to-toe physical exami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200"/>
              </a:spcBef>
              <a:spcAft>
                <a:spcPts val="22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for contraindications to specific antihypertensive ag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200"/>
              </a:spcBef>
              <a:spcAft>
                <a:spcPts val="22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for conditions that require cautious use of these ag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hypertensive Agents: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rsing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76"/>
              </a:spcBef>
              <a:spcAft>
                <a:spcPts val="15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patients about the importance of not missing a dose and taking the medications exactly as prescri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spcAft>
                <a:spcPts val="15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s should never double up on doses if a dose is missed; check with physician for instructions on what to do if a dose is mis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spcAft>
                <a:spcPts val="15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BP during therapy. Instruct patients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a journal of regular BP che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hypertensive Agents: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rsing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 patients that these drugs should not be stopped abruptly, as this may cause a rebound hypertensive crisis, and perhaps lead to C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al forms should be given with meals so that absorption is more gradual and eff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er IV forms with extreme caution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n IV pum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hypertensive Agents: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rsing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ind patients that medications is only part of therapy. Encourage  patients to watch their diet, stress level, weight, and alcohol int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s should avoid smoking and eating foods high in sodi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supervised exerc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hypertensive Agents: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rsing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 patients to change positions slowly to avoid syncope from postural hypoten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s should report unusual shortness of breath; difficulty breathing; swelling of the feet, ankles, face, or around the eyes; weight gain or loss; chest pain; palpitations; or excessive fatig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hypertensive Agents: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rsing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 taking these agents may not be aware that impotence is an expected effect. This may influence compliance with drug thera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atients are experiencing serious side effects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believe that the dose or medication needs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changed, they should contact their physician immediat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hypertensive Agents: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rsing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t tubs, showers, or baths; hot weather; prolonged sitting or standing; physical exercise; and alcohol ingestion may aggravate low blood pressure, leading to fainting and injury. Patients shoul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 or lie down until symptoms subs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s should not take any other medications, including OTC drugs, without first getting the approval of their physic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Classification of Blood Pressure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1628280"/>
            <a:ext cx="8458200" cy="46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. Primary Hyper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cause unknown, 90% of the cases, Also known as essential or idiopathic hyperten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. Secondary Hyper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 is known (such as eclampsia of pregnancy, renal artery disease, pheochromocytoma) 10% of th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hypertensive Agents: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rsing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for side/adverse effec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izziness, orthostatic hypotension, fatigue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for toxic eff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for therapeutic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pressure should be maintained at les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 140/90 mm 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Pressure = CO x SV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 = Cardiac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R = Systemic vascular resist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blood pressure depend 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ic vascular resistance (sympathet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utput of blood from the heart (sympathetic pulse rate incre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olume and viscosity of the blood.( ACE, diure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rug can lowered blood pres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er the systematic vesicular resist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er C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duce blood volu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 centrally (C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hypertensive Agents: Categ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renergic agents (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ympathetic blocking agen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iotensin-converting enzyme inhib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ium channel bloc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ure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odi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ympathetic blocking ag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ugs Lower the systematic vesicular resist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renergic Ag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pha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lock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xazosin (Cardu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zosin (Minip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azosin (Hytr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07:49:16Z</dcterms:created>
  <dc:creator>AHMAD RAWHI</dc:creator>
  <dc:description/>
  <dc:language>en-US</dc:language>
  <cp:lastModifiedBy>Alharbi</cp:lastModifiedBy>
  <dcterms:modified xsi:type="dcterms:W3CDTF">2016-02-29T08:25:2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