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6EA-DE3A-49A9-AB40-8F5D9593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FE9-B5D1-4A80-9DFA-93C9DA93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AE9-3AD7-4FA6-9BF4-D3C4A277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473-0756-43F6-85FA-FEB7B399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F60-732F-4F20-B5E1-8735439D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F78-75F1-4260-A643-526AF91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417-0040-4E68-8F60-553CF0CA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B5-73BA-4727-BE1F-D53A3B94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86E-5C2D-49E1-9230-10BB0D7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A3E-17A2-4B02-ADB8-FCBDA0A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A3C-5897-4247-8F38-6F6066C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297-409F-4DDF-B1F5-2A91AB8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66C4-5B7B-46AB-B9F8-B965F40715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2/Renin-angiotensin-aldosterone_system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Renin-angiotensin_system_in_man_shadow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ntihypertensive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88920"/>
            <a:ext cx="7635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he alpha1-adrenergic 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vasodilation , improve the flow of ur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alpha1-adrenergic recept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hyper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71680"/>
            <a:ext cx="764856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ergic Ag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f of symptoms of B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of severe CHF wh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rdiac glycosides and 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1873080"/>
            <a:ext cx="7543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disturbances (palpitation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INCIDENCE OF 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CE Inhibit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group of safe and effe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as first-line agents for CH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mbined with a thiazide diuret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lcium channel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hypertensive Agents: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AS:  Renin Angiotensin-Aldoster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zyme angiotensin I is converted to angiotensin II, the result is potent vasoconstriction and stimulation of ald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vasoconstriction:  increased systemic vascular resistance and increased after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reased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tihypertensive Agents:  Mechanism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block the angiotensin-converting enzyme, thus preventing the formation of angiotensin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vent the breakdown of the vasodilating substance, bradyki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decreased systemic vascular resistance (afterload), vasodilation, and therefore, decreased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:Renin-angiotensin-aldosterone syste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ile:Renin-angiotensin system in man shado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s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CE Inhibi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opril (Capo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lf-life, must be dosed more frequent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lapril (Vasot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ACE inhibitor available in oral and parenter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inopril (Prinivil and Zestril) and quinapril (Accupr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agents, long half-lives, once-a-da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apeutic Uses: 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s progression of left ventricular hypertrophy after an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protective effects in patients with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of choice in hypertensive patients with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ndalus"/>
                <a:ea typeface="Andalus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is lecture the student we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escribe how blood pressure control norm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List causes of hyper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Give an example of drug that drugs which lower Bp through differ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iscuss nursing implication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94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de Effects: 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t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, nonproductive cough, reverses when therapy i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first-dose hypotensive effect may occu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lcium Channel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mooth muscle relaxation by blocking the binding of calcium to its receptors, preventing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decreased peripheral smooth muscle tone, decreased 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decreased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othiazep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tiazem (Cardizem, Dilac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lalkam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pamil (Calan, Isop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hydropyrid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lodipine (Norvasc), bepridil (Vascor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ardipine (Card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fedipine (Procardia), nimodipine (Nimo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, palpitations, 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, 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, flushing, peripheral edema, derm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the plasma and extracellular flui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pre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otal peripheral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ff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workload of the hear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reased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interfering SNS they certainly prevent the rise in COP, the ultimate goal of fall in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  renin relase kid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ing B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s 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ve B blo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m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el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ra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pr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d alpha, B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ta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luc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9064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relaxes arteriolar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ystemic vascular response, decreased afterload,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used to treat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zoxide (Hyper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lazine HCl (Apre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xidil (Loniten, Roga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(Nipride, Nitro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in combination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and diazoxide IV are reserved for the management of hypertensive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alaz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, headache, anxiety, tachycardia, nausea and vomiting, diarrhea, anem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, edema, nasal conges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nitroprus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cardia, hypotension, pos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id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beginning therapy, obtain a thorough health history and head-to-toe 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traindications to specific antihypertens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ditions that require cautious use of thes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patients about the importance of not missing a dose and taking the medications exactly as pr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ever double up on doses if a dose is missed; check with physician for instructions on what to do if a dose is mi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P during therapy. Instruct patient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journal of regular BP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hat these drugs should not be stopped abruptly, as this may cause a rebound hypertensive crisis, and perhaps lead to C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forms should be given with meals so that absorption is more gradual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IV forms with extreme cau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V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patients that medications is only part of therapy. Encourage  patients to watch their diet, stress level, weight, and alcohol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avoid smoking and eating foods high in so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upervise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o change positions slowly to avoid syncope from postural hypo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unusual shortness of breath; difficulty breathing; swelling of the feet, ankles, face, or around the eyes; weight gain or loss; chest pain; palpitations; or excessive fa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aking these agents may not be aware that impotence is an expected effect. This may influence compliance with dru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ients are experiencing serious side effec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elieve that the dose or medication need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anged, they should contact their physician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ubs, showers, or baths; hot weather; prolonged sitting or standing; physical exercise; and alcohol ingestion may aggravate low blood pressure, leading to fainting and injury. Patients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or lie down until symptoms sub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ot take any other medications, including OTC drugs, without first getting the approval of their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fication of Blood Pressure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628280"/>
            <a:ext cx="84582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Prim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ause unknown, 90% of the cases, Also known as essential or idiopathic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Second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s known (such as eclampsia of pregnancy, renal artery disease, pheochromocytoma) 10% of th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side/adverse eff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zziness, orthostatic hypotension, fatigu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oxic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 should be maintained at 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140/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= CO x S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 = Systemic vascula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lood pressure depend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vascular resistance (sympathe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of blood from the heart (sympathetic pulse rate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and viscosity of the blood.( ACE, 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rug can lowered blood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the systematic vesicular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C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centrally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c agents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thetic blocking ag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mpathetic blocking ag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ugs Lower the systematic vesicular resist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xazosin (Card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osin (Mini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zosin (Hytr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7:49:16Z</dcterms:created>
  <dc:creator>AHMAD RAWHI</dc:creator>
  <dc:description/>
  <dc:language>en-US</dc:language>
  <cp:lastModifiedBy>Alharbi</cp:lastModifiedBy>
  <dcterms:modified xsi:type="dcterms:W3CDTF">2016-02-29T08:25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