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DEA-AA59-4912-AE83-A8E35D5A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9A3-8F58-40E5-BBA9-2C1AE064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EDA-B550-4D90-BB44-0845E481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400-E0FC-481D-AD89-B965F8A9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E2C-88B1-4C9B-9718-AAF89E07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858-25F8-47A4-8D29-FD82C0D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D12-3184-41CB-BB06-09A4BB8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CDD-3890-435C-A0A9-887D2645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665-62E3-45C6-80F9-31EF6A7D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0FC-CEB4-4C05-A094-224E5401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0A3-673D-48DA-B2D2-64B98C0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4E6-ED72-4663-8470-C52A6C1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d3d7"/>
            </a:gs>
            <a:gs pos="100000">
              <a:srgbClr val="9ed3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852B-C8CC-49F0-B3E3-9096CDCA5E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2/Renin-angiotensin-aldosterone_system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b/Renin-angiotensin_system_in_man_shadow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ntihypertensive Ag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s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8AF6-9C39-4703-979F-5FBCC2E396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888920"/>
            <a:ext cx="7635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he alpha1-adrenergic 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vasodilation , improve the flow of urin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alpha1-adrenergic recept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hyper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AEEB-073A-4ED6-A9B8-03795C3C66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71680"/>
            <a:ext cx="7648560" cy="13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ergic Ag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f of symptoms of B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severe CHF when u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ardiac glycosides and 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7B8-7DFF-4156-B254-5EFD2B53B0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1873080"/>
            <a:ext cx="7543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w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disturbances (palpitation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INCIDENCE OF postural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6990-5913-455E-B59C-551B2E1153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CE Inhibit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group of safe and effe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as first-line agents for CH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mbined with a thiazide diuret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alcium channel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D004-993D-4672-8FD1-331EDD7E0D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ihypertensive Agents: 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AS:  Renin Angiotensin-Aldostero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nzyme angiotensin I is converted to angiotensin II, the result is potent vasoconstriction and stimulation of ald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vasoconstriction:  increased systemic vascular resistance and increased after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reased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19BD-2862-4748-A9E5-FAC609F77C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ntihypertensive Agents:  Mechanism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 block the angiotensin-converting enzyme, thus preventing the formation of angiotensin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event the breakdown of the vasodilating substance, bradyki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decreased systemic vascular resistance (afterload), vasodilation, and therefore, decreased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6063-1EB4-4A22-B002-61F32AAE23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File:Renin-angiotensin-aldosterone syste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BA1D-0040-4CC6-A82D-E4BBA00891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le:Renin-angiotensin system in man shadow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6E21-4602-429F-83FC-BFFE272D26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s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CE Inhibi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opril (Capo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alf-life, must be dosed more frequent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lapril (Vasot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ACE inhibitor available in oral and parenter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inopril (Prinivil and Zestril) and quinapril (Accupr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agents, long half-lives, once-a-da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8E37-EBBC-4CCF-B40F-0EF7DB2395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4040" y="60912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rapeutic Uses: 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s progression of left ventricular hypertrophy after an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protective effects in patients with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of choice in hypertensive patients with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7FC6-D6B6-456B-B217-17C53C0EA5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ndalus"/>
                <a:ea typeface="Andalus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t the end of this lecture the student we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escribe how blood pressure control norm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List causes of hyper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Give an example of drug that drugs which lower Bp through different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iscuss nursing implication</a:t>
            </a: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7B4-5CA8-45B0-9BF9-C0FF8398A2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694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de Effects: 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t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, nonproductive cough, reverses when therapy i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first-dose hypotensive effect may occu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AAD-5BFC-45F2-BC53-942B555141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alcium Channel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smooth muscle relaxation by blocking the binding of calcium to its receptors, preventing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decreased peripheral smooth muscle tone, decreased systemic vascula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decreased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8EB-D3DE-465F-A8B8-E5832A97E2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othiazep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tiazem (Cardizem, Dilac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ylalkam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pamil (Calan, Isop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hydropyrid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lodipine (Norvasc), bepridil (Vascor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ardipine (Card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fedipine (Procardia), nimodipine (Nimo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2DC9-F350-4AE6-99E7-9E119860D1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EF59-8616-427E-A621-30C11D5392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, palpitations, tach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, 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, flushing, peripheral edema, derm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859-BABF-496F-94D7-4C9A7DAEBE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the plasma and extracellular fluid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pre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cardiac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total peripheral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eff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workload of the hear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creased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0E3-190A-4FEC-88C6-EFCDA5352F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interfering SNS they certainly prevent the rise in COP, the ultimate goal of fall in bloo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ease  renin relase kid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ing B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96F3-E05B-4902-9543-6FF4247A0E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s 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ve B bloc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m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el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ra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pr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d alpha, B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ta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B5D-5803-4DF2-872F-CC6B059EF9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th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luc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8BE-BFED-4CE8-9CF3-53E4A6C9D5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79064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relaxes arteriolar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ystemic vascular response, decreased afterload,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A3E-270A-43AB-9BE9-CD51F0C8E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 used to treat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6AB2-A4CE-4FDF-BD3A-C8D1177B75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zoxide (Hypers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lazine HCl (Apreso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xidil (Loniten, Roga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(Nipride, Nitro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4CD-229D-4961-8D7A-05D834F42E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in combination with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and diazoxide IV are reserved for the management of hypertensive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7B8-080E-4121-B085-D81D0303FC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alaz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ziness, headache, anxiety, tachycardia, nausea and vomiting, diarrhea, anem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, edema, nasal conges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nitroprus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cardia, hypotension, pos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id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766-1676-4839-BE15-EDD74879C5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beginning therapy, obtain a thorough health history and head-to-toe physic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traindications to specific antihypertensiv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ditions that require cautious use of thes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E7F4-54DD-4533-BC68-B03BE09203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patients about the importance of not missing a dose and taking the medications exactly as pr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ever double up on doses if a dose is missed; check with physician for instructions on what to do if a dose is mi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BP during therapy. Instruct patient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journal of regular BP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1E05-39EB-4A67-8EFF-38EF7D8A68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hat these drugs should not be stopped abruptly, as this may cause a rebound hypertensive crisis, and perhaps lead to C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forms should be given with meals so that absorption is more gradual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IV forms with extreme cau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V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2DF-622C-4F0C-8C37-311EF1B784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patients that medications is only part of therapy. Encourage  patients to watch their diet, stress level, weight, and alcohol in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avoid smoking and eating foods high in so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upervised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40A-48BF-4C8B-9F53-3D2E66ABF0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o change positions slowly to avoid syncope from postural hypo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report unusual shortness of breath; difficulty breathing; swelling of the feet, ankles, face, or around the eyes; weight gain or loss; chest pain; palpitations; or excessive fa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D374-9892-496F-9070-C3EA64E226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aking these agents may not be aware that impotence is an expected effect. This may influence compliance with drug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tients are experiencing serious side effec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elieve that the dose or medication need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hanged, they should contact their physician immed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F9E6-9026-455F-ABC4-4742FD852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tubs, showers, or baths; hot weather; prolonged sitting or standing; physical exercise; and alcohol ingestion may aggravate low blood pressure, leading to fainting and injury. Patients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or lie down until symptoms sub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ot take any other medications, including OTC drugs, without first getting the approval of their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6C5-E7B9-43FC-9D85-592B24598E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lassification of Blood Pressure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28280"/>
            <a:ext cx="84582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Prim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ause unknown, 90% of the cases, Also known as essential or idiopathic 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 Second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is known (such as eclampsia of pregnancy, renal artery disease, pheochromocytoma) 10% of th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E6E-2586-4DCC-A18B-8F0CF29FE6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side/adverse eff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zziness, orthostatic hypotension, fatigu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 toxic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therapeut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 should be maintained at l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140/9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4BB-2CCE-4B1F-8332-F036583FAB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Pressure = CO x S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 = Systemic vascular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0EFA-E072-4192-B927-6D86B8207A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lood pressure depend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ic vascular resistance (sympathe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put of blood from the heart (sympathetic pulse rate incr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and viscosity of the blood.( ACE, 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E64C-FE67-40F3-84D3-26FFCA3D1E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rug can lowered blood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the systematic vesicular re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C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centrally (C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C6E-5ABA-420D-9D4A-5E8BF2F3E8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ergic agents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athetic blocking ag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2B4-7160-4B3C-A0A3-A8BDED47EE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mpathetic blocking ag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ugs Lower the systematic vesicular resist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xazosin (Card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osin (Mini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zosin (Hytr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CACA-2869-421F-8E89-D7B82AB1D9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7:49:16Z</dcterms:created>
  <dc:creator>AHMAD RAWHI</dc:creator>
  <dc:description/>
  <dc:language>en-US</dc:language>
  <cp:lastModifiedBy>Alshehri</cp:lastModifiedBy>
  <dcterms:modified xsi:type="dcterms:W3CDTF">2017-03-28T04:41:0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