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48E-6C58-4564-B9CE-9056C14F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AF5-5A1A-4463-900C-83E4C888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B7D-89E1-4D90-B5AC-DC52717D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303-901A-4C6B-B44A-286C5413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052-C991-44C4-8C07-36F19074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D8B-B5BB-485D-AE0D-DFA5D5DA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D50-7CC0-4A65-AABB-D5343962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879-4B0E-4384-A2AB-DEB75295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C77-BEFC-4A0D-A13C-8024443A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757-B48F-43FF-901A-6CBB051E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0B9-FF7A-455A-A7F5-145FF9EF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BEA-597E-424A-96D8-69A33FB1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d3d7"/>
            </a:gs>
            <a:gs pos="100000">
              <a:srgbClr val="9ed3d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F354-0B68-4B77-A253-D4A4F7427F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2/Renin-angiotensin-aldosterone_system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b/Renin-angiotensin_system_in_man_shadow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Antihypertensive Ag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s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5EB5-DB94-45DE-96BF-1FAB01748F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Mechanism of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888920"/>
            <a:ext cx="763560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energic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1 Blockers (peripherally ac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he alpha1-adrenergic rece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vasodilation , improve the flow of urin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alpha1-adrenergic recepto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hyperte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45BB-3E3C-4F2C-B760-D9674AF211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71680"/>
            <a:ext cx="7648560" cy="13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ergic Ag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pha1 blockers (peripherally ac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ef of symptoms of B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of severe CHF when us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ardiac glycosides and diur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821F-D6E9-4AD8-B770-7249E11E24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457200" y="1873080"/>
            <a:ext cx="75438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Sid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mou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ws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a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ac disturbances (palpitation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INCIDENCE OF postural HYPO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E962-27A0-400A-BE41-798867457B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ngiotensin-Converting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CE Inhibit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group of safe and effectiv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sed as first-line agents for CH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combined with a thiazide diuret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alcium channel blo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35E6-AC54-4249-B726-31B20C6775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ntihypertensive Agents: Mechanism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AS:  Renin Angiotensin-Aldostero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enzyme angiotensin I is converted to angiotensin II, the result is potent vasoconstriction and stimulation of ald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of vasoconstriction:  increased systemic vascular resistance and increased afterlo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ncreased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08F2-91DA-4987-AC27-0B68A37529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ntihypertensive Agents:  Mechanism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 Inhib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 Inhibitors block the angiotensin-converting enzyme, thus preventing the formation of angiotensin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prevent the breakdown of the vasodilating substance, bradykin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 decreased systemic vascular resistance (afterload), vasodilation, and therefore, decreased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8EFA-39EE-4991-B856-6D95A9BD64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File:Renin-angiotensin-aldosterone syste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5269-F334-4419-9B8F-1C2B45F4B3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ile:Renin-angiotensin system in man shadow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FFB0-8762-4952-9C8A-BCDAF0BBD6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0773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s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ACE Inhibi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opril (Capo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half-life, must be dosed more frequent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lapril (Vasot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ACE inhibitor available in oral and parentera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inopril (Prinivil and Zestril) and quinapril (Accupr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er agents, long half-lives, once-a-day do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7F24-8CEC-49A8-B283-7082A882B3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4040" y="60912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rapeutic Uses: AC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09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s progression of left ventricular hypertrophy after an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al protective effects in patients with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of choice in hypertensive patients with C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5D7C-D1F0-4893-8BB2-2E3A5ADC84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ndalus"/>
                <a:ea typeface="Andalus"/>
              </a:rPr>
              <a:t>Lecture objecti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t the end of this lecture the student well be abl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Describe how blood pressure control norm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List causes of hyper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Give an example of drug that drugs which lower Bp through different mech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Discuss nursing implication</a:t>
            </a: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50C0-01DA-4E63-B37A-F940401D62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694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ide Effects: ACE Inhib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ig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d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tas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y, nonproductive cough, reverses when therapy i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first-dose hypotensive effect may occur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4A03-21B6-479E-A57F-003BCCC757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alcium Channel Blo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smooth muscle relaxation by blocking the binding of calcium to its receptors, preventing 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uses decreased peripheral smooth muscle tone, decreased systemic vascular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 decreased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4990-0D2F-4797-B529-DD35ED0FE3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zothiazep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tiazem (Cardizem, Dilac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ylalkam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apamil (Calan, Isop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hydropyrid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lodipine (Norvasc), bepridil (Vascor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ardipine (Card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fedipine (Procardia), nimodipine (Nimo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DEDC-1820-4953-8275-A44DCED2AA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CB9C-8195-4BAA-8D4F-55F71045C5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ension, palpitations, tachycar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pation, naus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h, flushing, peripheral edema, dermat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690A-0D9F-4C4F-BE8E-0EAC99F6A5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iur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the plasma and extracellular fluid 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pre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cardiac 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total peripheral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effe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workload of the heart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ecreased 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BA75-25E0-4084-A169-034DECF81E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 block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interfering SNS they certainly prevent the rise in COP, the ultimate goal of fall in blood pres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rease  renin relase kid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ering B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53FD-0B93-4677-BFA7-7484414736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s B block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lective B block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eno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mo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 sel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rano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preno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nd alpha, B bloc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beta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19CE-1626-429B-8913-6D8A905CBB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de effe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th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fail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abe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lluc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D0D3-0CDD-4631-9180-5941445112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Mechanism of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790640"/>
            <a:ext cx="78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ly relaxes arteriolar smooth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systemic vascular response, decreased afterload,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HERAL VASOD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D304-77C2-4BBF-9611-92C72FB859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ntihypertensive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s used to treat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AD7B-C4D3-41F1-92A0-E7CF5EE4FF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zoxide (Hyperst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alazine HCl (Apreso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xidil (Loniten, Roga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nitroprusside (Nipride, Nitro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5190-E8B9-4A45-9439-9DC39D9B2F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used in combination with other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nitroprusside and diazoxide IV are reserved for the management of hypertensive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FE7D-177A-42E7-9A0B-A6E1B68CB3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hypertensive Agent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alaz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zziness, headache, anxiety, tachycardia, nausea and vomiting, diarrhea, anemi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spnea, edema, nasal conges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nitropruss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ycardia, hypotension, possi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ide tox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620E-D2C1-46FE-94C0-D9E2B551F3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200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beginning therapy, obtain a thorough health history and head-to-toe physical exa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200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for contraindications to specific antihypertensive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200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for conditions that require cautious use of these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33F4-3D1C-44DC-BD99-711511A02A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76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patients about the importance of not missing a dose and taking the medications exactly as prescri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never double up on doses if a dose is missed; check with physician for instructions on what to do if a dose is mi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BP during therapy. Instruct patients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 journal of regular BP che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373D-DE23-465C-A209-52664CEA26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 patients that these drugs should not be stopped abruptly, as this may cause a rebound hypertensive crisis, and perhaps lead to C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l forms should be given with meals so that absorption is more gradual and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er IV forms with extreme caution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 IV pu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C249-EE89-4D6B-B675-75EAA03A13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 patients that medications is only part of therapy. Encourage  patients to watch their diet, stress level, weight, and alcohol int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avoid smoking and eating foods high in sod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supervised exerc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0BBF-CA2C-43EE-ABFF-7A04BD955F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 patients to change positions slowly to avoid syncope from postural hypo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report unusual shortness of breath; difficulty breathing; swelling of the feet, ankles, face, or around the eyes; weight gain or loss; chest pain; palpitations; or excessive fati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009B-EFA1-431C-ABDF-2687DCEE57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taking these agents may not be aware that impotence is an expected effect. This may influence compliance with drug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atients are experiencing serious side effect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believe that the dose or medication needs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hanged, they should contact their physician immedi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938B-DD01-4F16-83FF-DA92EA49F9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tubs, showers, or baths; hot weather; prolonged sitting or standing; physical exercise; and alcohol ingestion may aggravate low blood pressure, leading to fainting and injury. Patients shoul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 or lie down until symptoms sub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not take any other medications, including OTC drugs, without first getting the approval of their physic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AC9E-3710-4B22-8F77-980A651DC0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lassification of Blood Pressure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628280"/>
            <a:ext cx="84582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 Primary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cause unknown, 90% of the cases, Also known as essential or idiopathic hyperte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 Secondary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is known (such as eclampsia of pregnancy, renal artery disease, pheochromocytoma) 10% of th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93C9-73E2-499C-B2E0-6D5E7441B3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for side/adverse effec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izziness, orthostatic hypotension, fatigue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or toxic ef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for therapeutic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ressure should be maintained at le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140/90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15E6-8621-478F-A08A-4030E722A3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Pressure = CO x SV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= Cardiac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R = Systemic vascular res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A167-9003-47CF-86BC-100BA25966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lood pressure depend 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ic vascular resistance (sympathe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put of blood from the heart (sympathetic pulse rate incre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ume and viscosity of the blood.( ACE, diure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E759-9DF2-42CF-A1B9-ACD207E0B9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rug can lowered blood pres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er the systematic vesicular resis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er C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 blood volu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 centrally (C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5F8E-8F0C-4327-9814-1A03B7D49C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ergic agents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pathetic blocking ag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iotensin-converting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ur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0956-2319-46D0-B1EB-C08FD3A2CE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mpathetic blocking ag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ugs Lower the systematic vesicular resist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renergic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ph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lo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xazosin (Card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zosin (Minip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azosin (Hytr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7821-B7F9-4018-9780-0B0F0F91DD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7:49:16Z</dcterms:created>
  <dc:creator>AHMAD RAWHI</dc:creator>
  <dc:description/>
  <dc:language>en-US</dc:language>
  <cp:lastModifiedBy>Alshehri</cp:lastModifiedBy>
  <dcterms:modified xsi:type="dcterms:W3CDTF">2017-03-28T04:41:0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