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F18AD-BB4D-4911-96EF-096C596C8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D2944-D990-4BD8-B99A-BD578EA94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9A8E3-09E3-468C-9FFF-57A2F1CF3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4F40E-9C16-494E-B82B-7EA11E9CE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59B66-9064-453F-AC16-0AAAB7264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F0787-EBA6-4FB6-943F-72126C105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D0671-008F-4E66-8F01-4F50CEE6F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41DBB-AF5D-4994-BEF2-3A37088E4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28B0E-30D6-4062-9421-DCAB498FB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7567E-7EE8-497B-8BE8-B3B8FBFF4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B6F3A-7DCD-4D5A-9F93-2303E14B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73E3C-7F8A-4693-B567-5DDBA3582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3B795-EB45-416E-909F-26722F666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6AA7-9EC0-4510-8ECF-76D679CFC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CB208-B3C2-4AB7-9FC5-7642A735F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D0209-6F1C-4907-A4F9-AC11C64CD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3D390-7F8A-4F84-865C-509587DEE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AAA89-B343-4A2C-A2A3-1070F1E2CC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96CFA-FCF3-4A83-9107-58D1C3304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D7AF3-7861-4317-A1A3-930D7F5E2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D0D93-5F46-4EF1-ACD3-0DCDABC1D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3D33D-5282-4894-9E63-11D205B24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CA643-E70B-406D-A554-5329BB22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58647-7701-498E-B15F-BB52D7130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CF4CD-7968-4943-B57E-CD7A70D59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F0C7F-94CF-4CD2-AFDB-AA12E883C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D68B6-99FE-46E0-9317-8BF0B74AD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80583-5657-4F5B-88CB-98E612B15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F60218-EB80-44BB-A569-8945DC0569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2C050A-065F-4D61-AFA1-EE91A1622A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564C4F-AB4D-4E74-BDDC-080A2492FD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48142-1A41-467F-8719-E617FE4B5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79B18-A34D-4C50-95B8-D7F6A4A24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25F79-8905-4E34-A8B3-CD1EB9321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AF0BF-CFF5-4403-A798-A1C2D76BB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A67E3-12F3-41CB-AFDC-4D4F78DCD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4E853D-C04F-4D57-8C61-52CC3B046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50185-AAEE-46D5-AC3B-3DEC30196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0A9A7-8F73-42C5-995C-02E8A3F29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B135D-A542-4411-BECE-FB2E406B5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13FA1-1A90-4AD0-85C0-A8ABBBF27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3E4FB-8009-4FB6-9EB2-B375E0C12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391B53-4427-4269-A179-1E61DC705F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A0872-8940-4ED8-BD10-A352F7672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C30D-440B-4783-BACC-264B8824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616C-585C-43BB-AA7C-0D3B8B14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E1263-EE41-4361-9673-1194288F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2116-C155-472E-84B7-F863FCDC3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6F0B-D0DB-45F6-906D-E3E45DCF726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B3D6-2772-464D-B7EB-B0F59DED38A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F60C-E61F-4A92-BD29-BC25A4A08D00}"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6F9D-AD4E-4712-BFD8-71367B7219B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nodeType="afterEffect"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270B-9A9E-423B-AC8A-CDDE53C22D1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nodeType="afterEffect"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nodeType="afterEffect"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nodeType="afterEffect"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nodeType="afterEffect"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nodeType="afterEffect"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nodeType="afterEffect"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nodeType="afterEffect"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nodeType="afterEffect"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nodeType="afterEffect"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144B-A481-44F3-B1A5-60930770B56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nodeType="afterEffect"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nodeType="afterEffect"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nodeType="afterEffect"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nodeType="afterEffect"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nodeType="afterEffect"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5-03-11T03:46:50Z</dcterms:modified>
  <cp:revision>116</cp:revision>
  <dc:subject/>
  <dc:title>Slide 1</dc:title>
</cp:coreProperties>
</file>