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823-2C62-4636-B72B-8780F907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CC0-05F1-4440-B735-5084FF0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97C-0E8A-4450-8829-EA2D7849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15D-6CE1-4029-85F3-D59317BC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A9E8-B9D6-4F09-B8D0-97342879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17F4-2A27-4628-9212-FF3BE23B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70FA-D143-42C5-B485-71C7191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68B6-527B-46E2-A86E-5135B96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7E99-8FC6-410E-9F67-E7632A8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9C2-1942-41FE-872B-B381D95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78AA-6907-496C-813F-CEE7061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62C-F749-4C54-97A3-FA00B93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E029-C58B-48C6-A645-09BD227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0FC-E346-41F2-AF34-8E282F3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80E5-AAA3-4533-A01D-2168462A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5482-7145-4890-A34E-E0C398F4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4117-8840-4F20-BFF1-EE65B0D0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CA87-163F-4A2A-A0F0-C8FB1DAC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3A4C-7E25-4CBF-BDE9-FD51923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1C91-781B-41EA-AFA0-02F9E90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145E-9E43-44A5-A79D-DCB1F685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C326-5121-4919-B2E7-45FCF2A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15D-C1C8-4B67-8805-92D4927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20B1-2E81-4F26-91AA-E8D16B8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C06E-C8F7-4640-A556-0412A13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6E9A-1FBF-453D-AA57-5A6669B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921A-70DC-4C6F-9CB1-67F5FAD8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6034-545F-42C4-8BAF-2D484BC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7763-BF98-4B83-9810-7F31FAB7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7E77-200D-4281-88D7-BFFF8C9F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FE1C-8B60-49F1-8CBD-3CA194B3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1DC7-B3E1-4945-B85D-ECB7F16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109B-62A4-4F72-8F57-DE884C5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B34-D9F6-4CC5-AD77-B953B0D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C399-7D6B-4564-9020-8848DEB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DB7E-86C3-467D-AA06-3DCCB85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3FE8-EECE-4511-B617-04AA3E86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BB80-3D96-4C99-B28C-A2414A0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6CE0-52D3-461B-82DA-8E04418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C37C-8C0A-4AAE-B49B-32EB8686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F29C2-4E10-4DF1-8A6A-607647F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91E2-9ED2-4804-8DC7-C5435B6B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E19E-3539-4428-805C-B1879202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1C9-CB8C-4C16-9001-46B63639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FF9-B81A-4DB4-82A4-E4E4958A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D7-8BF0-49F1-A17C-6587148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546-A8C4-4E8A-AE28-403F98E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6C9-772A-41A7-8BC0-D24E459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A3A-C747-4D29-9B9D-36F85D9DF28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CC9-E862-406E-B76B-2559E7790E5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16C-BC34-4B9D-8F34-7C6069E86B4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97DC-45DF-401B-9B90-4FF469E3B83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600" y="1904760"/>
            <a:ext cx="601992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ontinuity of life from one cell to another is based 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ناءاً على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reproduction of cells v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واسط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ell divis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division process occurs as part of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cell cyc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he life of a cell from its origin in the division of a parent cell until its own division into tw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(e.g. Amoeba) divide to reproduce an entire organism, increasing the population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sexual reproduc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divide to develop 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fertilized cell, grow or repair the damaged cel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6" name="Group 16"/>
          <p:cNvGrpSpPr/>
          <p:nvPr/>
        </p:nvGrpSpPr>
        <p:grpSpPr>
          <a:xfrm>
            <a:off x="5984280" y="2133720"/>
            <a:ext cx="2889360" cy="2296800"/>
            <a:chOff x="5984280" y="2133720"/>
            <a:chExt cx="2889360" cy="2296800"/>
          </a:xfrm>
        </p:grpSpPr>
        <p:pic>
          <p:nvPicPr>
            <p:cNvPr id="197" name="Picture 6" descr=""/>
            <p:cNvPicPr/>
            <p:nvPr/>
          </p:nvPicPr>
          <p:blipFill>
            <a:blip r:embed="rId1"/>
            <a:srcRect l="6727" t="5642" r="5395" b="6667"/>
            <a:stretch/>
          </p:blipFill>
          <p:spPr>
            <a:xfrm>
              <a:off x="6142320" y="2133720"/>
              <a:ext cx="273132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7"/>
            <p:cNvSpPr/>
            <p:nvPr/>
          </p:nvSpPr>
          <p:spPr>
            <a:xfrm>
              <a:off x="5984280" y="413856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Fig. 12.1, Page 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4" descr=""/>
          <p:cNvPicPr/>
          <p:nvPr/>
        </p:nvPicPr>
        <p:blipFill>
          <a:blip r:embed="rId2"/>
          <a:srcRect l="9515" t="5070" r="12732" b="7322"/>
          <a:stretch/>
        </p:blipFill>
        <p:spPr>
          <a:xfrm>
            <a:off x="6188040" y="4419720"/>
            <a:ext cx="26510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219320" y="906480"/>
            <a:ext cx="6324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6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560" y="931680"/>
            <a:ext cx="563868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3) An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meres divide, result in separating and moving of the two sister chromatids toward opposite poles on the spindle fibers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end, the two poles have equivalent collection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4) Telo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nuclei begin to form, surrounded by the nuclear membra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 becomes less tightly co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akes place.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anima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cytokinesis is first apparent by contraction between the two poles of the cell.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plants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plate grows in the approximate location of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81560" y="838080"/>
            <a:ext cx="2697480" cy="292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172200" y="3821040"/>
            <a:ext cx="26924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"/>
          <p:cNvGrpSpPr/>
          <p:nvPr/>
        </p:nvGrpSpPr>
        <p:grpSpPr>
          <a:xfrm>
            <a:off x="23760" y="1905120"/>
            <a:ext cx="9104400" cy="3809880"/>
            <a:chOff x="23760" y="1905120"/>
            <a:chExt cx="9104400" cy="3809880"/>
          </a:xfrm>
        </p:grpSpPr>
        <p:pic>
          <p:nvPicPr>
            <p:cNvPr id="268" name="Picture 4" descr=""/>
            <p:cNvPicPr/>
            <p:nvPr/>
          </p:nvPicPr>
          <p:blipFill>
            <a:blip r:embed="rId1">
              <a:lum contrast="6000"/>
            </a:blip>
            <a:srcRect l="0" t="0" r="34232" b="4360"/>
            <a:stretch/>
          </p:blipFill>
          <p:spPr>
            <a:xfrm>
              <a:off x="23760" y="1905120"/>
              <a:ext cx="38862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rcRect l="2973" t="0" r="0" b="4273"/>
            <a:stretch/>
          </p:blipFill>
          <p:spPr>
            <a:xfrm>
              <a:off x="3839760" y="1910880"/>
              <a:ext cx="5288400" cy="378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1981080" y="838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ummary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80880" y="1733400"/>
            <a:ext cx="8381880" cy="4894920"/>
            <a:chOff x="380880" y="1733400"/>
            <a:chExt cx="8381880" cy="4894920"/>
          </a:xfrm>
        </p:grpSpPr>
        <p:grpSp>
          <p:nvGrpSpPr>
            <p:cNvPr id="272" name="Group 32"/>
            <p:cNvGrpSpPr/>
            <p:nvPr/>
          </p:nvGrpSpPr>
          <p:grpSpPr>
            <a:xfrm>
              <a:off x="1436400" y="1733400"/>
              <a:ext cx="4865760" cy="990360"/>
              <a:chOff x="1436400" y="1733400"/>
              <a:chExt cx="4865760" cy="9903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3885840" y="1733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"/>
              <p:cNvSpPr/>
              <p:nvPr/>
            </p:nvSpPr>
            <p:spPr>
              <a:xfrm>
                <a:off x="1436400" y="2354040"/>
                <a:ext cx="48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"/>
              <p:cNvSpPr/>
              <p:nvPr/>
            </p:nvSpPr>
            <p:spPr>
              <a:xfrm>
                <a:off x="144756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"/>
              <p:cNvSpPr/>
              <p:nvPr/>
            </p:nvSpPr>
            <p:spPr>
              <a:xfrm>
                <a:off x="629244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1"/>
            <p:cNvSpPr/>
            <p:nvPr/>
          </p:nvSpPr>
          <p:spPr>
            <a:xfrm>
              <a:off x="761760" y="27079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609480" y="3257280"/>
              <a:ext cx="1600200" cy="914400"/>
              <a:chOff x="609480" y="3257280"/>
              <a:chExt cx="1600200" cy="914400"/>
            </a:xfrm>
          </p:grpSpPr>
          <p:sp>
            <p:nvSpPr>
              <p:cNvPr id="279" name="Line 13"/>
              <p:cNvSpPr/>
              <p:nvPr/>
            </p:nvSpPr>
            <p:spPr>
              <a:xfrm>
                <a:off x="1447920" y="3257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>
                <a:off x="609480" y="37144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>
                <a:off x="6094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6"/>
              <p:cNvSpPr/>
              <p:nvPr/>
            </p:nvSpPr>
            <p:spPr>
              <a:xfrm>
                <a:off x="144792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>
                <a:off x="22096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380880" y="4217760"/>
              <a:ext cx="2209320" cy="413280"/>
              <a:chOff x="380880" y="4217760"/>
              <a:chExt cx="2209320" cy="413280"/>
            </a:xfrm>
          </p:grpSpPr>
          <p:sp>
            <p:nvSpPr>
              <p:cNvPr id="285" name="Text Box 35"/>
              <p:cNvSpPr/>
              <p:nvPr/>
            </p:nvSpPr>
            <p:spPr>
              <a:xfrm>
                <a:off x="380880" y="42177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111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7"/>
              <p:cNvSpPr/>
              <p:nvPr/>
            </p:nvSpPr>
            <p:spPr>
              <a:xfrm>
                <a:off x="192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7"/>
            <p:cNvGrpSpPr/>
            <p:nvPr/>
          </p:nvGrpSpPr>
          <p:grpSpPr>
            <a:xfrm>
              <a:off x="2622240" y="2707920"/>
              <a:ext cx="6140520" cy="3920400"/>
              <a:chOff x="2622240" y="2707920"/>
              <a:chExt cx="6140520" cy="3920400"/>
            </a:xfrm>
          </p:grpSpPr>
          <p:grpSp>
            <p:nvGrpSpPr>
              <p:cNvPr id="289" name="Group 34"/>
              <p:cNvGrpSpPr/>
              <p:nvPr/>
            </p:nvGrpSpPr>
            <p:grpSpPr>
              <a:xfrm>
                <a:off x="3272760" y="4279680"/>
                <a:ext cx="4495680" cy="1492200"/>
                <a:chOff x="3272760" y="4279680"/>
                <a:chExt cx="4495680" cy="1492200"/>
              </a:xfrm>
            </p:grpSpPr>
            <p:sp>
              <p:nvSpPr>
                <p:cNvPr id="290" name="Line 18"/>
                <p:cNvSpPr/>
                <p:nvPr/>
              </p:nvSpPr>
              <p:spPr>
                <a:xfrm>
                  <a:off x="5482440" y="4279680"/>
                  <a:ext cx="0" cy="10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3272760" y="5314680"/>
                  <a:ext cx="449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2"/>
                <p:cNvSpPr/>
                <p:nvPr/>
              </p:nvSpPr>
              <p:spPr>
                <a:xfrm>
                  <a:off x="3272760" y="5303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3"/>
                <p:cNvSpPr/>
                <p:nvPr/>
              </p:nvSpPr>
              <p:spPr>
                <a:xfrm>
                  <a:off x="47966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"/>
                <p:cNvSpPr/>
                <p:nvPr/>
              </p:nvSpPr>
              <p:spPr>
                <a:xfrm>
                  <a:off x="632088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25"/>
                <p:cNvSpPr/>
                <p:nvPr/>
              </p:nvSpPr>
              <p:spPr>
                <a:xfrm>
                  <a:off x="77684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27"/>
              <p:cNvSpPr/>
              <p:nvPr/>
            </p:nvSpPr>
            <p:spPr>
              <a:xfrm>
                <a:off x="2622240" y="592452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Pr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9"/>
              <p:cNvSpPr/>
              <p:nvPr/>
            </p:nvSpPr>
            <p:spPr>
              <a:xfrm>
                <a:off x="404640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Met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557028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An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094520" y="592452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Tel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9"/>
              <p:cNvSpPr/>
              <p:nvPr/>
            </p:nvSpPr>
            <p:spPr>
              <a:xfrm>
                <a:off x="5213160" y="2707920"/>
                <a:ext cx="22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nstantia"/>
                  </a:rPr>
                  <a:t>Mitotic phase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44"/>
              <p:cNvGrpSpPr/>
              <p:nvPr/>
            </p:nvGrpSpPr>
            <p:grpSpPr>
              <a:xfrm>
                <a:off x="5518080" y="3180960"/>
                <a:ext cx="2514600" cy="457200"/>
                <a:chOff x="5518080" y="3180960"/>
                <a:chExt cx="2514600" cy="457200"/>
              </a:xfrm>
            </p:grpSpPr>
            <p:sp>
              <p:nvSpPr>
                <p:cNvPr id="302" name="Line 40"/>
                <p:cNvSpPr/>
                <p:nvPr/>
              </p:nvSpPr>
              <p:spPr>
                <a:xfrm>
                  <a:off x="6356160" y="31809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1"/>
                <p:cNvSpPr/>
                <p:nvPr/>
              </p:nvSpPr>
              <p:spPr>
                <a:xfrm>
                  <a:off x="5518080" y="340956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2"/>
                <p:cNvSpPr/>
                <p:nvPr/>
              </p:nvSpPr>
              <p:spPr>
                <a:xfrm>
                  <a:off x="55180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3"/>
                <p:cNvSpPr/>
                <p:nvPr/>
              </p:nvSpPr>
              <p:spPr>
                <a:xfrm>
                  <a:off x="80326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4713120" y="3622320"/>
                <a:ext cx="4049640" cy="703800"/>
                <a:chOff x="4713120" y="3622320"/>
                <a:chExt cx="4049640" cy="703800"/>
              </a:xfrm>
            </p:grpSpPr>
            <p:sp>
              <p:nvSpPr>
                <p:cNvPr id="307" name="Text Box 12"/>
                <p:cNvSpPr/>
                <p:nvPr/>
              </p:nvSpPr>
              <p:spPr>
                <a:xfrm>
                  <a:off x="4713120" y="3622320"/>
                  <a:ext cx="1600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  <a:ea typeface="Arial"/>
                    </a:rPr>
                    <a:t>kary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45"/>
                <p:cNvSpPr/>
                <p:nvPr/>
              </p:nvSpPr>
              <p:spPr>
                <a:xfrm>
                  <a:off x="7315200" y="3622320"/>
                  <a:ext cx="1447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</a:rPr>
                    <a:t>Cyt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2280" y="25401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Division differs among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2280" y="318456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kin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ver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when needed (damage repai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Nerve cells and muscle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not divid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2280" y="12794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ll division distributes the genetic material (DNA) to two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360" y="1143000"/>
            <a:ext cx="8915400" cy="76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ll division distributes identical sets of chromosomes to daughter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ell’s genetic information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nome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نك ال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ن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is packaged as DN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es, the genome is often a single long DNA molecu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ukaryotes, the genome consists of several DNA molecu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human cell must duplicate about 3 m of DNA and separate the two copies such that each daughter cell ends up with a complete gen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olecules are packaged into chromosom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man gamet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مشاج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sperm or eggs) hav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half the number in a somatic cel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ية الجسد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chromosome consists of a long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NA molecul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5960" y="990360"/>
            <a:ext cx="8915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chromosome has hundreds or thousands of ge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DNA-protein complex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a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organized into a long thin fib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DNA duplication, chroma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s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oso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duplicated chromosome consis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ster chromati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ch contai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ere the chromosoma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ands connect i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ntrom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 of the formation of the tw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ughter nuclei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si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61120" y="1905120"/>
            <a:ext cx="3706560" cy="48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988-22A4-4F7B-A680-0C99E0656A2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ell div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1- Mit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غير المباشر أو الميت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52280" y="228600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is a continuous process and occurs only in eukaryotic cell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non-sex cell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omatic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karyotic cells divide by a different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has two divisions which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nucle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follow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cytoplas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occurs in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حادي المجموعة الكروموسوم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نائ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جموعة الكروموسوم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2280" y="4952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2- Mei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اختزالي أو المي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54864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occurs only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er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ells and is restrict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takes place solely in the testes (males) and ovaries (females) to produc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 s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amet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2674080" y="2169360"/>
            <a:ext cx="442800" cy="3358440"/>
            <a:chOff x="2674080" y="2169360"/>
            <a:chExt cx="442800" cy="3358440"/>
          </a:xfrm>
        </p:grpSpPr>
        <p:sp>
          <p:nvSpPr>
            <p:cNvPr id="216" name="AutoShape 3"/>
            <p:cNvSpPr/>
            <p:nvPr/>
          </p:nvSpPr>
          <p:spPr>
            <a:xfrm rot="16485600">
              <a:off x="2057040" y="452736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1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 rot="15949200">
              <a:off x="2057040" y="286380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65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 rot="16200000">
              <a:off x="271764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3944160" y="2167200"/>
            <a:ext cx="493560" cy="3349800"/>
            <a:chOff x="3944160" y="2167200"/>
            <a:chExt cx="493560" cy="3349800"/>
          </a:xfrm>
        </p:grpSpPr>
        <p:sp>
          <p:nvSpPr>
            <p:cNvPr id="220" name="AutoShape 7"/>
            <p:cNvSpPr/>
            <p:nvPr/>
          </p:nvSpPr>
          <p:spPr>
            <a:xfrm rot="15807600">
              <a:off x="3352680" y="451440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7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"/>
            <p:cNvSpPr/>
            <p:nvPr/>
          </p:nvSpPr>
          <p:spPr>
            <a:xfrm rot="16521600">
              <a:off x="3352680" y="286344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0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 rot="16200000">
              <a:off x="389880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6483960" y="2243520"/>
            <a:ext cx="836640" cy="3360600"/>
            <a:chOff x="6483960" y="2243520"/>
            <a:chExt cx="836640" cy="3360600"/>
          </a:xfrm>
        </p:grpSpPr>
        <p:grpSp>
          <p:nvGrpSpPr>
            <p:cNvPr id="224" name="Group 11"/>
            <p:cNvGrpSpPr/>
            <p:nvPr/>
          </p:nvGrpSpPr>
          <p:grpSpPr>
            <a:xfrm>
              <a:off x="6483960" y="2245680"/>
              <a:ext cx="442800" cy="3358440"/>
              <a:chOff x="6483960" y="2245680"/>
              <a:chExt cx="442800" cy="3358440"/>
            </a:xfrm>
          </p:grpSpPr>
          <p:sp>
            <p:nvSpPr>
              <p:cNvPr id="225" name="AutoShape 12"/>
              <p:cNvSpPr/>
              <p:nvPr/>
            </p:nvSpPr>
            <p:spPr>
              <a:xfrm rot="16485600">
                <a:off x="5866920" y="460368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3"/>
              <p:cNvSpPr/>
              <p:nvPr/>
            </p:nvSpPr>
            <p:spPr>
              <a:xfrm rot="15949200">
                <a:off x="5866920" y="294012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"/>
              <p:cNvSpPr/>
              <p:nvPr/>
            </p:nvSpPr>
            <p:spPr>
              <a:xfrm rot="16200000">
                <a:off x="652752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6827040" y="2243520"/>
              <a:ext cx="493560" cy="3349800"/>
              <a:chOff x="6827040" y="2243520"/>
              <a:chExt cx="493560" cy="3349800"/>
            </a:xfrm>
          </p:grpSpPr>
          <p:sp>
            <p:nvSpPr>
              <p:cNvPr id="229" name="AutoShape 16"/>
              <p:cNvSpPr/>
              <p:nvPr/>
            </p:nvSpPr>
            <p:spPr>
              <a:xfrm rot="15807600">
                <a:off x="6235560" y="459072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 rot="16521600">
                <a:off x="6235560" y="2939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8"/>
              <p:cNvSpPr/>
              <p:nvPr/>
            </p:nvSpPr>
            <p:spPr>
              <a:xfrm rot="16200000">
                <a:off x="678168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9"/>
          <p:cNvGrpSpPr/>
          <p:nvPr/>
        </p:nvGrpSpPr>
        <p:grpSpPr>
          <a:xfrm>
            <a:off x="2057400" y="654120"/>
            <a:ext cx="1676520" cy="1600200"/>
            <a:chOff x="2057400" y="654120"/>
            <a:chExt cx="1676520" cy="1600200"/>
          </a:xfrm>
        </p:grpSpPr>
        <p:sp>
          <p:nvSpPr>
            <p:cNvPr id="233" name="Line 20"/>
            <p:cNvSpPr/>
            <p:nvPr/>
          </p:nvSpPr>
          <p:spPr>
            <a:xfrm>
              <a:off x="2819520" y="164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2057400" y="654120"/>
              <a:ext cx="1676520" cy="990360"/>
              <a:chOff x="2057400" y="654120"/>
              <a:chExt cx="1676520" cy="990360"/>
            </a:xfrm>
          </p:grpSpPr>
          <p:sp>
            <p:nvSpPr>
              <p:cNvPr id="235" name="Rectangle 22"/>
              <p:cNvSpPr/>
              <p:nvPr/>
            </p:nvSpPr>
            <p:spPr>
              <a:xfrm>
                <a:off x="2057400" y="654120"/>
                <a:ext cx="1676520" cy="99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3"/>
              <p:cNvSpPr/>
              <p:nvPr/>
            </p:nvSpPr>
            <p:spPr>
              <a:xfrm>
                <a:off x="2133720" y="6541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Constantia"/>
                  </a:rPr>
                  <a:t>Chromati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4"/>
              <p:cNvSpPr/>
              <p:nvPr/>
            </p:nvSpPr>
            <p:spPr>
              <a:xfrm>
                <a:off x="2210040" y="974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romatin + D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5"/>
              <p:cNvSpPr/>
              <p:nvPr/>
            </p:nvSpPr>
            <p:spPr>
              <a:xfrm>
                <a:off x="350532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26"/>
              <p:cNvSpPr/>
              <p:nvPr/>
            </p:nvSpPr>
            <p:spPr>
              <a:xfrm flipH="1">
                <a:off x="213300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7"/>
          <p:cNvGrpSpPr/>
          <p:nvPr/>
        </p:nvGrpSpPr>
        <p:grpSpPr>
          <a:xfrm>
            <a:off x="3352320" y="1660680"/>
            <a:ext cx="3200760" cy="745560"/>
            <a:chOff x="3352320" y="1660680"/>
            <a:chExt cx="3200760" cy="745560"/>
          </a:xfrm>
        </p:grpSpPr>
        <p:sp>
          <p:nvSpPr>
            <p:cNvPr id="241" name="Line 28"/>
            <p:cNvSpPr/>
            <p:nvPr/>
          </p:nvSpPr>
          <p:spPr>
            <a:xfrm flipH="1">
              <a:off x="3352320" y="1873080"/>
              <a:ext cx="10666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95680" y="1660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nstantia"/>
                </a:rPr>
                <a:t>Sister chromat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0"/>
          <p:cNvSpPr/>
          <p:nvPr/>
        </p:nvSpPr>
        <p:spPr>
          <a:xfrm>
            <a:off x="2057400" y="5638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Chromosome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وموسوم أو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ب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1"/>
          <p:cNvGrpSpPr/>
          <p:nvPr/>
        </p:nvGrpSpPr>
        <p:grpSpPr>
          <a:xfrm>
            <a:off x="479520" y="3610080"/>
            <a:ext cx="2340000" cy="398880"/>
            <a:chOff x="479520" y="3610080"/>
            <a:chExt cx="2340000" cy="398880"/>
          </a:xfrm>
        </p:grpSpPr>
        <p:sp>
          <p:nvSpPr>
            <p:cNvPr id="245" name="Rectangle 32"/>
            <p:cNvSpPr/>
            <p:nvPr/>
          </p:nvSpPr>
          <p:spPr>
            <a:xfrm>
              <a:off x="479520" y="3610080"/>
              <a:ext cx="162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Centrom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>
              <a:off x="2057400" y="38545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3352680" y="3352680"/>
            <a:ext cx="3124080" cy="1143000"/>
            <a:chOff x="3352680" y="3352680"/>
            <a:chExt cx="3124080" cy="1143000"/>
          </a:xfrm>
        </p:grpSpPr>
        <p:sp>
          <p:nvSpPr>
            <p:cNvPr id="248" name="Text Box 35"/>
            <p:cNvSpPr/>
            <p:nvPr/>
          </p:nvSpPr>
          <p:spPr>
            <a:xfrm>
              <a:off x="3555720" y="36320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Homologous 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3352680" y="3352680"/>
              <a:ext cx="3124080" cy="1143000"/>
            </a:xfrm>
            <a:prstGeom prst="hexagon">
              <a:avLst>
                <a:gd name="adj" fmla="val 6833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6812E-006 L -0.10834 -3.56812E-006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"/>
          <p:cNvPicPr/>
          <p:nvPr/>
        </p:nvPicPr>
        <p:blipFill>
          <a:blip r:embed="rId1"/>
          <a:srcRect l="0" t="0" r="0" b="2966"/>
          <a:stretch/>
        </p:blipFill>
        <p:spPr>
          <a:xfrm>
            <a:off x="5334120" y="2027160"/>
            <a:ext cx="3733560" cy="3078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52280" y="1692360"/>
            <a:ext cx="8686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cycle consists of two basic 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b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M)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hase include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Karyokin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نوو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سيتوبلازم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terphase accounts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cell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interphase the cell prepares for                                                              division by producing cytoplasmic                                                          organelles and copying its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ree sub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rst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 the cell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where the DNA replication oc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econd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the cell completes preparations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tic ph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)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starts the divisio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e resulting daughter cells may then repeat the cycl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762120" y="8380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mitotic cell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1620360"/>
            <a:ext cx="88394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التمهي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Met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ستو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An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فص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Telophas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طور ا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ه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5418000" y="2236680"/>
            <a:ext cx="3345120" cy="37832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152280" y="373392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ate interphase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G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, the chromosomes have been duplicat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ضاعف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ut are loosely p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somes have been duplicated and begin to organize microtubules into an aster (st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0948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it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04920" y="837720"/>
            <a:ext cx="624816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stage of mitosis begins with the shorting and thickening of the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re tightly coiled, with sister chromatids join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clear membrane fragments and the nucleolus disappear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2) Met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itotic spindle fibers begins to form and appears to push the centromere away from each other towards opposite ends (poles) of the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crotubu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om one pole attach to one 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inetochor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special regions of the centromere) while microtubules from the other pole attach to the other kinetocho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lign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893-95E9-4223-8041-41DE8B5A921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705720" y="82224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705720" y="2803680"/>
            <a:ext cx="2286000" cy="192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3"/>
          <a:stretch/>
        </p:blipFill>
        <p:spPr>
          <a:xfrm>
            <a:off x="6705720" y="478476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Dell</cp:lastModifiedBy>
  <dcterms:modified xsi:type="dcterms:W3CDTF">2015-09-30T14:09:20Z</dcterms:modified>
  <cp:revision>235</cp:revision>
  <dc:subject/>
  <dc:title>Slide 1</dc:title>
</cp:coreProperties>
</file>