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854EF-B9BD-49F0-B8B7-68EFC5800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640D0-C4A7-45DD-A5A7-B1F820415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7A664-FFD3-4790-96B0-96F41F42E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FA43B-51AA-49AA-BF36-CAA232637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C9920-1B28-4C1D-BC10-8A68A5112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8F748-DF98-48FA-B4AD-5E29A858F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20E7E-B276-4F76-8896-8E159F838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0C02C-01E8-4645-87E6-51CC5EC16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37B99-3CBB-47F8-8C8A-FF175C4F4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9E0BA-8153-4E45-9296-A53A2F59C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F7D4-2195-45CE-8BC1-E6280416A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F7AFA-8516-4FB6-95EB-3F847351E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1D969-F4F0-412C-814F-2B2340D25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A92D7-15CE-4AB3-822D-8B9EC2CFC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08F6D-26BF-422F-9523-6CCA91755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24564-BE91-4B6A-857D-7C17EAB00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4FF9C-3D16-4802-B889-617B1213F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65308-4E95-4B45-AE4C-ECD5E50E86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4320FD-A206-4141-844D-149DAC86E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891BD-8004-4D63-8A91-402FB9BBE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8E375-06D6-49DF-B36E-9BF2C5BE7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28D96-379C-4627-B176-4A233A0FC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1ECC5-E46C-4B95-840D-5EF345B6B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9F5E2-1D1E-4F46-9427-358CB1820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46D8A-5F5F-4DBB-83C6-E9B541E6B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1804E-D78C-44AE-BF98-C4D9269A7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D42C5-CF95-4282-A4A8-C712F561A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48084-847C-4992-912E-D1BD3DE49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F458B4-3345-4277-9DA2-E5BC96685D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4E87BA-F456-4B0B-9271-077B73C86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02D703-C435-4172-B8A3-0BD37691BB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9041B-F814-46C3-9ECF-C61BCDD1A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442B0-1C43-4020-AC13-80AE0A919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10E7D-1749-420D-A1FC-43CA93A0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D6A4E-9184-4DA3-9306-5B74DE696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D9E70-C0EC-41A2-991F-411360BDA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5469C-AA11-4D1F-BE6D-134B86E0B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E60FF-75FF-409C-B553-F8D7B2D12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593E7-1667-49BF-A4C7-FBFFB92B1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17C9A-7EE1-417F-BFF2-127DB004D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4CAB3-6F02-4EAE-9AF8-28923CED7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9A5972-95CA-45D0-80E5-4F1B692981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E6A1DD-F1EE-4F81-B54E-EB7EA75D39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8F06B-0DEF-4EE6-A272-25976F063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FC8EC-C524-4643-84ED-F7A827A57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3D59-3AA2-4E79-8F41-B2952ADF4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06D8-06EE-4824-BB82-BC0387AF3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48E34-3F04-445F-A080-E52CBCBC0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5171-7C0D-482D-AE78-CBB9B12CF68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8532-3F53-48D8-A389-2774C1FB0D70}"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7D06-CEFA-43FC-AADA-3E19D6908BE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F38E-4132-4DC8-9547-9E8ED6F3D2B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E7FD-CCBE-4D93-9F9F-F6EE5BDE3DA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3D70-4248-4E6D-A081-3F07FD2A57C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4-08-27T10:14:03Z</dcterms:modified>
  <cp:revision>116</cp:revision>
  <dc:subject/>
  <dc:title>Slide 1</dc:title>
</cp:coreProperties>
</file>