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5F184-25A6-49A7-A285-C434106FE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88498-A42B-455C-A4A1-F1644CABD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2C666-FDF0-47C8-AE5A-2CA5675CC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4779C-A5ED-456D-A236-08D00BE6B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674D8-9957-4B50-AA57-980C553B6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66B3D-1DAD-45BF-B05B-F1B2D643B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6A5A3-1098-4F93-9A72-FA74F0647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26B5A-5F61-49FC-BFAF-EB98A1C8D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7D272-B8B0-44D0-94BD-8AA1CDF08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EE41E-648E-47D2-B82D-8305A73E4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F7A75-3452-4074-BCA3-FEEF530FE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BD548-9B08-4331-9555-92EE358A8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962A3-6422-4479-8ECD-4F50C0D25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09309-4DDF-4B7F-9149-AB87B4832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44DB8-7023-4D04-B7B3-805145DA1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B0B1B-194C-4944-8AFB-DD4A366CD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9275B-C188-415C-A4DB-549143DA0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9CE3D2-BA30-4FEC-BD51-E937FCE901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E83F7-E4B3-43DA-B829-AA2A0457F3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986F9-7C96-415E-9A62-D1584EDD5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A6B6E-121B-491E-9AB0-EFF7777FA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1CB35-D7C9-46D9-87AC-743683BF8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C0EF5-B732-4457-B2A5-FDDE430F9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285DF-E809-44BF-AFC6-CE74BE4B4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8CB1E-50F9-47EE-B4B0-34B706DFA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004A6-7B46-4595-8EA3-B01BF27D7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E8291-C933-4E51-A55C-3C205AB19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6B301F-8335-479E-8567-D652E029B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48E42F-4375-4F36-AF4D-9D813289F2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9AFF8D-40EB-4F1D-9645-66E2F324F4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E84DBE-F7C6-4646-B542-2E1B10CC8E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6ADA10-B674-41EC-96AD-459CEE8D2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EACA3F-5F29-40A7-9D2D-92D5565589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09312-0F30-4ED6-A75A-7A76350BF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84319-0527-4EA9-8DA7-4B29161B4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49F59-26A7-400B-93F0-B3DB435D5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6B114-C79C-471F-8C2A-0F16C7D40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59DB4-7519-4F4E-BDC9-74EF249DD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348E4-2ED7-4937-A391-50DE4DA43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32233-F0A1-4120-8199-4226DFD1E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1B019-DF17-4EF2-AED4-FD5835A6B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7E6B0E-3775-449D-9C57-8FC1CC7947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D3CC86-FF74-48F1-97E8-F60DAFA433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3BB19-6180-4061-9B2F-23BF18B02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861D2-7988-442E-96C0-75FD74690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030C7-7FFB-4E3F-A2AF-26F93AE82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84D84-3C4F-4639-9C92-C854A102C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DAD3-9C2A-4BC2-A92B-7AB5DAE9B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B286-FBF8-4C9D-9285-9EAD371D9B4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EAFF-0111-40FD-98AE-28A2DF27AB3B}"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ADD4-3512-44BC-B2FA-444C7444160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10BD-A7CC-4D95-AA2D-C7B1DD08688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D004-C368-46DD-A22E-0CB0BC24D91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3648-8672-4E2C-A667-165412ED099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User</cp:lastModifiedBy>
  <dcterms:modified xsi:type="dcterms:W3CDTF">2014-08-27T10:14:03Z</dcterms:modified>
  <cp:revision>116</cp:revision>
  <dc:subject/>
  <dc:title>Slide 1</dc:title>
</cp:coreProperties>
</file>