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3CA00-D3AB-4355-9784-14232E841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E6490-2326-4C86-A5B4-3908BDD5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A0B05-C839-43F8-87B1-EF24DE3FB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5E823-6401-49E5-8EEC-21ECC95FB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06891-BE90-438E-9257-C90646C6E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5D396-6661-4C68-8692-5C2681D35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1CEEB-A79A-4AAE-BC44-EADB0BB94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91E05-A29E-4535-8726-D26039F2E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8B085-F3F4-47F0-A14D-4F6B757D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D55BD-C866-494A-9067-03CB43A89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6922D-93A0-4FFA-8A23-D4F2333F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9BA7D-30D6-4D3A-B4E3-6D3C6A06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AD192-F89A-4FDB-BDDB-F31992A12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281DF-BCCE-40E7-A3EE-9CF58382B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A3656-5699-4A81-ACB6-7EFA209FC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841C9-C26F-46CC-94CC-469B89670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C8CD1-D4A4-431D-BD26-394F11619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D16AA9-DC90-4C80-93AE-CE9288613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EAB7E-8728-4F5A-B3B4-B3A8DAD33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C8E29-831F-456C-953A-386972744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7E279-376D-4A6E-A8E0-C549F80E6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883F6-C97A-4B54-BB48-0629E7BF0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C76A-37CB-4DCA-9F79-B6DF350E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7808C-322B-4991-8A22-AE463A2DC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91DEC-FE9F-4CDD-967C-99BDC331D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0966D-737F-41DF-BE6D-BB00B4C05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8572B-2F44-4714-9FD3-F0E163365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EC835-51AA-40F6-88F0-0EBF08C5E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02BB04-1171-476D-8892-B160947FC0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3CB40-C0FF-4B3C-B418-2C5ACB7B6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271D34-635E-4130-BB9B-8AA06BE2DC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5B86B-F885-4EC6-9166-6D139656C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BDE9D-EAF9-4BF4-AE71-A3ABC5607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3810-91C5-4E46-9910-094F41E19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52828-F7B4-4785-9F39-23563898D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52E650-5CAF-46D5-99FB-F61CD21D0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470EE-491A-4ED8-80E9-B0626C6D2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D0912-C144-411E-9A76-97B813A3F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AD160-6904-4F89-BCB3-2BE36323A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A0BF8-DFA0-48DB-AA20-381591B68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7E10C-1B97-4CD8-8BDF-7CD2B66A0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6789CA-9C75-4E0E-B71A-C7FA1C498B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B1D55B-D4EA-4881-909B-3664FF08F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E069-437F-4129-AD25-6A8E7AF6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AF42-F8B2-4651-946F-74DB3C80D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CD55-E0F6-4D36-8EB2-C9E68DF1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7EF6-F78C-4ADE-A891-300B8074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1B91-0B76-414F-AF28-7CC3E2424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ED03-FDAC-41E0-8F03-10E8D54E78E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87F8-2BA2-4553-A7AF-5EF0D3D25E8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C9BC-2FBA-4512-A2CD-8DC52E6BB5D8}"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66B6-CA90-442C-A60F-585E43FDD27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B407-B0FB-476F-A7DB-1B43446E836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F6AD-50A4-4035-8AF0-5B70006AC1B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د أشرف مشالي</cp:lastModifiedBy>
  <dcterms:modified xsi:type="dcterms:W3CDTF">2013-09-01T08:15:17Z</dcterms:modified>
  <cp:revision>116</cp:revision>
  <dc:subject/>
  <dc:title>Slide 1</dc:title>
</cp:coreProperties>
</file>